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2F1-6268-4966-8E99-D6459D94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1D9-5614-4FFF-805E-19188FD3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260-B1A0-4A41-AB88-7C6FAB4E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4F3-DBD3-4A45-9392-F00A7421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2C9-0BC1-4F75-ABE1-4D548BD5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725-AB2B-4E5E-AEED-E25E8AE1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7E7-DE26-43CE-A86E-8350F38C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A46-D4D3-4C01-907F-ADA81FA1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8B3-65CC-4FDF-A906-1AC7F792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D7C-C9B5-4643-ACE8-A28697EF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48F-3D92-451F-87CD-11C4FC66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72F-6957-4BB9-9D01-CB99E207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C6AA-E9A3-4470-B1AC-85EA4AE25F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フリーフォーム 4"/>
          <p:cNvSpPr/>
          <p:nvPr/>
        </p:nvSpPr>
        <p:spPr>
          <a:xfrm>
            <a:off x="281160" y="282600"/>
            <a:ext cx="1180800" cy="100980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フリーフォーム 1"/>
          <p:cNvSpPr/>
          <p:nvPr/>
        </p:nvSpPr>
        <p:spPr>
          <a:xfrm>
            <a:off x="1608120" y="298440"/>
            <a:ext cx="1461960" cy="193212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フリーフォーム 6"/>
          <p:cNvSpPr/>
          <p:nvPr/>
        </p:nvSpPr>
        <p:spPr>
          <a:xfrm>
            <a:off x="3071880" y="677880"/>
            <a:ext cx="1542960" cy="186516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フリーフォーム 7"/>
          <p:cNvSpPr/>
          <p:nvPr/>
        </p:nvSpPr>
        <p:spPr>
          <a:xfrm>
            <a:off x="1003320" y="2806560"/>
            <a:ext cx="2838600" cy="1677960"/>
          </a:xfrm>
          <a:custGeom>
            <a:avLst/>
            <a:gdLst/>
            <a:ahLst/>
            <a:rect l="l" t="t" r="r" b="b"/>
            <a:pathLst>
              <a:path w="5243308" h="3355942">
                <a:moveTo>
                  <a:pt x="2264438" y="999241"/>
                </a:moveTo>
                <a:cubicBezTo>
                  <a:pt x="2028768" y="961534"/>
                  <a:pt x="1254198" y="760428"/>
                  <a:pt x="888124" y="678729"/>
                </a:cubicBezTo>
                <a:cubicBezTo>
                  <a:pt x="522050" y="597030"/>
                  <a:pt x="153514" y="510723"/>
                  <a:pt x="67992" y="509047"/>
                </a:cubicBezTo>
                <a:cubicBezTo>
                  <a:pt x="-17530" y="507371"/>
                  <a:pt x="-17006" y="543402"/>
                  <a:pt x="39712" y="546754"/>
                </a:cubicBezTo>
                <a:cubicBezTo>
                  <a:pt x="96430" y="550106"/>
                  <a:pt x="1048380" y="772997"/>
                  <a:pt x="1048380" y="772997"/>
                </a:cubicBezTo>
                <a:cubicBezTo>
                  <a:pt x="1412883" y="854696"/>
                  <a:pt x="2000487" y="952107"/>
                  <a:pt x="2226730" y="1036948"/>
                </a:cubicBezTo>
                <a:cubicBezTo>
                  <a:pt x="2452973" y="1121789"/>
                  <a:pt x="2455907" y="1195999"/>
                  <a:pt x="2405840" y="1282045"/>
                </a:cubicBezTo>
                <a:cubicBezTo>
                  <a:pt x="2355773" y="1368091"/>
                  <a:pt x="2228302" y="1486293"/>
                  <a:pt x="2170170" y="1583703"/>
                </a:cubicBezTo>
                <a:cubicBezTo>
                  <a:pt x="2112038" y="1681113"/>
                  <a:pt x="2096326" y="1721963"/>
                  <a:pt x="2057048" y="1866507"/>
                </a:cubicBezTo>
                <a:cubicBezTo>
                  <a:pt x="2017770" y="2011051"/>
                  <a:pt x="1891451" y="2381839"/>
                  <a:pt x="1934500" y="2450969"/>
                </a:cubicBezTo>
                <a:cubicBezTo>
                  <a:pt x="2023269" y="2454059"/>
                  <a:pt x="2072759" y="2333133"/>
                  <a:pt x="2132462" y="2281286"/>
                </a:cubicBezTo>
                <a:cubicBezTo>
                  <a:pt x="2192165" y="2229439"/>
                  <a:pt x="2236157" y="2215298"/>
                  <a:pt x="2292718" y="2139884"/>
                </a:cubicBezTo>
                <a:cubicBezTo>
                  <a:pt x="2349279" y="2064470"/>
                  <a:pt x="2424798" y="1853991"/>
                  <a:pt x="2471827" y="1828800"/>
                </a:cubicBezTo>
                <a:cubicBezTo>
                  <a:pt x="2498536" y="1869649"/>
                  <a:pt x="2416838" y="2231010"/>
                  <a:pt x="2452974" y="2384981"/>
                </a:cubicBezTo>
                <a:cubicBezTo>
                  <a:pt x="2489110" y="2538952"/>
                  <a:pt x="2619514" y="2590799"/>
                  <a:pt x="2688644" y="2752626"/>
                </a:cubicBezTo>
                <a:cubicBezTo>
                  <a:pt x="2757774" y="2914453"/>
                  <a:pt x="2826000" y="3301934"/>
                  <a:pt x="2867753" y="3355942"/>
                </a:cubicBezTo>
                <a:cubicBezTo>
                  <a:pt x="2920936" y="3316605"/>
                  <a:pt x="2930598" y="2879889"/>
                  <a:pt x="2962021" y="2733773"/>
                </a:cubicBezTo>
                <a:cubicBezTo>
                  <a:pt x="2993444" y="2587658"/>
                  <a:pt x="3061002" y="2604940"/>
                  <a:pt x="3056289" y="2479249"/>
                </a:cubicBezTo>
                <a:cubicBezTo>
                  <a:pt x="3051576" y="2353558"/>
                  <a:pt x="2900747" y="1984341"/>
                  <a:pt x="2933741" y="1979628"/>
                </a:cubicBezTo>
                <a:cubicBezTo>
                  <a:pt x="2987055" y="2025715"/>
                  <a:pt x="3104994" y="2317423"/>
                  <a:pt x="3254252" y="2450969"/>
                </a:cubicBezTo>
                <a:cubicBezTo>
                  <a:pt x="3403510" y="2584515"/>
                  <a:pt x="3691027" y="2670928"/>
                  <a:pt x="3829287" y="2780907"/>
                </a:cubicBezTo>
                <a:cubicBezTo>
                  <a:pt x="3967547" y="2890886"/>
                  <a:pt x="4035675" y="3031738"/>
                  <a:pt x="4083811" y="3110845"/>
                </a:cubicBezTo>
                <a:cubicBezTo>
                  <a:pt x="4116707" y="3048982"/>
                  <a:pt x="4112091" y="2883030"/>
                  <a:pt x="4083811" y="2752626"/>
                </a:cubicBezTo>
                <a:cubicBezTo>
                  <a:pt x="4055531" y="2622222"/>
                  <a:pt x="3987971" y="2461966"/>
                  <a:pt x="3914128" y="2328420"/>
                </a:cubicBezTo>
                <a:cubicBezTo>
                  <a:pt x="3840285" y="2194874"/>
                  <a:pt x="3725592" y="2061327"/>
                  <a:pt x="3640751" y="1951348"/>
                </a:cubicBezTo>
                <a:cubicBezTo>
                  <a:pt x="3555910" y="1841369"/>
                  <a:pt x="3388898" y="1705976"/>
                  <a:pt x="3405081" y="1668544"/>
                </a:cubicBezTo>
                <a:cubicBezTo>
                  <a:pt x="3436504" y="1665402"/>
                  <a:pt x="3621897" y="1904214"/>
                  <a:pt x="3829287" y="1932494"/>
                </a:cubicBezTo>
                <a:cubicBezTo>
                  <a:pt x="4036677" y="1960774"/>
                  <a:pt x="4413749" y="1850795"/>
                  <a:pt x="4649419" y="1838226"/>
                </a:cubicBezTo>
                <a:cubicBezTo>
                  <a:pt x="4885089" y="1825657"/>
                  <a:pt x="5135901" y="1868392"/>
                  <a:pt x="5243308" y="1857080"/>
                </a:cubicBezTo>
                <a:cubicBezTo>
                  <a:pt x="5204030" y="1784808"/>
                  <a:pt x="4616425" y="1520857"/>
                  <a:pt x="4413749" y="1404593"/>
                </a:cubicBezTo>
                <a:cubicBezTo>
                  <a:pt x="4211073" y="1288329"/>
                  <a:pt x="4182792" y="1220770"/>
                  <a:pt x="4027250" y="1159496"/>
                </a:cubicBezTo>
                <a:cubicBezTo>
                  <a:pt x="3871708" y="1098222"/>
                  <a:pt x="3546404" y="1066741"/>
                  <a:pt x="3480495" y="1036948"/>
                </a:cubicBezTo>
                <a:cubicBezTo>
                  <a:pt x="3507931" y="970960"/>
                  <a:pt x="3796294" y="936396"/>
                  <a:pt x="3951836" y="763571"/>
                </a:cubicBezTo>
                <a:cubicBezTo>
                  <a:pt x="4107378" y="590746"/>
                  <a:pt x="4398745" y="100513"/>
                  <a:pt x="4413749" y="0"/>
                </a:cubicBezTo>
                <a:cubicBezTo>
                  <a:pt x="4343028" y="17597"/>
                  <a:pt x="4066529" y="256095"/>
                  <a:pt x="3904702" y="320511"/>
                </a:cubicBezTo>
                <a:cubicBezTo>
                  <a:pt x="3742875" y="384927"/>
                  <a:pt x="3593617" y="312655"/>
                  <a:pt x="3442788" y="386498"/>
                </a:cubicBezTo>
                <a:cubicBezTo>
                  <a:pt x="3291959" y="460341"/>
                  <a:pt x="3067287" y="707854"/>
                  <a:pt x="2999728" y="763571"/>
                </a:cubicBezTo>
                <a:cubicBezTo>
                  <a:pt x="2962649" y="689747"/>
                  <a:pt x="3032723" y="598602"/>
                  <a:pt x="3037436" y="480767"/>
                </a:cubicBezTo>
                <a:cubicBezTo>
                  <a:pt x="3042149" y="362932"/>
                  <a:pt x="3062849" y="134331"/>
                  <a:pt x="3028009" y="56560"/>
                </a:cubicBezTo>
                <a:cubicBezTo>
                  <a:pt x="2949354" y="89279"/>
                  <a:pt x="2704355" y="334651"/>
                  <a:pt x="2622656" y="471340"/>
                </a:cubicBezTo>
                <a:cubicBezTo>
                  <a:pt x="2540957" y="608029"/>
                  <a:pt x="2558043" y="803124"/>
                  <a:pt x="2537815" y="876692"/>
                </a:cubicBezTo>
                <a:cubicBezTo>
                  <a:pt x="2494727" y="843580"/>
                  <a:pt x="2452974" y="741575"/>
                  <a:pt x="2386986" y="707010"/>
                </a:cubicBezTo>
                <a:cubicBezTo>
                  <a:pt x="2320998" y="672445"/>
                  <a:pt x="2199844" y="659169"/>
                  <a:pt x="2141889" y="669303"/>
                </a:cubicBezTo>
                <a:cubicBezTo>
                  <a:pt x="2158229" y="709917"/>
                  <a:pt x="2278578" y="854697"/>
                  <a:pt x="2302145" y="904973"/>
                </a:cubicBezTo>
                <a:cubicBezTo>
                  <a:pt x="2325712" y="955249"/>
                  <a:pt x="2500108" y="1036948"/>
                  <a:pt x="2264438" y="99924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フリーフォーム 8"/>
          <p:cNvSpPr/>
          <p:nvPr/>
        </p:nvSpPr>
        <p:spPr>
          <a:xfrm>
            <a:off x="22320" y="1292400"/>
            <a:ext cx="1698480" cy="164916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フリーフォーム 9"/>
          <p:cNvSpPr/>
          <p:nvPr/>
        </p:nvSpPr>
        <p:spPr>
          <a:xfrm>
            <a:off x="3195720" y="3316320"/>
            <a:ext cx="1927080" cy="207972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フリーフォーム 10"/>
          <p:cNvSpPr/>
          <p:nvPr/>
        </p:nvSpPr>
        <p:spPr>
          <a:xfrm>
            <a:off x="331920" y="3645000"/>
            <a:ext cx="1711080" cy="142056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フリーフォーム 11"/>
          <p:cNvSpPr/>
          <p:nvPr/>
        </p:nvSpPr>
        <p:spPr>
          <a:xfrm>
            <a:off x="4451400" y="4973760"/>
            <a:ext cx="1482840" cy="162864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フリーフォーム 12"/>
          <p:cNvSpPr/>
          <p:nvPr/>
        </p:nvSpPr>
        <p:spPr>
          <a:xfrm>
            <a:off x="392040" y="4565520"/>
            <a:ext cx="1812960" cy="175104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フリーフォーム 13"/>
          <p:cNvSpPr/>
          <p:nvPr/>
        </p:nvSpPr>
        <p:spPr>
          <a:xfrm>
            <a:off x="2205000" y="5024520"/>
            <a:ext cx="1490760" cy="152856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フリーフォーム 14"/>
          <p:cNvSpPr/>
          <p:nvPr/>
        </p:nvSpPr>
        <p:spPr>
          <a:xfrm>
            <a:off x="5961240" y="5283360"/>
            <a:ext cx="2184120" cy="1366560"/>
          </a:xfrm>
          <a:custGeom>
            <a:avLst/>
            <a:gdLst/>
            <a:ahLst/>
            <a:rect l="l" t="t" r="r" b="b"/>
            <a:pathLst>
              <a:path w="5820309" h="3942257">
                <a:moveTo>
                  <a:pt x="5730394" y="1531663"/>
                </a:moveTo>
                <a:cubicBezTo>
                  <a:pt x="5668164" y="1516423"/>
                  <a:pt x="5537354" y="1546903"/>
                  <a:pt x="5372254" y="1554523"/>
                </a:cubicBezTo>
                <a:cubicBezTo>
                  <a:pt x="5207154" y="1562143"/>
                  <a:pt x="4856634" y="1577383"/>
                  <a:pt x="4739794" y="1577383"/>
                </a:cubicBezTo>
                <a:cubicBezTo>
                  <a:pt x="4622954" y="1577383"/>
                  <a:pt x="4696614" y="1597703"/>
                  <a:pt x="4671214" y="1554523"/>
                </a:cubicBezTo>
                <a:cubicBezTo>
                  <a:pt x="4645814" y="1511343"/>
                  <a:pt x="4620414" y="1374183"/>
                  <a:pt x="4587394" y="1318303"/>
                </a:cubicBezTo>
                <a:cubicBezTo>
                  <a:pt x="4554374" y="1262423"/>
                  <a:pt x="4503574" y="1228133"/>
                  <a:pt x="4473094" y="1219243"/>
                </a:cubicBezTo>
                <a:cubicBezTo>
                  <a:pt x="4442614" y="1210353"/>
                  <a:pt x="4450234" y="1268773"/>
                  <a:pt x="4404514" y="1264963"/>
                </a:cubicBezTo>
                <a:cubicBezTo>
                  <a:pt x="4358794" y="1261153"/>
                  <a:pt x="4261004" y="1254803"/>
                  <a:pt x="4198774" y="1196383"/>
                </a:cubicBezTo>
                <a:cubicBezTo>
                  <a:pt x="4136544" y="1137963"/>
                  <a:pt x="4088284" y="1000803"/>
                  <a:pt x="4031134" y="914443"/>
                </a:cubicBezTo>
                <a:cubicBezTo>
                  <a:pt x="3973984" y="828083"/>
                  <a:pt x="3891434" y="673143"/>
                  <a:pt x="3855874" y="678223"/>
                </a:cubicBezTo>
                <a:cubicBezTo>
                  <a:pt x="3820314" y="683303"/>
                  <a:pt x="3825394" y="859833"/>
                  <a:pt x="3817774" y="944923"/>
                </a:cubicBezTo>
                <a:cubicBezTo>
                  <a:pt x="3810154" y="1030013"/>
                  <a:pt x="3836824" y="1164633"/>
                  <a:pt x="3810154" y="1188763"/>
                </a:cubicBezTo>
                <a:cubicBezTo>
                  <a:pt x="3783484" y="1212893"/>
                  <a:pt x="3706014" y="1168443"/>
                  <a:pt x="3657754" y="1089703"/>
                </a:cubicBezTo>
                <a:cubicBezTo>
                  <a:pt x="3609494" y="1010963"/>
                  <a:pt x="3535834" y="806493"/>
                  <a:pt x="3520594" y="716323"/>
                </a:cubicBezTo>
                <a:cubicBezTo>
                  <a:pt x="3505354" y="626153"/>
                  <a:pt x="3613304" y="607103"/>
                  <a:pt x="3566314" y="548683"/>
                </a:cubicBezTo>
                <a:cubicBezTo>
                  <a:pt x="3519324" y="490263"/>
                  <a:pt x="3305964" y="410253"/>
                  <a:pt x="3238654" y="365803"/>
                </a:cubicBezTo>
                <a:cubicBezTo>
                  <a:pt x="3171344" y="321353"/>
                  <a:pt x="3191664" y="261663"/>
                  <a:pt x="3162454" y="281983"/>
                </a:cubicBezTo>
                <a:cubicBezTo>
                  <a:pt x="3133244" y="302303"/>
                  <a:pt x="3097684" y="434383"/>
                  <a:pt x="3063394" y="487723"/>
                </a:cubicBezTo>
                <a:cubicBezTo>
                  <a:pt x="3029104" y="541063"/>
                  <a:pt x="2959254" y="556303"/>
                  <a:pt x="2956714" y="602023"/>
                </a:cubicBezTo>
                <a:cubicBezTo>
                  <a:pt x="2954174" y="647743"/>
                  <a:pt x="3037994" y="675683"/>
                  <a:pt x="3048154" y="762043"/>
                </a:cubicBezTo>
                <a:cubicBezTo>
                  <a:pt x="3058314" y="848403"/>
                  <a:pt x="3045614" y="1069383"/>
                  <a:pt x="3017674" y="1120183"/>
                </a:cubicBezTo>
                <a:cubicBezTo>
                  <a:pt x="2989734" y="1170983"/>
                  <a:pt x="2937664" y="1154473"/>
                  <a:pt x="2880514" y="1066843"/>
                </a:cubicBezTo>
                <a:cubicBezTo>
                  <a:pt x="2823364" y="979213"/>
                  <a:pt x="2712874" y="716323"/>
                  <a:pt x="2674774" y="594403"/>
                </a:cubicBezTo>
                <a:cubicBezTo>
                  <a:pt x="2636674" y="472483"/>
                  <a:pt x="2663344" y="384853"/>
                  <a:pt x="2651914" y="335323"/>
                </a:cubicBezTo>
                <a:cubicBezTo>
                  <a:pt x="2640484" y="285793"/>
                  <a:pt x="2650644" y="353103"/>
                  <a:pt x="2606194" y="297223"/>
                </a:cubicBezTo>
                <a:cubicBezTo>
                  <a:pt x="2561744" y="241343"/>
                  <a:pt x="2443634" y="-3767"/>
                  <a:pt x="2385214" y="43"/>
                </a:cubicBezTo>
                <a:cubicBezTo>
                  <a:pt x="2326794" y="3853"/>
                  <a:pt x="2322984" y="288333"/>
                  <a:pt x="2255674" y="320083"/>
                </a:cubicBezTo>
                <a:cubicBezTo>
                  <a:pt x="2188364" y="351833"/>
                  <a:pt x="2061364" y="226103"/>
                  <a:pt x="1981354" y="190543"/>
                </a:cubicBezTo>
                <a:cubicBezTo>
                  <a:pt x="1901344" y="154983"/>
                  <a:pt x="1802284" y="104183"/>
                  <a:pt x="1775614" y="106723"/>
                </a:cubicBezTo>
                <a:cubicBezTo>
                  <a:pt x="1748944" y="109263"/>
                  <a:pt x="1844194" y="188003"/>
                  <a:pt x="1821334" y="205783"/>
                </a:cubicBezTo>
                <a:cubicBezTo>
                  <a:pt x="1798474" y="223563"/>
                  <a:pt x="1717194" y="213403"/>
                  <a:pt x="1638454" y="213403"/>
                </a:cubicBezTo>
                <a:cubicBezTo>
                  <a:pt x="1559714" y="213403"/>
                  <a:pt x="1351434" y="137203"/>
                  <a:pt x="1348894" y="205783"/>
                </a:cubicBezTo>
                <a:cubicBezTo>
                  <a:pt x="1346354" y="274363"/>
                  <a:pt x="1597814" y="548683"/>
                  <a:pt x="1623214" y="624883"/>
                </a:cubicBezTo>
                <a:cubicBezTo>
                  <a:pt x="1648614" y="701083"/>
                  <a:pt x="1500024" y="622343"/>
                  <a:pt x="1501294" y="662983"/>
                </a:cubicBezTo>
                <a:cubicBezTo>
                  <a:pt x="1502564" y="703623"/>
                  <a:pt x="1582574" y="806493"/>
                  <a:pt x="1630834" y="868723"/>
                </a:cubicBezTo>
                <a:cubicBezTo>
                  <a:pt x="1679094" y="930953"/>
                  <a:pt x="1784504" y="972863"/>
                  <a:pt x="1790854" y="1036363"/>
                </a:cubicBezTo>
                <a:cubicBezTo>
                  <a:pt x="1797204" y="1099863"/>
                  <a:pt x="1789584" y="1249723"/>
                  <a:pt x="1668934" y="1249723"/>
                </a:cubicBezTo>
                <a:cubicBezTo>
                  <a:pt x="1548284" y="1249723"/>
                  <a:pt x="1191414" y="1064303"/>
                  <a:pt x="1066954" y="1036363"/>
                </a:cubicBezTo>
                <a:cubicBezTo>
                  <a:pt x="942494" y="1008423"/>
                  <a:pt x="997104" y="1092243"/>
                  <a:pt x="922174" y="1082083"/>
                </a:cubicBezTo>
                <a:cubicBezTo>
                  <a:pt x="847244" y="1071923"/>
                  <a:pt x="673254" y="980483"/>
                  <a:pt x="617374" y="975403"/>
                </a:cubicBezTo>
                <a:cubicBezTo>
                  <a:pt x="561494" y="970323"/>
                  <a:pt x="611024" y="1008423"/>
                  <a:pt x="586894" y="1051603"/>
                </a:cubicBezTo>
                <a:cubicBezTo>
                  <a:pt x="562764" y="1094783"/>
                  <a:pt x="454814" y="1143043"/>
                  <a:pt x="472594" y="1234483"/>
                </a:cubicBezTo>
                <a:cubicBezTo>
                  <a:pt x="490374" y="1325923"/>
                  <a:pt x="689764" y="1504993"/>
                  <a:pt x="693574" y="1600243"/>
                </a:cubicBezTo>
                <a:cubicBezTo>
                  <a:pt x="697384" y="1695493"/>
                  <a:pt x="571654" y="1761533"/>
                  <a:pt x="495454" y="1805983"/>
                </a:cubicBezTo>
                <a:cubicBezTo>
                  <a:pt x="419254" y="1850433"/>
                  <a:pt x="270664" y="1831383"/>
                  <a:pt x="236374" y="1866943"/>
                </a:cubicBezTo>
                <a:cubicBezTo>
                  <a:pt x="202084" y="1902503"/>
                  <a:pt x="329084" y="1957113"/>
                  <a:pt x="289714" y="2019343"/>
                </a:cubicBezTo>
                <a:cubicBezTo>
                  <a:pt x="250344" y="2081573"/>
                  <a:pt x="6504" y="2189523"/>
                  <a:pt x="154" y="2240323"/>
                </a:cubicBezTo>
                <a:cubicBezTo>
                  <a:pt x="-6196" y="2291123"/>
                  <a:pt x="184304" y="2298743"/>
                  <a:pt x="251614" y="2324143"/>
                </a:cubicBezTo>
                <a:cubicBezTo>
                  <a:pt x="318924" y="2349543"/>
                  <a:pt x="379884" y="2367323"/>
                  <a:pt x="404014" y="2392723"/>
                </a:cubicBezTo>
                <a:cubicBezTo>
                  <a:pt x="428144" y="2418123"/>
                  <a:pt x="348134" y="2476543"/>
                  <a:pt x="396394" y="2476543"/>
                </a:cubicBezTo>
                <a:cubicBezTo>
                  <a:pt x="444654" y="2476543"/>
                  <a:pt x="674524" y="2345733"/>
                  <a:pt x="693574" y="2392723"/>
                </a:cubicBezTo>
                <a:cubicBezTo>
                  <a:pt x="712624" y="2439713"/>
                  <a:pt x="605944" y="2607353"/>
                  <a:pt x="510694" y="2758483"/>
                </a:cubicBezTo>
                <a:cubicBezTo>
                  <a:pt x="415444" y="2909613"/>
                  <a:pt x="80164" y="3242353"/>
                  <a:pt x="122074" y="3299503"/>
                </a:cubicBezTo>
                <a:cubicBezTo>
                  <a:pt x="163984" y="3356653"/>
                  <a:pt x="638964" y="3095033"/>
                  <a:pt x="762154" y="3101383"/>
                </a:cubicBezTo>
                <a:cubicBezTo>
                  <a:pt x="885344" y="3107733"/>
                  <a:pt x="792634" y="3371893"/>
                  <a:pt x="861214" y="3337603"/>
                </a:cubicBezTo>
                <a:cubicBezTo>
                  <a:pt x="929794" y="3303313"/>
                  <a:pt x="1040284" y="3028993"/>
                  <a:pt x="1173634" y="2895643"/>
                </a:cubicBezTo>
                <a:cubicBezTo>
                  <a:pt x="1306984" y="2762293"/>
                  <a:pt x="1553364" y="2601003"/>
                  <a:pt x="1661314" y="2537503"/>
                </a:cubicBezTo>
                <a:cubicBezTo>
                  <a:pt x="1769264" y="2474003"/>
                  <a:pt x="1851814" y="2405423"/>
                  <a:pt x="1821334" y="2514643"/>
                </a:cubicBezTo>
                <a:cubicBezTo>
                  <a:pt x="1790854" y="2623863"/>
                  <a:pt x="1554634" y="3034073"/>
                  <a:pt x="1478434" y="3192823"/>
                </a:cubicBezTo>
                <a:cubicBezTo>
                  <a:pt x="1402234" y="3351573"/>
                  <a:pt x="1378104" y="3421423"/>
                  <a:pt x="1364134" y="3467143"/>
                </a:cubicBezTo>
                <a:cubicBezTo>
                  <a:pt x="1350164" y="3512863"/>
                  <a:pt x="1406044" y="3388403"/>
                  <a:pt x="1394614" y="3467143"/>
                </a:cubicBezTo>
                <a:cubicBezTo>
                  <a:pt x="1383184" y="3545883"/>
                  <a:pt x="1266344" y="3906563"/>
                  <a:pt x="1295554" y="3939583"/>
                </a:cubicBezTo>
                <a:cubicBezTo>
                  <a:pt x="1324764" y="3972603"/>
                  <a:pt x="1487324" y="3689393"/>
                  <a:pt x="1569874" y="3665263"/>
                </a:cubicBezTo>
                <a:cubicBezTo>
                  <a:pt x="1652424" y="3641133"/>
                  <a:pt x="1719734" y="3755433"/>
                  <a:pt x="1790854" y="3794803"/>
                </a:cubicBezTo>
                <a:cubicBezTo>
                  <a:pt x="1861974" y="3834173"/>
                  <a:pt x="1916584" y="3911643"/>
                  <a:pt x="1996594" y="3901483"/>
                </a:cubicBezTo>
                <a:cubicBezTo>
                  <a:pt x="2076604" y="3891323"/>
                  <a:pt x="2168044" y="3754163"/>
                  <a:pt x="2270914" y="3733843"/>
                </a:cubicBezTo>
                <a:cubicBezTo>
                  <a:pt x="2373784" y="3713523"/>
                  <a:pt x="2524914" y="3862113"/>
                  <a:pt x="2613814" y="3779563"/>
                </a:cubicBezTo>
                <a:cubicBezTo>
                  <a:pt x="2702714" y="3697013"/>
                  <a:pt x="2772564" y="3373163"/>
                  <a:pt x="2804314" y="3238543"/>
                </a:cubicBezTo>
                <a:cubicBezTo>
                  <a:pt x="2836064" y="3103923"/>
                  <a:pt x="2801774" y="3079793"/>
                  <a:pt x="2804314" y="2971843"/>
                </a:cubicBezTo>
                <a:cubicBezTo>
                  <a:pt x="2806854" y="2863893"/>
                  <a:pt x="2792884" y="2694983"/>
                  <a:pt x="2819554" y="2590843"/>
                </a:cubicBezTo>
                <a:cubicBezTo>
                  <a:pt x="2846224" y="2486703"/>
                  <a:pt x="2949094" y="2313983"/>
                  <a:pt x="2964334" y="2347003"/>
                </a:cubicBezTo>
                <a:cubicBezTo>
                  <a:pt x="2979574" y="2380023"/>
                  <a:pt x="2905914" y="2647993"/>
                  <a:pt x="2910994" y="2788963"/>
                </a:cubicBezTo>
                <a:cubicBezTo>
                  <a:pt x="2916074" y="2929933"/>
                  <a:pt x="2955444" y="3164883"/>
                  <a:pt x="2994814" y="3192823"/>
                </a:cubicBezTo>
                <a:cubicBezTo>
                  <a:pt x="3034184" y="3220763"/>
                  <a:pt x="3106574" y="2966763"/>
                  <a:pt x="3147214" y="2956603"/>
                </a:cubicBezTo>
                <a:cubicBezTo>
                  <a:pt x="3187854" y="2946443"/>
                  <a:pt x="3204364" y="3177583"/>
                  <a:pt x="3238654" y="3131863"/>
                </a:cubicBezTo>
                <a:cubicBezTo>
                  <a:pt x="3272944" y="3086143"/>
                  <a:pt x="3303424" y="2796583"/>
                  <a:pt x="3352954" y="2682283"/>
                </a:cubicBezTo>
                <a:cubicBezTo>
                  <a:pt x="3402484" y="2567983"/>
                  <a:pt x="3492654" y="2462573"/>
                  <a:pt x="3535834" y="2446063"/>
                </a:cubicBezTo>
                <a:cubicBezTo>
                  <a:pt x="3579014" y="2429553"/>
                  <a:pt x="3563774" y="2613703"/>
                  <a:pt x="3612034" y="2583223"/>
                </a:cubicBezTo>
                <a:cubicBezTo>
                  <a:pt x="3660294" y="2552743"/>
                  <a:pt x="3744114" y="2363513"/>
                  <a:pt x="3825394" y="2263183"/>
                </a:cubicBezTo>
                <a:cubicBezTo>
                  <a:pt x="3906674" y="2162853"/>
                  <a:pt x="4026054" y="2020613"/>
                  <a:pt x="4099714" y="1981243"/>
                </a:cubicBezTo>
                <a:cubicBezTo>
                  <a:pt x="4173374" y="1941873"/>
                  <a:pt x="4161944" y="2071413"/>
                  <a:pt x="4267354" y="2026963"/>
                </a:cubicBezTo>
                <a:cubicBezTo>
                  <a:pt x="4372764" y="1982513"/>
                  <a:pt x="4648354" y="1775503"/>
                  <a:pt x="4732174" y="1714543"/>
                </a:cubicBezTo>
                <a:cubicBezTo>
                  <a:pt x="4815994" y="1653583"/>
                  <a:pt x="4747414" y="1672633"/>
                  <a:pt x="4770274" y="1661203"/>
                </a:cubicBezTo>
                <a:cubicBezTo>
                  <a:pt x="4793134" y="1649773"/>
                  <a:pt x="4706774" y="1648503"/>
                  <a:pt x="4869334" y="1645963"/>
                </a:cubicBezTo>
                <a:cubicBezTo>
                  <a:pt x="5031894" y="1643423"/>
                  <a:pt x="5602124" y="1658663"/>
                  <a:pt x="5745634" y="1645963"/>
                </a:cubicBezTo>
                <a:cubicBezTo>
                  <a:pt x="5889144" y="1633263"/>
                  <a:pt x="5792624" y="1546903"/>
                  <a:pt x="5730394" y="1531663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フリーフォーム 15"/>
          <p:cNvSpPr/>
          <p:nvPr/>
        </p:nvSpPr>
        <p:spPr>
          <a:xfrm>
            <a:off x="7354800" y="3089160"/>
            <a:ext cx="1428840" cy="2181240"/>
          </a:xfrm>
          <a:custGeom>
            <a:avLst/>
            <a:gdLst/>
            <a:ahLst/>
            <a:rect l="l" t="t" r="r" b="b"/>
            <a:pathLst>
              <a:path w="2850241" h="4720393">
                <a:moveTo>
                  <a:pt x="967906" y="4671628"/>
                </a:moveTo>
                <a:cubicBezTo>
                  <a:pt x="967906" y="4581458"/>
                  <a:pt x="1031406" y="4262688"/>
                  <a:pt x="1051726" y="4100128"/>
                </a:cubicBezTo>
                <a:cubicBezTo>
                  <a:pt x="1072046" y="3937568"/>
                  <a:pt x="1102526" y="3775008"/>
                  <a:pt x="1089826" y="3696268"/>
                </a:cubicBezTo>
                <a:cubicBezTo>
                  <a:pt x="1077126" y="3617528"/>
                  <a:pt x="1017436" y="3630228"/>
                  <a:pt x="975526" y="3627688"/>
                </a:cubicBezTo>
                <a:cubicBezTo>
                  <a:pt x="933616" y="3625148"/>
                  <a:pt x="875196" y="3669598"/>
                  <a:pt x="838366" y="3681028"/>
                </a:cubicBezTo>
                <a:cubicBezTo>
                  <a:pt x="801536" y="3692458"/>
                  <a:pt x="796456" y="3739448"/>
                  <a:pt x="754546" y="3696268"/>
                </a:cubicBezTo>
                <a:cubicBezTo>
                  <a:pt x="712636" y="3653088"/>
                  <a:pt x="627546" y="3484178"/>
                  <a:pt x="586906" y="3421948"/>
                </a:cubicBezTo>
                <a:cubicBezTo>
                  <a:pt x="546266" y="3359718"/>
                  <a:pt x="539916" y="3344478"/>
                  <a:pt x="510706" y="3322888"/>
                </a:cubicBezTo>
                <a:cubicBezTo>
                  <a:pt x="481496" y="3301298"/>
                  <a:pt x="412916" y="3349558"/>
                  <a:pt x="411646" y="3292408"/>
                </a:cubicBezTo>
                <a:cubicBezTo>
                  <a:pt x="410376" y="3235258"/>
                  <a:pt x="505626" y="3065078"/>
                  <a:pt x="503086" y="2979988"/>
                </a:cubicBezTo>
                <a:cubicBezTo>
                  <a:pt x="500546" y="2894898"/>
                  <a:pt x="456096" y="2864418"/>
                  <a:pt x="396406" y="2781868"/>
                </a:cubicBezTo>
                <a:cubicBezTo>
                  <a:pt x="336716" y="2699318"/>
                  <a:pt x="202096" y="2587558"/>
                  <a:pt x="144946" y="2484688"/>
                </a:cubicBezTo>
                <a:cubicBezTo>
                  <a:pt x="87796" y="2381818"/>
                  <a:pt x="19216" y="2215448"/>
                  <a:pt x="53506" y="2164648"/>
                </a:cubicBezTo>
                <a:cubicBezTo>
                  <a:pt x="87796" y="2113848"/>
                  <a:pt x="274486" y="2207828"/>
                  <a:pt x="350686" y="2179888"/>
                </a:cubicBezTo>
                <a:cubicBezTo>
                  <a:pt x="426886" y="2151948"/>
                  <a:pt x="542456" y="2087178"/>
                  <a:pt x="510706" y="1997008"/>
                </a:cubicBezTo>
                <a:cubicBezTo>
                  <a:pt x="478956" y="1906838"/>
                  <a:pt x="245276" y="1739198"/>
                  <a:pt x="160186" y="1638868"/>
                </a:cubicBezTo>
                <a:cubicBezTo>
                  <a:pt x="75096" y="1538538"/>
                  <a:pt x="5246" y="1452178"/>
                  <a:pt x="166" y="1395028"/>
                </a:cubicBezTo>
                <a:cubicBezTo>
                  <a:pt x="-4914" y="1337878"/>
                  <a:pt x="108116" y="1335338"/>
                  <a:pt x="129706" y="1295968"/>
                </a:cubicBezTo>
                <a:cubicBezTo>
                  <a:pt x="151296" y="1256598"/>
                  <a:pt x="130976" y="1221038"/>
                  <a:pt x="129706" y="1158808"/>
                </a:cubicBezTo>
                <a:cubicBezTo>
                  <a:pt x="128436" y="1096578"/>
                  <a:pt x="105576" y="983548"/>
                  <a:pt x="122086" y="922588"/>
                </a:cubicBezTo>
                <a:cubicBezTo>
                  <a:pt x="138596" y="861628"/>
                  <a:pt x="157646" y="780348"/>
                  <a:pt x="228766" y="793048"/>
                </a:cubicBezTo>
                <a:cubicBezTo>
                  <a:pt x="299886" y="805748"/>
                  <a:pt x="448476" y="986088"/>
                  <a:pt x="548806" y="998788"/>
                </a:cubicBezTo>
                <a:cubicBezTo>
                  <a:pt x="649136" y="1011488"/>
                  <a:pt x="781216" y="965768"/>
                  <a:pt x="830746" y="869248"/>
                </a:cubicBezTo>
                <a:cubicBezTo>
                  <a:pt x="880276" y="772728"/>
                  <a:pt x="826936" y="514918"/>
                  <a:pt x="845986" y="419668"/>
                </a:cubicBezTo>
                <a:cubicBezTo>
                  <a:pt x="865036" y="324418"/>
                  <a:pt x="917106" y="339658"/>
                  <a:pt x="945046" y="297748"/>
                </a:cubicBezTo>
                <a:cubicBezTo>
                  <a:pt x="972986" y="255838"/>
                  <a:pt x="966636" y="168208"/>
                  <a:pt x="1013626" y="168208"/>
                </a:cubicBezTo>
                <a:cubicBezTo>
                  <a:pt x="1060616" y="168208"/>
                  <a:pt x="1160946" y="285048"/>
                  <a:pt x="1226986" y="297748"/>
                </a:cubicBezTo>
                <a:cubicBezTo>
                  <a:pt x="1293026" y="310448"/>
                  <a:pt x="1361606" y="272348"/>
                  <a:pt x="1409866" y="244408"/>
                </a:cubicBezTo>
                <a:cubicBezTo>
                  <a:pt x="1458126" y="216468"/>
                  <a:pt x="1455586" y="170748"/>
                  <a:pt x="1516546" y="130108"/>
                </a:cubicBezTo>
                <a:cubicBezTo>
                  <a:pt x="1577506" y="89468"/>
                  <a:pt x="1729906" y="-8322"/>
                  <a:pt x="1775626" y="568"/>
                </a:cubicBezTo>
                <a:cubicBezTo>
                  <a:pt x="1821346" y="9458"/>
                  <a:pt x="1776896" y="152968"/>
                  <a:pt x="1790866" y="183448"/>
                </a:cubicBezTo>
                <a:cubicBezTo>
                  <a:pt x="1804836" y="213928"/>
                  <a:pt x="1842936" y="128838"/>
                  <a:pt x="1859446" y="183448"/>
                </a:cubicBezTo>
                <a:cubicBezTo>
                  <a:pt x="1875956" y="238058"/>
                  <a:pt x="1820076" y="447608"/>
                  <a:pt x="1889926" y="511108"/>
                </a:cubicBezTo>
                <a:cubicBezTo>
                  <a:pt x="1959776" y="574608"/>
                  <a:pt x="2220126" y="528888"/>
                  <a:pt x="2278546" y="564448"/>
                </a:cubicBezTo>
                <a:cubicBezTo>
                  <a:pt x="2336966" y="600008"/>
                  <a:pt x="2248066" y="671128"/>
                  <a:pt x="2240446" y="724468"/>
                </a:cubicBezTo>
                <a:cubicBezTo>
                  <a:pt x="2232826" y="777808"/>
                  <a:pt x="2237906" y="837498"/>
                  <a:pt x="2232826" y="884488"/>
                </a:cubicBezTo>
                <a:cubicBezTo>
                  <a:pt x="2227746" y="931478"/>
                  <a:pt x="2230286" y="964498"/>
                  <a:pt x="2209966" y="1006408"/>
                </a:cubicBezTo>
                <a:cubicBezTo>
                  <a:pt x="2189646" y="1048318"/>
                  <a:pt x="2132496" y="1080068"/>
                  <a:pt x="2110906" y="1135948"/>
                </a:cubicBezTo>
                <a:cubicBezTo>
                  <a:pt x="2089316" y="1191828"/>
                  <a:pt x="2098206" y="1294698"/>
                  <a:pt x="2080426" y="1341688"/>
                </a:cubicBezTo>
                <a:cubicBezTo>
                  <a:pt x="2062646" y="1388678"/>
                  <a:pt x="2006766" y="1392488"/>
                  <a:pt x="2004226" y="1417888"/>
                </a:cubicBezTo>
                <a:cubicBezTo>
                  <a:pt x="2001686" y="1443288"/>
                  <a:pt x="1978826" y="1461068"/>
                  <a:pt x="2065186" y="1494088"/>
                </a:cubicBezTo>
                <a:cubicBezTo>
                  <a:pt x="2151546" y="1527108"/>
                  <a:pt x="2391576" y="1603308"/>
                  <a:pt x="2522386" y="1616008"/>
                </a:cubicBezTo>
                <a:cubicBezTo>
                  <a:pt x="2653196" y="1628708"/>
                  <a:pt x="2842426" y="1534728"/>
                  <a:pt x="2850046" y="1570288"/>
                </a:cubicBezTo>
                <a:cubicBezTo>
                  <a:pt x="2857666" y="1605848"/>
                  <a:pt x="2640496" y="1734118"/>
                  <a:pt x="2568106" y="1829368"/>
                </a:cubicBezTo>
                <a:cubicBezTo>
                  <a:pt x="2495716" y="1924618"/>
                  <a:pt x="2527466" y="2071938"/>
                  <a:pt x="2415706" y="2141788"/>
                </a:cubicBezTo>
                <a:cubicBezTo>
                  <a:pt x="2303946" y="2211638"/>
                  <a:pt x="1995336" y="2202748"/>
                  <a:pt x="1897546" y="2248468"/>
                </a:cubicBezTo>
                <a:cubicBezTo>
                  <a:pt x="1799756" y="2294188"/>
                  <a:pt x="1770546" y="2364038"/>
                  <a:pt x="1828966" y="2416108"/>
                </a:cubicBezTo>
                <a:cubicBezTo>
                  <a:pt x="1887386" y="2468178"/>
                  <a:pt x="2272196" y="2475798"/>
                  <a:pt x="2248066" y="2560888"/>
                </a:cubicBezTo>
                <a:cubicBezTo>
                  <a:pt x="2223936" y="2645978"/>
                  <a:pt x="1797216" y="2841558"/>
                  <a:pt x="1684186" y="2926648"/>
                </a:cubicBezTo>
                <a:cubicBezTo>
                  <a:pt x="1571156" y="3011738"/>
                  <a:pt x="1567346" y="3033328"/>
                  <a:pt x="1569886" y="3071428"/>
                </a:cubicBezTo>
                <a:cubicBezTo>
                  <a:pt x="1572426" y="3109528"/>
                  <a:pt x="1718476" y="3098098"/>
                  <a:pt x="1699426" y="3155248"/>
                </a:cubicBezTo>
                <a:cubicBezTo>
                  <a:pt x="1680376" y="3212398"/>
                  <a:pt x="1508926" y="3343208"/>
                  <a:pt x="1455586" y="3414328"/>
                </a:cubicBezTo>
                <a:cubicBezTo>
                  <a:pt x="1402246" y="3485448"/>
                  <a:pt x="1408596" y="3518468"/>
                  <a:pt x="1379386" y="3581968"/>
                </a:cubicBezTo>
                <a:cubicBezTo>
                  <a:pt x="1350176" y="3645468"/>
                  <a:pt x="1318426" y="3739448"/>
                  <a:pt x="1280326" y="3795328"/>
                </a:cubicBezTo>
                <a:cubicBezTo>
                  <a:pt x="1242226" y="3851208"/>
                  <a:pt x="1182536" y="3839778"/>
                  <a:pt x="1150786" y="3917248"/>
                </a:cubicBezTo>
                <a:cubicBezTo>
                  <a:pt x="1119036" y="3994718"/>
                  <a:pt x="1106336" y="4139498"/>
                  <a:pt x="1089826" y="4260148"/>
                </a:cubicBezTo>
                <a:cubicBezTo>
                  <a:pt x="1073316" y="4380798"/>
                  <a:pt x="1072046" y="4570028"/>
                  <a:pt x="1051726" y="4641148"/>
                </a:cubicBezTo>
                <a:cubicBezTo>
                  <a:pt x="1031406" y="4712268"/>
                  <a:pt x="967906" y="4761798"/>
                  <a:pt x="967906" y="4671628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フリーフォーム 16"/>
          <p:cNvSpPr/>
          <p:nvPr/>
        </p:nvSpPr>
        <p:spPr>
          <a:xfrm>
            <a:off x="7981920" y="4437000"/>
            <a:ext cx="1662120" cy="1629000"/>
          </a:xfrm>
          <a:custGeom>
            <a:avLst/>
            <a:gdLst/>
            <a:ahLst/>
            <a:rect l="l" t="t" r="r" b="b"/>
            <a:pathLst>
              <a:path w="1534855" h="1629107">
                <a:moveTo>
                  <a:pt x="1031649" y="13471"/>
                </a:moveTo>
                <a:cubicBezTo>
                  <a:pt x="955449" y="36331"/>
                  <a:pt x="730236" y="133698"/>
                  <a:pt x="650649" y="155711"/>
                </a:cubicBezTo>
                <a:cubicBezTo>
                  <a:pt x="571062" y="177724"/>
                  <a:pt x="596462" y="131158"/>
                  <a:pt x="554129" y="145551"/>
                </a:cubicBezTo>
                <a:cubicBezTo>
                  <a:pt x="511796" y="159944"/>
                  <a:pt x="437289" y="207358"/>
                  <a:pt x="396649" y="242071"/>
                </a:cubicBezTo>
                <a:cubicBezTo>
                  <a:pt x="356009" y="276784"/>
                  <a:pt x="363629" y="308958"/>
                  <a:pt x="310289" y="353831"/>
                </a:cubicBezTo>
                <a:cubicBezTo>
                  <a:pt x="256949" y="398704"/>
                  <a:pt x="128256" y="462204"/>
                  <a:pt x="76609" y="511311"/>
                </a:cubicBezTo>
                <a:cubicBezTo>
                  <a:pt x="24962" y="560418"/>
                  <a:pt x="-3824" y="631538"/>
                  <a:pt x="409" y="648471"/>
                </a:cubicBezTo>
                <a:cubicBezTo>
                  <a:pt x="4642" y="665404"/>
                  <a:pt x="84229" y="606984"/>
                  <a:pt x="102009" y="612911"/>
                </a:cubicBezTo>
                <a:cubicBezTo>
                  <a:pt x="119789" y="618838"/>
                  <a:pt x="76609" y="678951"/>
                  <a:pt x="107089" y="684031"/>
                </a:cubicBezTo>
                <a:cubicBezTo>
                  <a:pt x="137569" y="689111"/>
                  <a:pt x="277269" y="609524"/>
                  <a:pt x="284889" y="643391"/>
                </a:cubicBezTo>
                <a:cubicBezTo>
                  <a:pt x="292509" y="677258"/>
                  <a:pt x="186676" y="826271"/>
                  <a:pt x="152809" y="887231"/>
                </a:cubicBezTo>
                <a:cubicBezTo>
                  <a:pt x="118942" y="948191"/>
                  <a:pt x="84229" y="985444"/>
                  <a:pt x="81689" y="1009151"/>
                </a:cubicBezTo>
                <a:cubicBezTo>
                  <a:pt x="79149" y="1032858"/>
                  <a:pt x="138416" y="987984"/>
                  <a:pt x="137569" y="1029471"/>
                </a:cubicBezTo>
                <a:cubicBezTo>
                  <a:pt x="136722" y="1070958"/>
                  <a:pt x="83382" y="1207271"/>
                  <a:pt x="76609" y="1258071"/>
                </a:cubicBezTo>
                <a:cubicBezTo>
                  <a:pt x="69836" y="1308871"/>
                  <a:pt x="84229" y="1302944"/>
                  <a:pt x="96929" y="1334271"/>
                </a:cubicBezTo>
                <a:cubicBezTo>
                  <a:pt x="109629" y="1365598"/>
                  <a:pt x="116402" y="1456191"/>
                  <a:pt x="152809" y="1446031"/>
                </a:cubicBezTo>
                <a:cubicBezTo>
                  <a:pt x="189216" y="1435871"/>
                  <a:pt x="279809" y="1285164"/>
                  <a:pt x="315369" y="1273311"/>
                </a:cubicBezTo>
                <a:cubicBezTo>
                  <a:pt x="350929" y="1261458"/>
                  <a:pt x="320449" y="1401158"/>
                  <a:pt x="366169" y="1374911"/>
                </a:cubicBezTo>
                <a:cubicBezTo>
                  <a:pt x="411889" y="1348664"/>
                  <a:pt x="543122" y="1161551"/>
                  <a:pt x="589689" y="1115831"/>
                </a:cubicBezTo>
                <a:cubicBezTo>
                  <a:pt x="636256" y="1070111"/>
                  <a:pt x="637102" y="1065878"/>
                  <a:pt x="645569" y="1100591"/>
                </a:cubicBezTo>
                <a:cubicBezTo>
                  <a:pt x="654036" y="1135304"/>
                  <a:pt x="641336" y="1275004"/>
                  <a:pt x="640489" y="1324111"/>
                </a:cubicBezTo>
                <a:cubicBezTo>
                  <a:pt x="639642" y="1373218"/>
                  <a:pt x="634562" y="1386764"/>
                  <a:pt x="640489" y="1395231"/>
                </a:cubicBezTo>
                <a:cubicBezTo>
                  <a:pt x="646416" y="1403698"/>
                  <a:pt x="663349" y="1357978"/>
                  <a:pt x="676049" y="1374911"/>
                </a:cubicBezTo>
                <a:cubicBezTo>
                  <a:pt x="688749" y="1391844"/>
                  <a:pt x="697216" y="1454498"/>
                  <a:pt x="716689" y="1496831"/>
                </a:cubicBezTo>
                <a:cubicBezTo>
                  <a:pt x="736162" y="1539164"/>
                  <a:pt x="765796" y="1633991"/>
                  <a:pt x="792889" y="1628911"/>
                </a:cubicBezTo>
                <a:cubicBezTo>
                  <a:pt x="819982" y="1623831"/>
                  <a:pt x="848769" y="1481591"/>
                  <a:pt x="879249" y="1466351"/>
                </a:cubicBezTo>
                <a:cubicBezTo>
                  <a:pt x="909729" y="1451111"/>
                  <a:pt x="948676" y="1558638"/>
                  <a:pt x="975769" y="1537471"/>
                </a:cubicBezTo>
                <a:cubicBezTo>
                  <a:pt x="1002862" y="1516304"/>
                  <a:pt x="1018949" y="1361364"/>
                  <a:pt x="1041809" y="1339351"/>
                </a:cubicBezTo>
                <a:cubicBezTo>
                  <a:pt x="1064669" y="1317338"/>
                  <a:pt x="1085836" y="1446031"/>
                  <a:pt x="1112929" y="1405391"/>
                </a:cubicBezTo>
                <a:cubicBezTo>
                  <a:pt x="1140022" y="1364751"/>
                  <a:pt x="1160342" y="1141231"/>
                  <a:pt x="1204369" y="1095511"/>
                </a:cubicBezTo>
                <a:cubicBezTo>
                  <a:pt x="1248396" y="1049791"/>
                  <a:pt x="1337296" y="1155624"/>
                  <a:pt x="1377089" y="1131071"/>
                </a:cubicBezTo>
                <a:cubicBezTo>
                  <a:pt x="1416882" y="1106518"/>
                  <a:pt x="1419422" y="978671"/>
                  <a:pt x="1443129" y="948191"/>
                </a:cubicBezTo>
                <a:cubicBezTo>
                  <a:pt x="1466836" y="917711"/>
                  <a:pt x="1515942" y="973591"/>
                  <a:pt x="1519329" y="948191"/>
                </a:cubicBezTo>
                <a:cubicBezTo>
                  <a:pt x="1522716" y="922791"/>
                  <a:pt x="1460909" y="826271"/>
                  <a:pt x="1463449" y="795791"/>
                </a:cubicBezTo>
                <a:cubicBezTo>
                  <a:pt x="1465989" y="765311"/>
                  <a:pt x="1530336" y="793251"/>
                  <a:pt x="1534569" y="765311"/>
                </a:cubicBezTo>
                <a:cubicBezTo>
                  <a:pt x="1538802" y="737371"/>
                  <a:pt x="1494776" y="673024"/>
                  <a:pt x="1488849" y="628151"/>
                </a:cubicBezTo>
                <a:cubicBezTo>
                  <a:pt x="1482922" y="583278"/>
                  <a:pt x="1525256" y="553644"/>
                  <a:pt x="1499009" y="496071"/>
                </a:cubicBezTo>
                <a:cubicBezTo>
                  <a:pt x="1472762" y="438498"/>
                  <a:pt x="1383016" y="345364"/>
                  <a:pt x="1331369" y="282711"/>
                </a:cubicBezTo>
                <a:cubicBezTo>
                  <a:pt x="1279722" y="220058"/>
                  <a:pt x="1226382" y="164178"/>
                  <a:pt x="1189129" y="120151"/>
                </a:cubicBezTo>
                <a:cubicBezTo>
                  <a:pt x="1151876" y="76124"/>
                  <a:pt x="1135789" y="37178"/>
                  <a:pt x="1107849" y="18551"/>
                </a:cubicBezTo>
                <a:cubicBezTo>
                  <a:pt x="1079909" y="-76"/>
                  <a:pt x="1107849" y="-9389"/>
                  <a:pt x="1031649" y="1347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フリーフォーム 17"/>
          <p:cNvSpPr/>
          <p:nvPr/>
        </p:nvSpPr>
        <p:spPr>
          <a:xfrm>
            <a:off x="6073920" y="225360"/>
            <a:ext cx="2162160" cy="689040"/>
          </a:xfrm>
          <a:custGeom>
            <a:avLst/>
            <a:gdLst/>
            <a:ahLst/>
            <a:rect l="l" t="t" r="r" b="b"/>
            <a:pathLst>
              <a:path w="2545080" h="877808">
                <a:moveTo>
                  <a:pt x="1676400" y="393306"/>
                </a:moveTo>
                <a:cubicBezTo>
                  <a:pt x="1584325" y="327901"/>
                  <a:pt x="1445895" y="224396"/>
                  <a:pt x="1337310" y="168516"/>
                </a:cubicBezTo>
                <a:cubicBezTo>
                  <a:pt x="1228725" y="112636"/>
                  <a:pt x="1125220" y="85966"/>
                  <a:pt x="1024890" y="58026"/>
                </a:cubicBezTo>
                <a:cubicBezTo>
                  <a:pt x="924560" y="30086"/>
                  <a:pt x="850265" y="-6109"/>
                  <a:pt x="735330" y="876"/>
                </a:cubicBezTo>
                <a:cubicBezTo>
                  <a:pt x="620395" y="7861"/>
                  <a:pt x="457835" y="26276"/>
                  <a:pt x="335280" y="99936"/>
                </a:cubicBezTo>
                <a:cubicBezTo>
                  <a:pt x="212725" y="173596"/>
                  <a:pt x="34290" y="361556"/>
                  <a:pt x="0" y="442836"/>
                </a:cubicBezTo>
                <a:cubicBezTo>
                  <a:pt x="30480" y="527926"/>
                  <a:pt x="64770" y="527926"/>
                  <a:pt x="129540" y="587616"/>
                </a:cubicBezTo>
                <a:cubicBezTo>
                  <a:pt x="194310" y="647306"/>
                  <a:pt x="281940" y="752716"/>
                  <a:pt x="388620" y="800976"/>
                </a:cubicBezTo>
                <a:cubicBezTo>
                  <a:pt x="495300" y="849236"/>
                  <a:pt x="615950" y="882891"/>
                  <a:pt x="769620" y="877176"/>
                </a:cubicBezTo>
                <a:cubicBezTo>
                  <a:pt x="923290" y="871461"/>
                  <a:pt x="1159510" y="835901"/>
                  <a:pt x="1310640" y="766686"/>
                </a:cubicBezTo>
                <a:cubicBezTo>
                  <a:pt x="1461770" y="697471"/>
                  <a:pt x="1564640" y="499351"/>
                  <a:pt x="1676400" y="461886"/>
                </a:cubicBezTo>
                <a:cubicBezTo>
                  <a:pt x="1788160" y="424421"/>
                  <a:pt x="1893570" y="497446"/>
                  <a:pt x="2004060" y="530466"/>
                </a:cubicBezTo>
                <a:cubicBezTo>
                  <a:pt x="2114550" y="563486"/>
                  <a:pt x="2258060" y="626986"/>
                  <a:pt x="2339340" y="660006"/>
                </a:cubicBezTo>
                <a:cubicBezTo>
                  <a:pt x="2420620" y="693026"/>
                  <a:pt x="2457450" y="730491"/>
                  <a:pt x="2491740" y="728586"/>
                </a:cubicBezTo>
                <a:cubicBezTo>
                  <a:pt x="2526030" y="726681"/>
                  <a:pt x="2545080" y="669531"/>
                  <a:pt x="2545080" y="648576"/>
                </a:cubicBezTo>
                <a:cubicBezTo>
                  <a:pt x="2545080" y="627621"/>
                  <a:pt x="2508250" y="605396"/>
                  <a:pt x="2491740" y="602856"/>
                </a:cubicBezTo>
                <a:cubicBezTo>
                  <a:pt x="2475230" y="600316"/>
                  <a:pt x="2527300" y="655561"/>
                  <a:pt x="2446020" y="633336"/>
                </a:cubicBezTo>
                <a:cubicBezTo>
                  <a:pt x="2364740" y="611111"/>
                  <a:pt x="2132330" y="509511"/>
                  <a:pt x="2004060" y="469506"/>
                </a:cubicBezTo>
                <a:cubicBezTo>
                  <a:pt x="1875790" y="429501"/>
                  <a:pt x="1753235" y="393941"/>
                  <a:pt x="1676400" y="39330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フリーフォーム 18"/>
          <p:cNvSpPr/>
          <p:nvPr/>
        </p:nvSpPr>
        <p:spPr>
          <a:xfrm>
            <a:off x="6540480" y="1344600"/>
            <a:ext cx="1441440" cy="855720"/>
          </a:xfrm>
          <a:custGeom>
            <a:avLst/>
            <a:gdLst/>
            <a:ahLst/>
            <a:rect l="l" t="t" r="r" b="b"/>
            <a:pathLst>
              <a:path w="1694411" h="1090756">
                <a:moveTo>
                  <a:pt x="1683236" y="1044886"/>
                </a:moveTo>
                <a:cubicBezTo>
                  <a:pt x="1653603" y="1016099"/>
                  <a:pt x="1529143" y="960219"/>
                  <a:pt x="1485116" y="917886"/>
                </a:cubicBezTo>
                <a:cubicBezTo>
                  <a:pt x="1441089" y="875553"/>
                  <a:pt x="1458023" y="869626"/>
                  <a:pt x="1419076" y="790886"/>
                </a:cubicBezTo>
                <a:cubicBezTo>
                  <a:pt x="1380129" y="712146"/>
                  <a:pt x="1335256" y="555513"/>
                  <a:pt x="1251436" y="445446"/>
                </a:cubicBezTo>
                <a:cubicBezTo>
                  <a:pt x="1167616" y="335379"/>
                  <a:pt x="1045696" y="204146"/>
                  <a:pt x="916156" y="130486"/>
                </a:cubicBezTo>
                <a:cubicBezTo>
                  <a:pt x="786616" y="56826"/>
                  <a:pt x="610509" y="18726"/>
                  <a:pt x="474196" y="3486"/>
                </a:cubicBezTo>
                <a:cubicBezTo>
                  <a:pt x="337883" y="-11754"/>
                  <a:pt x="177016" y="27193"/>
                  <a:pt x="98276" y="39046"/>
                </a:cubicBezTo>
                <a:cubicBezTo>
                  <a:pt x="19536" y="50899"/>
                  <a:pt x="-7557" y="5179"/>
                  <a:pt x="1756" y="74606"/>
                </a:cubicBezTo>
                <a:cubicBezTo>
                  <a:pt x="11069" y="144033"/>
                  <a:pt x="65256" y="335379"/>
                  <a:pt x="154156" y="455606"/>
                </a:cubicBezTo>
                <a:cubicBezTo>
                  <a:pt x="243056" y="575833"/>
                  <a:pt x="420856" y="718073"/>
                  <a:pt x="535156" y="795966"/>
                </a:cubicBezTo>
                <a:cubicBezTo>
                  <a:pt x="649456" y="873859"/>
                  <a:pt x="775609" y="895026"/>
                  <a:pt x="839956" y="922966"/>
                </a:cubicBezTo>
                <a:cubicBezTo>
                  <a:pt x="904303" y="950906"/>
                  <a:pt x="905996" y="949213"/>
                  <a:pt x="921236" y="963606"/>
                </a:cubicBezTo>
                <a:cubicBezTo>
                  <a:pt x="936476" y="977999"/>
                  <a:pt x="885676" y="1007633"/>
                  <a:pt x="931396" y="1009326"/>
                </a:cubicBezTo>
                <a:cubicBezTo>
                  <a:pt x="977116" y="1011019"/>
                  <a:pt x="1110043" y="979693"/>
                  <a:pt x="1195556" y="973766"/>
                </a:cubicBezTo>
                <a:cubicBezTo>
                  <a:pt x="1281069" y="967839"/>
                  <a:pt x="1374203" y="959373"/>
                  <a:pt x="1444476" y="973766"/>
                </a:cubicBezTo>
                <a:cubicBezTo>
                  <a:pt x="1514749" y="988159"/>
                  <a:pt x="1580789" y="1040653"/>
                  <a:pt x="1617196" y="1060126"/>
                </a:cubicBezTo>
                <a:cubicBezTo>
                  <a:pt x="1653603" y="1079599"/>
                  <a:pt x="1650216" y="1092299"/>
                  <a:pt x="1662916" y="1090606"/>
                </a:cubicBezTo>
                <a:cubicBezTo>
                  <a:pt x="1675616" y="1088913"/>
                  <a:pt x="1712869" y="1073673"/>
                  <a:pt x="1683236" y="104488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フリーフォーム 19"/>
          <p:cNvSpPr/>
          <p:nvPr/>
        </p:nvSpPr>
        <p:spPr>
          <a:xfrm>
            <a:off x="5027760" y="1096920"/>
            <a:ext cx="1535040" cy="812880"/>
          </a:xfrm>
          <a:custGeom>
            <a:avLst/>
            <a:gdLst/>
            <a:ahLst/>
            <a:rect l="l" t="t" r="r" b="b"/>
            <a:pathLst>
              <a:path w="1806556" h="1036125">
                <a:moveTo>
                  <a:pt x="1704812" y="19567"/>
                </a:moveTo>
                <a:cubicBezTo>
                  <a:pt x="1650625" y="39887"/>
                  <a:pt x="1562572" y="110160"/>
                  <a:pt x="1471132" y="126247"/>
                </a:cubicBezTo>
                <a:cubicBezTo>
                  <a:pt x="1379692" y="142334"/>
                  <a:pt x="1298412" y="98307"/>
                  <a:pt x="1156172" y="116087"/>
                </a:cubicBezTo>
                <a:cubicBezTo>
                  <a:pt x="1013932" y="133867"/>
                  <a:pt x="765012" y="178740"/>
                  <a:pt x="617692" y="232927"/>
                </a:cubicBezTo>
                <a:cubicBezTo>
                  <a:pt x="470372" y="287114"/>
                  <a:pt x="316279" y="397180"/>
                  <a:pt x="272252" y="441207"/>
                </a:cubicBezTo>
                <a:cubicBezTo>
                  <a:pt x="228225" y="485234"/>
                  <a:pt x="335752" y="469994"/>
                  <a:pt x="353532" y="497087"/>
                </a:cubicBezTo>
                <a:cubicBezTo>
                  <a:pt x="371312" y="524180"/>
                  <a:pt x="394172" y="578367"/>
                  <a:pt x="378932" y="603767"/>
                </a:cubicBezTo>
                <a:cubicBezTo>
                  <a:pt x="363692" y="629167"/>
                  <a:pt x="289185" y="658800"/>
                  <a:pt x="262092" y="649487"/>
                </a:cubicBezTo>
                <a:cubicBezTo>
                  <a:pt x="234999" y="640174"/>
                  <a:pt x="237539" y="541960"/>
                  <a:pt x="216372" y="547887"/>
                </a:cubicBezTo>
                <a:cubicBezTo>
                  <a:pt x="195205" y="553814"/>
                  <a:pt x="158799" y="635940"/>
                  <a:pt x="135092" y="685047"/>
                </a:cubicBezTo>
                <a:cubicBezTo>
                  <a:pt x="111385" y="734154"/>
                  <a:pt x="94452" y="800194"/>
                  <a:pt x="74132" y="842527"/>
                </a:cubicBezTo>
                <a:cubicBezTo>
                  <a:pt x="53812" y="884860"/>
                  <a:pt x="-32548" y="911954"/>
                  <a:pt x="13172" y="939047"/>
                </a:cubicBezTo>
                <a:cubicBezTo>
                  <a:pt x="58892" y="966140"/>
                  <a:pt x="240079" y="990694"/>
                  <a:pt x="348452" y="1005087"/>
                </a:cubicBezTo>
                <a:cubicBezTo>
                  <a:pt x="456825" y="1019480"/>
                  <a:pt x="537259" y="1053347"/>
                  <a:pt x="663412" y="1025407"/>
                </a:cubicBezTo>
                <a:cubicBezTo>
                  <a:pt x="789565" y="997467"/>
                  <a:pt x="992765" y="909414"/>
                  <a:pt x="1105372" y="837447"/>
                </a:cubicBezTo>
                <a:cubicBezTo>
                  <a:pt x="1217979" y="765480"/>
                  <a:pt x="1267085" y="677427"/>
                  <a:pt x="1339052" y="593607"/>
                </a:cubicBezTo>
                <a:cubicBezTo>
                  <a:pt x="1411019" y="509787"/>
                  <a:pt x="1495685" y="409880"/>
                  <a:pt x="1537172" y="334527"/>
                </a:cubicBezTo>
                <a:cubicBezTo>
                  <a:pt x="1578659" y="259174"/>
                  <a:pt x="1547332" y="185514"/>
                  <a:pt x="1587972" y="141487"/>
                </a:cubicBezTo>
                <a:cubicBezTo>
                  <a:pt x="1628612" y="97460"/>
                  <a:pt x="1746299" y="93227"/>
                  <a:pt x="1781012" y="70367"/>
                </a:cubicBezTo>
                <a:cubicBezTo>
                  <a:pt x="1815725" y="47507"/>
                  <a:pt x="1808952" y="12794"/>
                  <a:pt x="1796252" y="4327"/>
                </a:cubicBezTo>
                <a:cubicBezTo>
                  <a:pt x="1783552" y="-4140"/>
                  <a:pt x="1758999" y="-753"/>
                  <a:pt x="1704812" y="19567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フリーフォーム 20"/>
          <p:cNvSpPr/>
          <p:nvPr/>
        </p:nvSpPr>
        <p:spPr>
          <a:xfrm>
            <a:off x="8327880" y="225360"/>
            <a:ext cx="1425600" cy="1123920"/>
          </a:xfrm>
          <a:custGeom>
            <a:avLst/>
            <a:gdLst/>
            <a:ahLst/>
            <a:rect l="l" t="t" r="r" b="b"/>
            <a:pathLst>
              <a:path w="1677372" h="1433876">
                <a:moveTo>
                  <a:pt x="1187910" y="1227"/>
                </a:moveTo>
                <a:cubicBezTo>
                  <a:pt x="1120177" y="4614"/>
                  <a:pt x="961850" y="11387"/>
                  <a:pt x="857710" y="52027"/>
                </a:cubicBezTo>
                <a:cubicBezTo>
                  <a:pt x="753570" y="92667"/>
                  <a:pt x="663823" y="184954"/>
                  <a:pt x="563070" y="245067"/>
                </a:cubicBezTo>
                <a:cubicBezTo>
                  <a:pt x="462317" y="305180"/>
                  <a:pt x="318383" y="312800"/>
                  <a:pt x="253190" y="412707"/>
                </a:cubicBezTo>
                <a:cubicBezTo>
                  <a:pt x="187997" y="512614"/>
                  <a:pt x="198157" y="731054"/>
                  <a:pt x="171910" y="844507"/>
                </a:cubicBezTo>
                <a:cubicBezTo>
                  <a:pt x="145663" y="957960"/>
                  <a:pt x="108410" y="1021460"/>
                  <a:pt x="95710" y="1093427"/>
                </a:cubicBezTo>
                <a:cubicBezTo>
                  <a:pt x="83010" y="1165394"/>
                  <a:pt x="110103" y="1219580"/>
                  <a:pt x="95710" y="1276307"/>
                </a:cubicBezTo>
                <a:cubicBezTo>
                  <a:pt x="81317" y="1333034"/>
                  <a:pt x="-32983" y="1430400"/>
                  <a:pt x="9350" y="1433787"/>
                </a:cubicBezTo>
                <a:cubicBezTo>
                  <a:pt x="51683" y="1437174"/>
                  <a:pt x="226097" y="1344040"/>
                  <a:pt x="349710" y="1296627"/>
                </a:cubicBezTo>
                <a:cubicBezTo>
                  <a:pt x="473323" y="1249214"/>
                  <a:pt x="644350" y="1193334"/>
                  <a:pt x="751030" y="1149307"/>
                </a:cubicBezTo>
                <a:cubicBezTo>
                  <a:pt x="857710" y="1105280"/>
                  <a:pt x="891577" y="1066334"/>
                  <a:pt x="989790" y="1032467"/>
                </a:cubicBezTo>
                <a:cubicBezTo>
                  <a:pt x="1088003" y="998600"/>
                  <a:pt x="1244637" y="1001987"/>
                  <a:pt x="1340310" y="946107"/>
                </a:cubicBezTo>
                <a:cubicBezTo>
                  <a:pt x="1435983" y="890227"/>
                  <a:pt x="1508797" y="786087"/>
                  <a:pt x="1563830" y="697187"/>
                </a:cubicBezTo>
                <a:cubicBezTo>
                  <a:pt x="1618863" y="608287"/>
                  <a:pt x="1701837" y="477900"/>
                  <a:pt x="1670510" y="412707"/>
                </a:cubicBezTo>
                <a:cubicBezTo>
                  <a:pt x="1639183" y="347514"/>
                  <a:pt x="1432597" y="342434"/>
                  <a:pt x="1375870" y="306027"/>
                </a:cubicBezTo>
                <a:cubicBezTo>
                  <a:pt x="1319143" y="269620"/>
                  <a:pt x="1330150" y="194267"/>
                  <a:pt x="1330150" y="194267"/>
                </a:cubicBezTo>
                <a:cubicBezTo>
                  <a:pt x="1311523" y="148547"/>
                  <a:pt x="1289510" y="63880"/>
                  <a:pt x="1264110" y="31707"/>
                </a:cubicBezTo>
                <a:cubicBezTo>
                  <a:pt x="1238710" y="-466"/>
                  <a:pt x="1255643" y="-2160"/>
                  <a:pt x="1187910" y="1227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フリーフォーム 21"/>
          <p:cNvSpPr/>
          <p:nvPr/>
        </p:nvSpPr>
        <p:spPr>
          <a:xfrm>
            <a:off x="8089920" y="1434960"/>
            <a:ext cx="1127160" cy="897120"/>
          </a:xfrm>
          <a:custGeom>
            <a:avLst/>
            <a:gdLst/>
            <a:ahLst/>
            <a:rect l="l" t="t" r="r" b="b"/>
            <a:pathLst>
              <a:path w="899166" h="776412">
                <a:moveTo>
                  <a:pt x="4962" y="734736"/>
                </a:moveTo>
                <a:cubicBezTo>
                  <a:pt x="19779" y="717062"/>
                  <a:pt x="95132" y="689016"/>
                  <a:pt x="123707" y="669331"/>
                </a:cubicBezTo>
                <a:cubicBezTo>
                  <a:pt x="116087" y="617261"/>
                  <a:pt x="86877" y="564662"/>
                  <a:pt x="90687" y="475656"/>
                </a:cubicBezTo>
                <a:cubicBezTo>
                  <a:pt x="94497" y="386650"/>
                  <a:pt x="102540" y="214036"/>
                  <a:pt x="146567" y="135296"/>
                </a:cubicBezTo>
                <a:cubicBezTo>
                  <a:pt x="190594" y="56556"/>
                  <a:pt x="249014" y="17609"/>
                  <a:pt x="354847" y="3216"/>
                </a:cubicBezTo>
                <a:cubicBezTo>
                  <a:pt x="460680" y="-11177"/>
                  <a:pt x="695207" y="26076"/>
                  <a:pt x="781567" y="48936"/>
                </a:cubicBezTo>
                <a:cubicBezTo>
                  <a:pt x="867927" y="71796"/>
                  <a:pt x="853534" y="108203"/>
                  <a:pt x="873007" y="140376"/>
                </a:cubicBezTo>
                <a:cubicBezTo>
                  <a:pt x="892480" y="172549"/>
                  <a:pt x="898407" y="175089"/>
                  <a:pt x="898407" y="241976"/>
                </a:cubicBezTo>
                <a:cubicBezTo>
                  <a:pt x="898407" y="308863"/>
                  <a:pt x="906027" y="466343"/>
                  <a:pt x="873007" y="541696"/>
                </a:cubicBezTo>
                <a:cubicBezTo>
                  <a:pt x="839987" y="617049"/>
                  <a:pt x="764634" y="657689"/>
                  <a:pt x="700287" y="694096"/>
                </a:cubicBezTo>
                <a:cubicBezTo>
                  <a:pt x="635940" y="730503"/>
                  <a:pt x="568207" y="758443"/>
                  <a:pt x="486927" y="760136"/>
                </a:cubicBezTo>
                <a:cubicBezTo>
                  <a:pt x="405647" y="761829"/>
                  <a:pt x="269122" y="715474"/>
                  <a:pt x="212607" y="704256"/>
                </a:cubicBezTo>
                <a:cubicBezTo>
                  <a:pt x="156092" y="693038"/>
                  <a:pt x="177470" y="692403"/>
                  <a:pt x="147837" y="692826"/>
                </a:cubicBezTo>
                <a:cubicBezTo>
                  <a:pt x="131539" y="712299"/>
                  <a:pt x="58619" y="768391"/>
                  <a:pt x="34807" y="775376"/>
                </a:cubicBezTo>
                <a:cubicBezTo>
                  <a:pt x="10995" y="782361"/>
                  <a:pt x="-9855" y="752410"/>
                  <a:pt x="4962" y="73473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フリーフォーム 22"/>
          <p:cNvSpPr/>
          <p:nvPr/>
        </p:nvSpPr>
        <p:spPr>
          <a:xfrm>
            <a:off x="5599080" y="1973160"/>
            <a:ext cx="1165320" cy="717480"/>
          </a:xfrm>
          <a:custGeom>
            <a:avLst/>
            <a:gdLst/>
            <a:ahLst/>
            <a:rect l="l" t="t" r="r" b="b"/>
            <a:pathLst>
              <a:path w="929850" h="620483">
                <a:moveTo>
                  <a:pt x="14" y="619854"/>
                </a:moveTo>
                <a:cubicBezTo>
                  <a:pt x="1284" y="626627"/>
                  <a:pt x="63091" y="576674"/>
                  <a:pt x="109234" y="569054"/>
                </a:cubicBezTo>
                <a:cubicBezTo>
                  <a:pt x="155377" y="561434"/>
                  <a:pt x="187127" y="579214"/>
                  <a:pt x="276874" y="574134"/>
                </a:cubicBezTo>
                <a:cubicBezTo>
                  <a:pt x="366621" y="569054"/>
                  <a:pt x="543997" y="580907"/>
                  <a:pt x="647714" y="538574"/>
                </a:cubicBezTo>
                <a:cubicBezTo>
                  <a:pt x="751431" y="496241"/>
                  <a:pt x="853877" y="386174"/>
                  <a:pt x="899174" y="320134"/>
                </a:cubicBezTo>
                <a:cubicBezTo>
                  <a:pt x="944471" y="254094"/>
                  <a:pt x="928807" y="177471"/>
                  <a:pt x="919494" y="142334"/>
                </a:cubicBezTo>
                <a:cubicBezTo>
                  <a:pt x="910181" y="107197"/>
                  <a:pt x="843294" y="109314"/>
                  <a:pt x="843294" y="109314"/>
                </a:cubicBezTo>
                <a:cubicBezTo>
                  <a:pt x="787414" y="85607"/>
                  <a:pt x="687507" y="-3293"/>
                  <a:pt x="584214" y="94"/>
                </a:cubicBezTo>
                <a:cubicBezTo>
                  <a:pt x="480921" y="3481"/>
                  <a:pt x="306507" y="60631"/>
                  <a:pt x="223534" y="129634"/>
                </a:cubicBezTo>
                <a:cubicBezTo>
                  <a:pt x="140561" y="198637"/>
                  <a:pt x="106694" y="347651"/>
                  <a:pt x="86374" y="414114"/>
                </a:cubicBezTo>
                <a:cubicBezTo>
                  <a:pt x="66054" y="480577"/>
                  <a:pt x="120664" y="500897"/>
                  <a:pt x="101614" y="528414"/>
                </a:cubicBezTo>
                <a:cubicBezTo>
                  <a:pt x="82564" y="555931"/>
                  <a:pt x="-1256" y="613081"/>
                  <a:pt x="14" y="6198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フリーフォーム 23"/>
          <p:cNvSpPr/>
          <p:nvPr/>
        </p:nvSpPr>
        <p:spPr>
          <a:xfrm>
            <a:off x="6745320" y="2414520"/>
            <a:ext cx="741240" cy="1054080"/>
          </a:xfrm>
          <a:custGeom>
            <a:avLst/>
            <a:gdLst/>
            <a:ahLst/>
            <a:rect l="l" t="t" r="r" b="b"/>
            <a:pathLst>
              <a:path w="592055" h="912887">
                <a:moveTo>
                  <a:pt x="269310" y="3370"/>
                </a:moveTo>
                <a:cubicBezTo>
                  <a:pt x="226977" y="25807"/>
                  <a:pt x="133843" y="164660"/>
                  <a:pt x="88970" y="234510"/>
                </a:cubicBezTo>
                <a:cubicBezTo>
                  <a:pt x="44097" y="304360"/>
                  <a:pt x="-2047" y="353890"/>
                  <a:pt x="70" y="422470"/>
                </a:cubicBezTo>
                <a:cubicBezTo>
                  <a:pt x="2187" y="491050"/>
                  <a:pt x="58067" y="590110"/>
                  <a:pt x="101670" y="645990"/>
                </a:cubicBezTo>
                <a:cubicBezTo>
                  <a:pt x="145273" y="701870"/>
                  <a:pt x="232480" y="732773"/>
                  <a:pt x="261690" y="757750"/>
                </a:cubicBezTo>
                <a:cubicBezTo>
                  <a:pt x="290900" y="782727"/>
                  <a:pt x="281587" y="772567"/>
                  <a:pt x="276930" y="795850"/>
                </a:cubicBezTo>
                <a:cubicBezTo>
                  <a:pt x="272273" y="819133"/>
                  <a:pt x="234173" y="879670"/>
                  <a:pt x="233750" y="897450"/>
                </a:cubicBezTo>
                <a:cubicBezTo>
                  <a:pt x="233327" y="915230"/>
                  <a:pt x="262113" y="918617"/>
                  <a:pt x="274390" y="902530"/>
                </a:cubicBezTo>
                <a:cubicBezTo>
                  <a:pt x="286667" y="886443"/>
                  <a:pt x="291323" y="821673"/>
                  <a:pt x="307410" y="800930"/>
                </a:cubicBezTo>
                <a:cubicBezTo>
                  <a:pt x="323497" y="780187"/>
                  <a:pt x="332810" y="806010"/>
                  <a:pt x="370910" y="778070"/>
                </a:cubicBezTo>
                <a:cubicBezTo>
                  <a:pt x="409010" y="750130"/>
                  <a:pt x="499603" y="709913"/>
                  <a:pt x="536010" y="633290"/>
                </a:cubicBezTo>
                <a:cubicBezTo>
                  <a:pt x="572417" y="556667"/>
                  <a:pt x="601203" y="400033"/>
                  <a:pt x="589350" y="318330"/>
                </a:cubicBezTo>
                <a:cubicBezTo>
                  <a:pt x="577497" y="236627"/>
                  <a:pt x="505953" y="179477"/>
                  <a:pt x="464890" y="143070"/>
                </a:cubicBezTo>
                <a:cubicBezTo>
                  <a:pt x="423827" y="106663"/>
                  <a:pt x="379377" y="122750"/>
                  <a:pt x="342970" y="99890"/>
                </a:cubicBezTo>
                <a:cubicBezTo>
                  <a:pt x="306563" y="77030"/>
                  <a:pt x="311643" y="-19067"/>
                  <a:pt x="269310" y="337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フリーフォーム 24"/>
          <p:cNvSpPr/>
          <p:nvPr/>
        </p:nvSpPr>
        <p:spPr>
          <a:xfrm>
            <a:off x="8607600" y="2449440"/>
            <a:ext cx="920520" cy="1077840"/>
          </a:xfrm>
          <a:custGeom>
            <a:avLst/>
            <a:gdLst/>
            <a:ahLst/>
            <a:rect l="l" t="t" r="r" b="b"/>
            <a:pathLst>
              <a:path w="733951" h="933164">
                <a:moveTo>
                  <a:pt x="530748" y="1419"/>
                </a:moveTo>
                <a:cubicBezTo>
                  <a:pt x="523551" y="9039"/>
                  <a:pt x="566308" y="71692"/>
                  <a:pt x="553608" y="85239"/>
                </a:cubicBezTo>
                <a:cubicBezTo>
                  <a:pt x="540908" y="98786"/>
                  <a:pt x="512968" y="71692"/>
                  <a:pt x="454548" y="82699"/>
                </a:cubicBezTo>
                <a:cubicBezTo>
                  <a:pt x="396128" y="93706"/>
                  <a:pt x="275055" y="103442"/>
                  <a:pt x="203088" y="151279"/>
                </a:cubicBezTo>
                <a:cubicBezTo>
                  <a:pt x="131121" y="199116"/>
                  <a:pt x="54921" y="288016"/>
                  <a:pt x="22748" y="369719"/>
                </a:cubicBezTo>
                <a:cubicBezTo>
                  <a:pt x="-9425" y="451422"/>
                  <a:pt x="-1382" y="561489"/>
                  <a:pt x="10048" y="641499"/>
                </a:cubicBezTo>
                <a:cubicBezTo>
                  <a:pt x="21478" y="721509"/>
                  <a:pt x="77358" y="801519"/>
                  <a:pt x="91328" y="849779"/>
                </a:cubicBezTo>
                <a:cubicBezTo>
                  <a:pt x="105298" y="898039"/>
                  <a:pt x="67198" y="922169"/>
                  <a:pt x="93868" y="931059"/>
                </a:cubicBezTo>
                <a:cubicBezTo>
                  <a:pt x="120538" y="939949"/>
                  <a:pt x="186155" y="918782"/>
                  <a:pt x="251348" y="903119"/>
                </a:cubicBezTo>
                <a:cubicBezTo>
                  <a:pt x="316541" y="887456"/>
                  <a:pt x="405865" y="900156"/>
                  <a:pt x="485028" y="837079"/>
                </a:cubicBezTo>
                <a:cubicBezTo>
                  <a:pt x="564191" y="774002"/>
                  <a:pt x="696271" y="633456"/>
                  <a:pt x="726328" y="524659"/>
                </a:cubicBezTo>
                <a:cubicBezTo>
                  <a:pt x="756385" y="415862"/>
                  <a:pt x="689498" y="252456"/>
                  <a:pt x="665368" y="184299"/>
                </a:cubicBezTo>
                <a:cubicBezTo>
                  <a:pt x="641238" y="116142"/>
                  <a:pt x="592978" y="139849"/>
                  <a:pt x="581548" y="115719"/>
                </a:cubicBezTo>
                <a:cubicBezTo>
                  <a:pt x="570118" y="91589"/>
                  <a:pt x="601445" y="60686"/>
                  <a:pt x="596788" y="39519"/>
                </a:cubicBezTo>
                <a:cubicBezTo>
                  <a:pt x="592131" y="18352"/>
                  <a:pt x="537945" y="-6201"/>
                  <a:pt x="530748" y="1419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フリーフォーム 25"/>
          <p:cNvSpPr/>
          <p:nvPr/>
        </p:nvSpPr>
        <p:spPr>
          <a:xfrm>
            <a:off x="4091040" y="1609560"/>
            <a:ext cx="936720" cy="1241640"/>
          </a:xfrm>
          <a:custGeom>
            <a:avLst/>
            <a:gdLst/>
            <a:ahLst/>
            <a:rect l="l" t="t" r="r" b="b"/>
            <a:pathLst>
              <a:path w="648606" h="931866">
                <a:moveTo>
                  <a:pt x="395643" y="3162"/>
                </a:moveTo>
                <a:cubicBezTo>
                  <a:pt x="355003" y="17555"/>
                  <a:pt x="268220" y="81055"/>
                  <a:pt x="202603" y="150482"/>
                </a:cubicBezTo>
                <a:cubicBezTo>
                  <a:pt x="136986" y="219909"/>
                  <a:pt x="17606" y="324895"/>
                  <a:pt x="1943" y="419722"/>
                </a:cubicBezTo>
                <a:cubicBezTo>
                  <a:pt x="-13720" y="514549"/>
                  <a:pt x="69253" y="654672"/>
                  <a:pt x="108623" y="719442"/>
                </a:cubicBezTo>
                <a:cubicBezTo>
                  <a:pt x="147993" y="784212"/>
                  <a:pt x="214033" y="775322"/>
                  <a:pt x="238163" y="808342"/>
                </a:cubicBezTo>
                <a:cubicBezTo>
                  <a:pt x="262293" y="841362"/>
                  <a:pt x="242820" y="898935"/>
                  <a:pt x="253403" y="917562"/>
                </a:cubicBezTo>
                <a:cubicBezTo>
                  <a:pt x="263986" y="936189"/>
                  <a:pt x="298276" y="936188"/>
                  <a:pt x="301663" y="920102"/>
                </a:cubicBezTo>
                <a:cubicBezTo>
                  <a:pt x="305050" y="904016"/>
                  <a:pt x="274570" y="839245"/>
                  <a:pt x="273723" y="821042"/>
                </a:cubicBezTo>
                <a:cubicBezTo>
                  <a:pt x="272876" y="802839"/>
                  <a:pt x="285576" y="813845"/>
                  <a:pt x="296583" y="810882"/>
                </a:cubicBezTo>
                <a:cubicBezTo>
                  <a:pt x="307590" y="807919"/>
                  <a:pt x="317750" y="811729"/>
                  <a:pt x="339763" y="803262"/>
                </a:cubicBezTo>
                <a:cubicBezTo>
                  <a:pt x="361776" y="794795"/>
                  <a:pt x="385906" y="792255"/>
                  <a:pt x="428663" y="760082"/>
                </a:cubicBezTo>
                <a:cubicBezTo>
                  <a:pt x="471420" y="727909"/>
                  <a:pt x="559896" y="671605"/>
                  <a:pt x="596303" y="610222"/>
                </a:cubicBezTo>
                <a:cubicBezTo>
                  <a:pt x="632710" y="548839"/>
                  <a:pt x="654723" y="457399"/>
                  <a:pt x="647103" y="391782"/>
                </a:cubicBezTo>
                <a:cubicBezTo>
                  <a:pt x="639483" y="326165"/>
                  <a:pt x="584026" y="271132"/>
                  <a:pt x="550583" y="216522"/>
                </a:cubicBezTo>
                <a:cubicBezTo>
                  <a:pt x="517140" y="161912"/>
                  <a:pt x="469303" y="102222"/>
                  <a:pt x="446443" y="64122"/>
                </a:cubicBezTo>
                <a:cubicBezTo>
                  <a:pt x="423583" y="26022"/>
                  <a:pt x="436283" y="-11231"/>
                  <a:pt x="395643" y="3162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フリーフォーム 26"/>
          <p:cNvSpPr/>
          <p:nvPr/>
        </p:nvSpPr>
        <p:spPr>
          <a:xfrm>
            <a:off x="5076720" y="2568600"/>
            <a:ext cx="857520" cy="1079640"/>
          </a:xfrm>
          <a:custGeom>
            <a:avLst/>
            <a:gdLst/>
            <a:ahLst/>
            <a:rect l="l" t="t" r="r" b="b"/>
            <a:pathLst>
              <a:path w="684005" h="933819">
                <a:moveTo>
                  <a:pt x="66040" y="17548"/>
                </a:moveTo>
                <a:cubicBezTo>
                  <a:pt x="40217" y="63691"/>
                  <a:pt x="0" y="222018"/>
                  <a:pt x="0" y="322348"/>
                </a:cubicBezTo>
                <a:cubicBezTo>
                  <a:pt x="0" y="422678"/>
                  <a:pt x="34713" y="545868"/>
                  <a:pt x="66040" y="619528"/>
                </a:cubicBezTo>
                <a:cubicBezTo>
                  <a:pt x="97367" y="693188"/>
                  <a:pt x="135043" y="724938"/>
                  <a:pt x="187960" y="764308"/>
                </a:cubicBezTo>
                <a:cubicBezTo>
                  <a:pt x="240877" y="803678"/>
                  <a:pt x="328930" y="839238"/>
                  <a:pt x="383540" y="855748"/>
                </a:cubicBezTo>
                <a:cubicBezTo>
                  <a:pt x="438150" y="872258"/>
                  <a:pt x="490643" y="859558"/>
                  <a:pt x="515620" y="863368"/>
                </a:cubicBezTo>
                <a:cubicBezTo>
                  <a:pt x="540597" y="867178"/>
                  <a:pt x="523663" y="867601"/>
                  <a:pt x="533400" y="878608"/>
                </a:cubicBezTo>
                <a:cubicBezTo>
                  <a:pt x="543137" y="889615"/>
                  <a:pt x="560917" y="921365"/>
                  <a:pt x="574040" y="929408"/>
                </a:cubicBezTo>
                <a:cubicBezTo>
                  <a:pt x="587163" y="937451"/>
                  <a:pt x="611717" y="933218"/>
                  <a:pt x="612140" y="926868"/>
                </a:cubicBezTo>
                <a:cubicBezTo>
                  <a:pt x="612563" y="920518"/>
                  <a:pt x="584200" y="903161"/>
                  <a:pt x="576580" y="891308"/>
                </a:cubicBezTo>
                <a:cubicBezTo>
                  <a:pt x="568960" y="879455"/>
                  <a:pt x="567267" y="864215"/>
                  <a:pt x="566420" y="855748"/>
                </a:cubicBezTo>
                <a:cubicBezTo>
                  <a:pt x="565573" y="847281"/>
                  <a:pt x="564727" y="850245"/>
                  <a:pt x="571500" y="840508"/>
                </a:cubicBezTo>
                <a:cubicBezTo>
                  <a:pt x="578273" y="830771"/>
                  <a:pt x="588433" y="849821"/>
                  <a:pt x="607060" y="797328"/>
                </a:cubicBezTo>
                <a:cubicBezTo>
                  <a:pt x="625687" y="744835"/>
                  <a:pt x="691727" y="614871"/>
                  <a:pt x="683260" y="525548"/>
                </a:cubicBezTo>
                <a:cubicBezTo>
                  <a:pt x="674793" y="436225"/>
                  <a:pt x="615527" y="330815"/>
                  <a:pt x="556260" y="261388"/>
                </a:cubicBezTo>
                <a:cubicBezTo>
                  <a:pt x="496993" y="191961"/>
                  <a:pt x="394547" y="144971"/>
                  <a:pt x="327660" y="108988"/>
                </a:cubicBezTo>
                <a:cubicBezTo>
                  <a:pt x="260773" y="73005"/>
                  <a:pt x="198120" y="61998"/>
                  <a:pt x="154940" y="45488"/>
                </a:cubicBezTo>
                <a:cubicBezTo>
                  <a:pt x="111760" y="28978"/>
                  <a:pt x="91863" y="-28595"/>
                  <a:pt x="66040" y="17548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フリーフォーム 27"/>
          <p:cNvSpPr/>
          <p:nvPr/>
        </p:nvSpPr>
        <p:spPr>
          <a:xfrm>
            <a:off x="5423040" y="3583080"/>
            <a:ext cx="1733400" cy="1193760"/>
          </a:xfrm>
          <a:custGeom>
            <a:avLst/>
            <a:gdLst/>
            <a:ahLst/>
            <a:rect l="l" t="t" r="r" b="b"/>
            <a:pathLst>
              <a:path w="1307143" h="974774">
                <a:moveTo>
                  <a:pt x="526796" y="329893"/>
                </a:moveTo>
                <a:cubicBezTo>
                  <a:pt x="484124" y="375613"/>
                  <a:pt x="149860" y="477213"/>
                  <a:pt x="63500" y="524965"/>
                </a:cubicBezTo>
                <a:cubicBezTo>
                  <a:pt x="-22860" y="572717"/>
                  <a:pt x="1524" y="597101"/>
                  <a:pt x="8636" y="616405"/>
                </a:cubicBezTo>
                <a:cubicBezTo>
                  <a:pt x="15748" y="635709"/>
                  <a:pt x="100076" y="623517"/>
                  <a:pt x="106172" y="640789"/>
                </a:cubicBezTo>
                <a:cubicBezTo>
                  <a:pt x="112268" y="658061"/>
                  <a:pt x="6604" y="711909"/>
                  <a:pt x="45212" y="720037"/>
                </a:cubicBezTo>
                <a:cubicBezTo>
                  <a:pt x="83820" y="728165"/>
                  <a:pt x="232156" y="740357"/>
                  <a:pt x="337820" y="689557"/>
                </a:cubicBezTo>
                <a:cubicBezTo>
                  <a:pt x="443484" y="638757"/>
                  <a:pt x="627380" y="411173"/>
                  <a:pt x="679196" y="415237"/>
                </a:cubicBezTo>
                <a:cubicBezTo>
                  <a:pt x="731012" y="419301"/>
                  <a:pt x="647700" y="622501"/>
                  <a:pt x="648716" y="713941"/>
                </a:cubicBezTo>
                <a:cubicBezTo>
                  <a:pt x="649732" y="805381"/>
                  <a:pt x="667004" y="928317"/>
                  <a:pt x="685292" y="963877"/>
                </a:cubicBezTo>
                <a:cubicBezTo>
                  <a:pt x="703580" y="999437"/>
                  <a:pt x="734060" y="937461"/>
                  <a:pt x="758444" y="927301"/>
                </a:cubicBezTo>
                <a:cubicBezTo>
                  <a:pt x="782828" y="917141"/>
                  <a:pt x="805180" y="928317"/>
                  <a:pt x="831596" y="902917"/>
                </a:cubicBezTo>
                <a:cubicBezTo>
                  <a:pt x="858012" y="877517"/>
                  <a:pt x="908812" y="852117"/>
                  <a:pt x="916940" y="774901"/>
                </a:cubicBezTo>
                <a:cubicBezTo>
                  <a:pt x="925068" y="697685"/>
                  <a:pt x="858012" y="486357"/>
                  <a:pt x="880364" y="439621"/>
                </a:cubicBezTo>
                <a:cubicBezTo>
                  <a:pt x="902716" y="392885"/>
                  <a:pt x="995172" y="498549"/>
                  <a:pt x="1051052" y="494485"/>
                </a:cubicBezTo>
                <a:cubicBezTo>
                  <a:pt x="1106932" y="490421"/>
                  <a:pt x="1215644" y="415237"/>
                  <a:pt x="1215644" y="415237"/>
                </a:cubicBezTo>
                <a:cubicBezTo>
                  <a:pt x="1258316" y="394917"/>
                  <a:pt x="1309116" y="382725"/>
                  <a:pt x="1307084" y="372565"/>
                </a:cubicBezTo>
                <a:cubicBezTo>
                  <a:pt x="1305052" y="362405"/>
                  <a:pt x="1250188" y="373581"/>
                  <a:pt x="1203452" y="354277"/>
                </a:cubicBezTo>
                <a:cubicBezTo>
                  <a:pt x="1156716" y="334973"/>
                  <a:pt x="1068324" y="267917"/>
                  <a:pt x="1026668" y="256741"/>
                </a:cubicBezTo>
                <a:cubicBezTo>
                  <a:pt x="985012" y="245565"/>
                  <a:pt x="980948" y="282141"/>
                  <a:pt x="953516" y="287221"/>
                </a:cubicBezTo>
                <a:cubicBezTo>
                  <a:pt x="926084" y="292301"/>
                  <a:pt x="885444" y="279093"/>
                  <a:pt x="862076" y="287221"/>
                </a:cubicBezTo>
                <a:cubicBezTo>
                  <a:pt x="838708" y="295349"/>
                  <a:pt x="821436" y="362405"/>
                  <a:pt x="813308" y="335989"/>
                </a:cubicBezTo>
                <a:cubicBezTo>
                  <a:pt x="805180" y="309573"/>
                  <a:pt x="821436" y="184605"/>
                  <a:pt x="813308" y="128725"/>
                </a:cubicBezTo>
                <a:cubicBezTo>
                  <a:pt x="805180" y="72845"/>
                  <a:pt x="783844" y="-8435"/>
                  <a:pt x="764540" y="709"/>
                </a:cubicBezTo>
                <a:cubicBezTo>
                  <a:pt x="745236" y="9853"/>
                  <a:pt x="734060" y="164285"/>
                  <a:pt x="697484" y="183589"/>
                </a:cubicBezTo>
                <a:cubicBezTo>
                  <a:pt x="660908" y="202893"/>
                  <a:pt x="591820" y="134821"/>
                  <a:pt x="545084" y="116533"/>
                </a:cubicBezTo>
                <a:cubicBezTo>
                  <a:pt x="498348" y="98245"/>
                  <a:pt x="459740" y="75893"/>
                  <a:pt x="417068" y="73861"/>
                </a:cubicBezTo>
                <a:cubicBezTo>
                  <a:pt x="374396" y="71829"/>
                  <a:pt x="296164" y="87069"/>
                  <a:pt x="289052" y="104341"/>
                </a:cubicBezTo>
                <a:cubicBezTo>
                  <a:pt x="281940" y="121613"/>
                  <a:pt x="392684" y="172413"/>
                  <a:pt x="374396" y="177493"/>
                </a:cubicBezTo>
                <a:cubicBezTo>
                  <a:pt x="356108" y="182573"/>
                  <a:pt x="188468" y="122629"/>
                  <a:pt x="179324" y="134821"/>
                </a:cubicBezTo>
                <a:cubicBezTo>
                  <a:pt x="170180" y="147013"/>
                  <a:pt x="260604" y="223213"/>
                  <a:pt x="319532" y="250645"/>
                </a:cubicBezTo>
                <a:cubicBezTo>
                  <a:pt x="378460" y="278077"/>
                  <a:pt x="569468" y="284173"/>
                  <a:pt x="526796" y="329893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フリーフォーム 4"/>
          <p:cNvSpPr/>
          <p:nvPr/>
        </p:nvSpPr>
        <p:spPr>
          <a:xfrm>
            <a:off x="281160" y="282600"/>
            <a:ext cx="1180800" cy="100980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フリーフォーム 1"/>
          <p:cNvSpPr/>
          <p:nvPr/>
        </p:nvSpPr>
        <p:spPr>
          <a:xfrm>
            <a:off x="1608120" y="298440"/>
            <a:ext cx="1461960" cy="193212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フリーフォーム 6"/>
          <p:cNvSpPr/>
          <p:nvPr/>
        </p:nvSpPr>
        <p:spPr>
          <a:xfrm>
            <a:off x="3071880" y="677880"/>
            <a:ext cx="1542960" cy="186516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フリーフォーム 7"/>
          <p:cNvSpPr/>
          <p:nvPr/>
        </p:nvSpPr>
        <p:spPr>
          <a:xfrm>
            <a:off x="1003320" y="2806560"/>
            <a:ext cx="2838600" cy="1677960"/>
          </a:xfrm>
          <a:custGeom>
            <a:avLst/>
            <a:gdLst/>
            <a:ahLst/>
            <a:rect l="l" t="t" r="r" b="b"/>
            <a:pathLst>
              <a:path w="5243308" h="3355942">
                <a:moveTo>
                  <a:pt x="2264438" y="999241"/>
                </a:moveTo>
                <a:cubicBezTo>
                  <a:pt x="2028768" y="961534"/>
                  <a:pt x="1254198" y="760428"/>
                  <a:pt x="888124" y="678729"/>
                </a:cubicBezTo>
                <a:cubicBezTo>
                  <a:pt x="522050" y="597030"/>
                  <a:pt x="153514" y="510723"/>
                  <a:pt x="67992" y="509047"/>
                </a:cubicBezTo>
                <a:cubicBezTo>
                  <a:pt x="-17530" y="507371"/>
                  <a:pt x="-17006" y="543402"/>
                  <a:pt x="39712" y="546754"/>
                </a:cubicBezTo>
                <a:cubicBezTo>
                  <a:pt x="96430" y="550106"/>
                  <a:pt x="1048380" y="772997"/>
                  <a:pt x="1048380" y="772997"/>
                </a:cubicBezTo>
                <a:cubicBezTo>
                  <a:pt x="1412883" y="854696"/>
                  <a:pt x="2000487" y="952107"/>
                  <a:pt x="2226730" y="1036948"/>
                </a:cubicBezTo>
                <a:cubicBezTo>
                  <a:pt x="2452973" y="1121789"/>
                  <a:pt x="2455907" y="1195999"/>
                  <a:pt x="2405840" y="1282045"/>
                </a:cubicBezTo>
                <a:cubicBezTo>
                  <a:pt x="2355773" y="1368091"/>
                  <a:pt x="2228302" y="1486293"/>
                  <a:pt x="2170170" y="1583703"/>
                </a:cubicBezTo>
                <a:cubicBezTo>
                  <a:pt x="2112038" y="1681113"/>
                  <a:pt x="2096326" y="1721963"/>
                  <a:pt x="2057048" y="1866507"/>
                </a:cubicBezTo>
                <a:cubicBezTo>
                  <a:pt x="2017770" y="2011051"/>
                  <a:pt x="1891451" y="2381839"/>
                  <a:pt x="1934500" y="2450969"/>
                </a:cubicBezTo>
                <a:cubicBezTo>
                  <a:pt x="2023269" y="2454059"/>
                  <a:pt x="2072759" y="2333133"/>
                  <a:pt x="2132462" y="2281286"/>
                </a:cubicBezTo>
                <a:cubicBezTo>
                  <a:pt x="2192165" y="2229439"/>
                  <a:pt x="2236157" y="2215298"/>
                  <a:pt x="2292718" y="2139884"/>
                </a:cubicBezTo>
                <a:cubicBezTo>
                  <a:pt x="2349279" y="2064470"/>
                  <a:pt x="2424798" y="1853991"/>
                  <a:pt x="2471827" y="1828800"/>
                </a:cubicBezTo>
                <a:cubicBezTo>
                  <a:pt x="2498536" y="1869649"/>
                  <a:pt x="2416838" y="2231010"/>
                  <a:pt x="2452974" y="2384981"/>
                </a:cubicBezTo>
                <a:cubicBezTo>
                  <a:pt x="2489110" y="2538952"/>
                  <a:pt x="2619514" y="2590799"/>
                  <a:pt x="2688644" y="2752626"/>
                </a:cubicBezTo>
                <a:cubicBezTo>
                  <a:pt x="2757774" y="2914453"/>
                  <a:pt x="2826000" y="3301934"/>
                  <a:pt x="2867753" y="3355942"/>
                </a:cubicBezTo>
                <a:cubicBezTo>
                  <a:pt x="2920936" y="3316605"/>
                  <a:pt x="2930598" y="2879889"/>
                  <a:pt x="2962021" y="2733773"/>
                </a:cubicBezTo>
                <a:cubicBezTo>
                  <a:pt x="2993444" y="2587658"/>
                  <a:pt x="3061002" y="2604940"/>
                  <a:pt x="3056289" y="2479249"/>
                </a:cubicBezTo>
                <a:cubicBezTo>
                  <a:pt x="3051576" y="2353558"/>
                  <a:pt x="2900747" y="1984341"/>
                  <a:pt x="2933741" y="1979628"/>
                </a:cubicBezTo>
                <a:cubicBezTo>
                  <a:pt x="2987055" y="2025715"/>
                  <a:pt x="3104994" y="2317423"/>
                  <a:pt x="3254252" y="2450969"/>
                </a:cubicBezTo>
                <a:cubicBezTo>
                  <a:pt x="3403510" y="2584515"/>
                  <a:pt x="3691027" y="2670928"/>
                  <a:pt x="3829287" y="2780907"/>
                </a:cubicBezTo>
                <a:cubicBezTo>
                  <a:pt x="3967547" y="2890886"/>
                  <a:pt x="4035675" y="3031738"/>
                  <a:pt x="4083811" y="3110845"/>
                </a:cubicBezTo>
                <a:cubicBezTo>
                  <a:pt x="4116707" y="3048982"/>
                  <a:pt x="4112091" y="2883030"/>
                  <a:pt x="4083811" y="2752626"/>
                </a:cubicBezTo>
                <a:cubicBezTo>
                  <a:pt x="4055531" y="2622222"/>
                  <a:pt x="3987971" y="2461966"/>
                  <a:pt x="3914128" y="2328420"/>
                </a:cubicBezTo>
                <a:cubicBezTo>
                  <a:pt x="3840285" y="2194874"/>
                  <a:pt x="3725592" y="2061327"/>
                  <a:pt x="3640751" y="1951348"/>
                </a:cubicBezTo>
                <a:cubicBezTo>
                  <a:pt x="3555910" y="1841369"/>
                  <a:pt x="3388898" y="1705976"/>
                  <a:pt x="3405081" y="1668544"/>
                </a:cubicBezTo>
                <a:cubicBezTo>
                  <a:pt x="3436504" y="1665402"/>
                  <a:pt x="3621897" y="1904214"/>
                  <a:pt x="3829287" y="1932494"/>
                </a:cubicBezTo>
                <a:cubicBezTo>
                  <a:pt x="4036677" y="1960774"/>
                  <a:pt x="4413749" y="1850795"/>
                  <a:pt x="4649419" y="1838226"/>
                </a:cubicBezTo>
                <a:cubicBezTo>
                  <a:pt x="4885089" y="1825657"/>
                  <a:pt x="5135901" y="1868392"/>
                  <a:pt x="5243308" y="1857080"/>
                </a:cubicBezTo>
                <a:cubicBezTo>
                  <a:pt x="5204030" y="1784808"/>
                  <a:pt x="4616425" y="1520857"/>
                  <a:pt x="4413749" y="1404593"/>
                </a:cubicBezTo>
                <a:cubicBezTo>
                  <a:pt x="4211073" y="1288329"/>
                  <a:pt x="4182792" y="1220770"/>
                  <a:pt x="4027250" y="1159496"/>
                </a:cubicBezTo>
                <a:cubicBezTo>
                  <a:pt x="3871708" y="1098222"/>
                  <a:pt x="3546404" y="1066741"/>
                  <a:pt x="3480495" y="1036948"/>
                </a:cubicBezTo>
                <a:cubicBezTo>
                  <a:pt x="3507931" y="970960"/>
                  <a:pt x="3796294" y="936396"/>
                  <a:pt x="3951836" y="763571"/>
                </a:cubicBezTo>
                <a:cubicBezTo>
                  <a:pt x="4107378" y="590746"/>
                  <a:pt x="4398745" y="100513"/>
                  <a:pt x="4413749" y="0"/>
                </a:cubicBezTo>
                <a:cubicBezTo>
                  <a:pt x="4343028" y="17597"/>
                  <a:pt x="4066529" y="256095"/>
                  <a:pt x="3904702" y="320511"/>
                </a:cubicBezTo>
                <a:cubicBezTo>
                  <a:pt x="3742875" y="384927"/>
                  <a:pt x="3593617" y="312655"/>
                  <a:pt x="3442788" y="386498"/>
                </a:cubicBezTo>
                <a:cubicBezTo>
                  <a:pt x="3291959" y="460341"/>
                  <a:pt x="3067287" y="707854"/>
                  <a:pt x="2999728" y="763571"/>
                </a:cubicBezTo>
                <a:cubicBezTo>
                  <a:pt x="2962649" y="689747"/>
                  <a:pt x="3032723" y="598602"/>
                  <a:pt x="3037436" y="480767"/>
                </a:cubicBezTo>
                <a:cubicBezTo>
                  <a:pt x="3042149" y="362932"/>
                  <a:pt x="3062849" y="134331"/>
                  <a:pt x="3028009" y="56560"/>
                </a:cubicBezTo>
                <a:cubicBezTo>
                  <a:pt x="2949354" y="89279"/>
                  <a:pt x="2704355" y="334651"/>
                  <a:pt x="2622656" y="471340"/>
                </a:cubicBezTo>
                <a:cubicBezTo>
                  <a:pt x="2540957" y="608029"/>
                  <a:pt x="2558043" y="803124"/>
                  <a:pt x="2537815" y="876692"/>
                </a:cubicBezTo>
                <a:cubicBezTo>
                  <a:pt x="2494727" y="843580"/>
                  <a:pt x="2452974" y="741575"/>
                  <a:pt x="2386986" y="707010"/>
                </a:cubicBezTo>
                <a:cubicBezTo>
                  <a:pt x="2320998" y="672445"/>
                  <a:pt x="2199844" y="659169"/>
                  <a:pt x="2141889" y="669303"/>
                </a:cubicBezTo>
                <a:cubicBezTo>
                  <a:pt x="2158229" y="709917"/>
                  <a:pt x="2278578" y="854697"/>
                  <a:pt x="2302145" y="904973"/>
                </a:cubicBezTo>
                <a:cubicBezTo>
                  <a:pt x="2325712" y="955249"/>
                  <a:pt x="2500108" y="1036948"/>
                  <a:pt x="2264438" y="999241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フリーフォーム 8"/>
          <p:cNvSpPr/>
          <p:nvPr/>
        </p:nvSpPr>
        <p:spPr>
          <a:xfrm>
            <a:off x="22320" y="1292400"/>
            <a:ext cx="1698480" cy="164916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フリーフォーム 9"/>
          <p:cNvSpPr/>
          <p:nvPr/>
        </p:nvSpPr>
        <p:spPr>
          <a:xfrm>
            <a:off x="3195720" y="3316320"/>
            <a:ext cx="1927080" cy="207972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フリーフォーム 10"/>
          <p:cNvSpPr/>
          <p:nvPr/>
        </p:nvSpPr>
        <p:spPr>
          <a:xfrm>
            <a:off x="331920" y="3645000"/>
            <a:ext cx="1711080" cy="142056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フリーフォーム 11"/>
          <p:cNvSpPr/>
          <p:nvPr/>
        </p:nvSpPr>
        <p:spPr>
          <a:xfrm>
            <a:off x="4451400" y="4973760"/>
            <a:ext cx="1482840" cy="162864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フリーフォーム 12"/>
          <p:cNvSpPr/>
          <p:nvPr/>
        </p:nvSpPr>
        <p:spPr>
          <a:xfrm>
            <a:off x="392040" y="4565520"/>
            <a:ext cx="1812960" cy="175104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フリーフォーム 13"/>
          <p:cNvSpPr/>
          <p:nvPr/>
        </p:nvSpPr>
        <p:spPr>
          <a:xfrm>
            <a:off x="2205000" y="5024520"/>
            <a:ext cx="1490760" cy="152856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フリーフォーム 14"/>
          <p:cNvSpPr/>
          <p:nvPr/>
        </p:nvSpPr>
        <p:spPr>
          <a:xfrm>
            <a:off x="5961240" y="5283360"/>
            <a:ext cx="2184120" cy="1366560"/>
          </a:xfrm>
          <a:custGeom>
            <a:avLst/>
            <a:gdLst/>
            <a:ahLst/>
            <a:rect l="l" t="t" r="r" b="b"/>
            <a:pathLst>
              <a:path w="5820309" h="3942257">
                <a:moveTo>
                  <a:pt x="5730394" y="1531663"/>
                </a:moveTo>
                <a:cubicBezTo>
                  <a:pt x="5668164" y="1516423"/>
                  <a:pt x="5537354" y="1546903"/>
                  <a:pt x="5372254" y="1554523"/>
                </a:cubicBezTo>
                <a:cubicBezTo>
                  <a:pt x="5207154" y="1562143"/>
                  <a:pt x="4856634" y="1577383"/>
                  <a:pt x="4739794" y="1577383"/>
                </a:cubicBezTo>
                <a:cubicBezTo>
                  <a:pt x="4622954" y="1577383"/>
                  <a:pt x="4696614" y="1597703"/>
                  <a:pt x="4671214" y="1554523"/>
                </a:cubicBezTo>
                <a:cubicBezTo>
                  <a:pt x="4645814" y="1511343"/>
                  <a:pt x="4620414" y="1374183"/>
                  <a:pt x="4587394" y="1318303"/>
                </a:cubicBezTo>
                <a:cubicBezTo>
                  <a:pt x="4554374" y="1262423"/>
                  <a:pt x="4503574" y="1228133"/>
                  <a:pt x="4473094" y="1219243"/>
                </a:cubicBezTo>
                <a:cubicBezTo>
                  <a:pt x="4442614" y="1210353"/>
                  <a:pt x="4450234" y="1268773"/>
                  <a:pt x="4404514" y="1264963"/>
                </a:cubicBezTo>
                <a:cubicBezTo>
                  <a:pt x="4358794" y="1261153"/>
                  <a:pt x="4261004" y="1254803"/>
                  <a:pt x="4198774" y="1196383"/>
                </a:cubicBezTo>
                <a:cubicBezTo>
                  <a:pt x="4136544" y="1137963"/>
                  <a:pt x="4088284" y="1000803"/>
                  <a:pt x="4031134" y="914443"/>
                </a:cubicBezTo>
                <a:cubicBezTo>
                  <a:pt x="3973984" y="828083"/>
                  <a:pt x="3891434" y="673143"/>
                  <a:pt x="3855874" y="678223"/>
                </a:cubicBezTo>
                <a:cubicBezTo>
                  <a:pt x="3820314" y="683303"/>
                  <a:pt x="3825394" y="859833"/>
                  <a:pt x="3817774" y="944923"/>
                </a:cubicBezTo>
                <a:cubicBezTo>
                  <a:pt x="3810154" y="1030013"/>
                  <a:pt x="3836824" y="1164633"/>
                  <a:pt x="3810154" y="1188763"/>
                </a:cubicBezTo>
                <a:cubicBezTo>
                  <a:pt x="3783484" y="1212893"/>
                  <a:pt x="3706014" y="1168443"/>
                  <a:pt x="3657754" y="1089703"/>
                </a:cubicBezTo>
                <a:cubicBezTo>
                  <a:pt x="3609494" y="1010963"/>
                  <a:pt x="3535834" y="806493"/>
                  <a:pt x="3520594" y="716323"/>
                </a:cubicBezTo>
                <a:cubicBezTo>
                  <a:pt x="3505354" y="626153"/>
                  <a:pt x="3613304" y="607103"/>
                  <a:pt x="3566314" y="548683"/>
                </a:cubicBezTo>
                <a:cubicBezTo>
                  <a:pt x="3519324" y="490263"/>
                  <a:pt x="3305964" y="410253"/>
                  <a:pt x="3238654" y="365803"/>
                </a:cubicBezTo>
                <a:cubicBezTo>
                  <a:pt x="3171344" y="321353"/>
                  <a:pt x="3191664" y="261663"/>
                  <a:pt x="3162454" y="281983"/>
                </a:cubicBezTo>
                <a:cubicBezTo>
                  <a:pt x="3133244" y="302303"/>
                  <a:pt x="3097684" y="434383"/>
                  <a:pt x="3063394" y="487723"/>
                </a:cubicBezTo>
                <a:cubicBezTo>
                  <a:pt x="3029104" y="541063"/>
                  <a:pt x="2959254" y="556303"/>
                  <a:pt x="2956714" y="602023"/>
                </a:cubicBezTo>
                <a:cubicBezTo>
                  <a:pt x="2954174" y="647743"/>
                  <a:pt x="3037994" y="675683"/>
                  <a:pt x="3048154" y="762043"/>
                </a:cubicBezTo>
                <a:cubicBezTo>
                  <a:pt x="3058314" y="848403"/>
                  <a:pt x="3045614" y="1069383"/>
                  <a:pt x="3017674" y="1120183"/>
                </a:cubicBezTo>
                <a:cubicBezTo>
                  <a:pt x="2989734" y="1170983"/>
                  <a:pt x="2937664" y="1154473"/>
                  <a:pt x="2880514" y="1066843"/>
                </a:cubicBezTo>
                <a:cubicBezTo>
                  <a:pt x="2823364" y="979213"/>
                  <a:pt x="2712874" y="716323"/>
                  <a:pt x="2674774" y="594403"/>
                </a:cubicBezTo>
                <a:cubicBezTo>
                  <a:pt x="2636674" y="472483"/>
                  <a:pt x="2663344" y="384853"/>
                  <a:pt x="2651914" y="335323"/>
                </a:cubicBezTo>
                <a:cubicBezTo>
                  <a:pt x="2640484" y="285793"/>
                  <a:pt x="2650644" y="353103"/>
                  <a:pt x="2606194" y="297223"/>
                </a:cubicBezTo>
                <a:cubicBezTo>
                  <a:pt x="2561744" y="241343"/>
                  <a:pt x="2443634" y="-3767"/>
                  <a:pt x="2385214" y="43"/>
                </a:cubicBezTo>
                <a:cubicBezTo>
                  <a:pt x="2326794" y="3853"/>
                  <a:pt x="2322984" y="288333"/>
                  <a:pt x="2255674" y="320083"/>
                </a:cubicBezTo>
                <a:cubicBezTo>
                  <a:pt x="2188364" y="351833"/>
                  <a:pt x="2061364" y="226103"/>
                  <a:pt x="1981354" y="190543"/>
                </a:cubicBezTo>
                <a:cubicBezTo>
                  <a:pt x="1901344" y="154983"/>
                  <a:pt x="1802284" y="104183"/>
                  <a:pt x="1775614" y="106723"/>
                </a:cubicBezTo>
                <a:cubicBezTo>
                  <a:pt x="1748944" y="109263"/>
                  <a:pt x="1844194" y="188003"/>
                  <a:pt x="1821334" y="205783"/>
                </a:cubicBezTo>
                <a:cubicBezTo>
                  <a:pt x="1798474" y="223563"/>
                  <a:pt x="1717194" y="213403"/>
                  <a:pt x="1638454" y="213403"/>
                </a:cubicBezTo>
                <a:cubicBezTo>
                  <a:pt x="1559714" y="213403"/>
                  <a:pt x="1351434" y="137203"/>
                  <a:pt x="1348894" y="205783"/>
                </a:cubicBezTo>
                <a:cubicBezTo>
                  <a:pt x="1346354" y="274363"/>
                  <a:pt x="1597814" y="548683"/>
                  <a:pt x="1623214" y="624883"/>
                </a:cubicBezTo>
                <a:cubicBezTo>
                  <a:pt x="1648614" y="701083"/>
                  <a:pt x="1500024" y="622343"/>
                  <a:pt x="1501294" y="662983"/>
                </a:cubicBezTo>
                <a:cubicBezTo>
                  <a:pt x="1502564" y="703623"/>
                  <a:pt x="1582574" y="806493"/>
                  <a:pt x="1630834" y="868723"/>
                </a:cubicBezTo>
                <a:cubicBezTo>
                  <a:pt x="1679094" y="930953"/>
                  <a:pt x="1784504" y="972863"/>
                  <a:pt x="1790854" y="1036363"/>
                </a:cubicBezTo>
                <a:cubicBezTo>
                  <a:pt x="1797204" y="1099863"/>
                  <a:pt x="1789584" y="1249723"/>
                  <a:pt x="1668934" y="1249723"/>
                </a:cubicBezTo>
                <a:cubicBezTo>
                  <a:pt x="1548284" y="1249723"/>
                  <a:pt x="1191414" y="1064303"/>
                  <a:pt x="1066954" y="1036363"/>
                </a:cubicBezTo>
                <a:cubicBezTo>
                  <a:pt x="942494" y="1008423"/>
                  <a:pt x="997104" y="1092243"/>
                  <a:pt x="922174" y="1082083"/>
                </a:cubicBezTo>
                <a:cubicBezTo>
                  <a:pt x="847244" y="1071923"/>
                  <a:pt x="673254" y="980483"/>
                  <a:pt x="617374" y="975403"/>
                </a:cubicBezTo>
                <a:cubicBezTo>
                  <a:pt x="561494" y="970323"/>
                  <a:pt x="611024" y="1008423"/>
                  <a:pt x="586894" y="1051603"/>
                </a:cubicBezTo>
                <a:cubicBezTo>
                  <a:pt x="562764" y="1094783"/>
                  <a:pt x="454814" y="1143043"/>
                  <a:pt x="472594" y="1234483"/>
                </a:cubicBezTo>
                <a:cubicBezTo>
                  <a:pt x="490374" y="1325923"/>
                  <a:pt x="689764" y="1504993"/>
                  <a:pt x="693574" y="1600243"/>
                </a:cubicBezTo>
                <a:cubicBezTo>
                  <a:pt x="697384" y="1695493"/>
                  <a:pt x="571654" y="1761533"/>
                  <a:pt x="495454" y="1805983"/>
                </a:cubicBezTo>
                <a:cubicBezTo>
                  <a:pt x="419254" y="1850433"/>
                  <a:pt x="270664" y="1831383"/>
                  <a:pt x="236374" y="1866943"/>
                </a:cubicBezTo>
                <a:cubicBezTo>
                  <a:pt x="202084" y="1902503"/>
                  <a:pt x="329084" y="1957113"/>
                  <a:pt x="289714" y="2019343"/>
                </a:cubicBezTo>
                <a:cubicBezTo>
                  <a:pt x="250344" y="2081573"/>
                  <a:pt x="6504" y="2189523"/>
                  <a:pt x="154" y="2240323"/>
                </a:cubicBezTo>
                <a:cubicBezTo>
                  <a:pt x="-6196" y="2291123"/>
                  <a:pt x="184304" y="2298743"/>
                  <a:pt x="251614" y="2324143"/>
                </a:cubicBezTo>
                <a:cubicBezTo>
                  <a:pt x="318924" y="2349543"/>
                  <a:pt x="379884" y="2367323"/>
                  <a:pt x="404014" y="2392723"/>
                </a:cubicBezTo>
                <a:cubicBezTo>
                  <a:pt x="428144" y="2418123"/>
                  <a:pt x="348134" y="2476543"/>
                  <a:pt x="396394" y="2476543"/>
                </a:cubicBezTo>
                <a:cubicBezTo>
                  <a:pt x="444654" y="2476543"/>
                  <a:pt x="674524" y="2345733"/>
                  <a:pt x="693574" y="2392723"/>
                </a:cubicBezTo>
                <a:cubicBezTo>
                  <a:pt x="712624" y="2439713"/>
                  <a:pt x="605944" y="2607353"/>
                  <a:pt x="510694" y="2758483"/>
                </a:cubicBezTo>
                <a:cubicBezTo>
                  <a:pt x="415444" y="2909613"/>
                  <a:pt x="80164" y="3242353"/>
                  <a:pt x="122074" y="3299503"/>
                </a:cubicBezTo>
                <a:cubicBezTo>
                  <a:pt x="163984" y="3356653"/>
                  <a:pt x="638964" y="3095033"/>
                  <a:pt x="762154" y="3101383"/>
                </a:cubicBezTo>
                <a:cubicBezTo>
                  <a:pt x="885344" y="3107733"/>
                  <a:pt x="792634" y="3371893"/>
                  <a:pt x="861214" y="3337603"/>
                </a:cubicBezTo>
                <a:cubicBezTo>
                  <a:pt x="929794" y="3303313"/>
                  <a:pt x="1040284" y="3028993"/>
                  <a:pt x="1173634" y="2895643"/>
                </a:cubicBezTo>
                <a:cubicBezTo>
                  <a:pt x="1306984" y="2762293"/>
                  <a:pt x="1553364" y="2601003"/>
                  <a:pt x="1661314" y="2537503"/>
                </a:cubicBezTo>
                <a:cubicBezTo>
                  <a:pt x="1769264" y="2474003"/>
                  <a:pt x="1851814" y="2405423"/>
                  <a:pt x="1821334" y="2514643"/>
                </a:cubicBezTo>
                <a:cubicBezTo>
                  <a:pt x="1790854" y="2623863"/>
                  <a:pt x="1554634" y="3034073"/>
                  <a:pt x="1478434" y="3192823"/>
                </a:cubicBezTo>
                <a:cubicBezTo>
                  <a:pt x="1402234" y="3351573"/>
                  <a:pt x="1378104" y="3421423"/>
                  <a:pt x="1364134" y="3467143"/>
                </a:cubicBezTo>
                <a:cubicBezTo>
                  <a:pt x="1350164" y="3512863"/>
                  <a:pt x="1406044" y="3388403"/>
                  <a:pt x="1394614" y="3467143"/>
                </a:cubicBezTo>
                <a:cubicBezTo>
                  <a:pt x="1383184" y="3545883"/>
                  <a:pt x="1266344" y="3906563"/>
                  <a:pt x="1295554" y="3939583"/>
                </a:cubicBezTo>
                <a:cubicBezTo>
                  <a:pt x="1324764" y="3972603"/>
                  <a:pt x="1487324" y="3689393"/>
                  <a:pt x="1569874" y="3665263"/>
                </a:cubicBezTo>
                <a:cubicBezTo>
                  <a:pt x="1652424" y="3641133"/>
                  <a:pt x="1719734" y="3755433"/>
                  <a:pt x="1790854" y="3794803"/>
                </a:cubicBezTo>
                <a:cubicBezTo>
                  <a:pt x="1861974" y="3834173"/>
                  <a:pt x="1916584" y="3911643"/>
                  <a:pt x="1996594" y="3901483"/>
                </a:cubicBezTo>
                <a:cubicBezTo>
                  <a:pt x="2076604" y="3891323"/>
                  <a:pt x="2168044" y="3754163"/>
                  <a:pt x="2270914" y="3733843"/>
                </a:cubicBezTo>
                <a:cubicBezTo>
                  <a:pt x="2373784" y="3713523"/>
                  <a:pt x="2524914" y="3862113"/>
                  <a:pt x="2613814" y="3779563"/>
                </a:cubicBezTo>
                <a:cubicBezTo>
                  <a:pt x="2702714" y="3697013"/>
                  <a:pt x="2772564" y="3373163"/>
                  <a:pt x="2804314" y="3238543"/>
                </a:cubicBezTo>
                <a:cubicBezTo>
                  <a:pt x="2836064" y="3103923"/>
                  <a:pt x="2801774" y="3079793"/>
                  <a:pt x="2804314" y="2971843"/>
                </a:cubicBezTo>
                <a:cubicBezTo>
                  <a:pt x="2806854" y="2863893"/>
                  <a:pt x="2792884" y="2694983"/>
                  <a:pt x="2819554" y="2590843"/>
                </a:cubicBezTo>
                <a:cubicBezTo>
                  <a:pt x="2846224" y="2486703"/>
                  <a:pt x="2949094" y="2313983"/>
                  <a:pt x="2964334" y="2347003"/>
                </a:cubicBezTo>
                <a:cubicBezTo>
                  <a:pt x="2979574" y="2380023"/>
                  <a:pt x="2905914" y="2647993"/>
                  <a:pt x="2910994" y="2788963"/>
                </a:cubicBezTo>
                <a:cubicBezTo>
                  <a:pt x="2916074" y="2929933"/>
                  <a:pt x="2955444" y="3164883"/>
                  <a:pt x="2994814" y="3192823"/>
                </a:cubicBezTo>
                <a:cubicBezTo>
                  <a:pt x="3034184" y="3220763"/>
                  <a:pt x="3106574" y="2966763"/>
                  <a:pt x="3147214" y="2956603"/>
                </a:cubicBezTo>
                <a:cubicBezTo>
                  <a:pt x="3187854" y="2946443"/>
                  <a:pt x="3204364" y="3177583"/>
                  <a:pt x="3238654" y="3131863"/>
                </a:cubicBezTo>
                <a:cubicBezTo>
                  <a:pt x="3272944" y="3086143"/>
                  <a:pt x="3303424" y="2796583"/>
                  <a:pt x="3352954" y="2682283"/>
                </a:cubicBezTo>
                <a:cubicBezTo>
                  <a:pt x="3402484" y="2567983"/>
                  <a:pt x="3492654" y="2462573"/>
                  <a:pt x="3535834" y="2446063"/>
                </a:cubicBezTo>
                <a:cubicBezTo>
                  <a:pt x="3579014" y="2429553"/>
                  <a:pt x="3563774" y="2613703"/>
                  <a:pt x="3612034" y="2583223"/>
                </a:cubicBezTo>
                <a:cubicBezTo>
                  <a:pt x="3660294" y="2552743"/>
                  <a:pt x="3744114" y="2363513"/>
                  <a:pt x="3825394" y="2263183"/>
                </a:cubicBezTo>
                <a:cubicBezTo>
                  <a:pt x="3906674" y="2162853"/>
                  <a:pt x="4026054" y="2020613"/>
                  <a:pt x="4099714" y="1981243"/>
                </a:cubicBezTo>
                <a:cubicBezTo>
                  <a:pt x="4173374" y="1941873"/>
                  <a:pt x="4161944" y="2071413"/>
                  <a:pt x="4267354" y="2026963"/>
                </a:cubicBezTo>
                <a:cubicBezTo>
                  <a:pt x="4372764" y="1982513"/>
                  <a:pt x="4648354" y="1775503"/>
                  <a:pt x="4732174" y="1714543"/>
                </a:cubicBezTo>
                <a:cubicBezTo>
                  <a:pt x="4815994" y="1653583"/>
                  <a:pt x="4747414" y="1672633"/>
                  <a:pt x="4770274" y="1661203"/>
                </a:cubicBezTo>
                <a:cubicBezTo>
                  <a:pt x="4793134" y="1649773"/>
                  <a:pt x="4706774" y="1648503"/>
                  <a:pt x="4869334" y="1645963"/>
                </a:cubicBezTo>
                <a:cubicBezTo>
                  <a:pt x="5031894" y="1643423"/>
                  <a:pt x="5602124" y="1658663"/>
                  <a:pt x="5745634" y="1645963"/>
                </a:cubicBezTo>
                <a:cubicBezTo>
                  <a:pt x="5889144" y="1633263"/>
                  <a:pt x="5792624" y="1546903"/>
                  <a:pt x="5730394" y="1531663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フリーフォーム 15"/>
          <p:cNvSpPr/>
          <p:nvPr/>
        </p:nvSpPr>
        <p:spPr>
          <a:xfrm>
            <a:off x="7354800" y="3089160"/>
            <a:ext cx="1428840" cy="2181240"/>
          </a:xfrm>
          <a:custGeom>
            <a:avLst/>
            <a:gdLst/>
            <a:ahLst/>
            <a:rect l="l" t="t" r="r" b="b"/>
            <a:pathLst>
              <a:path w="2850241" h="4720393">
                <a:moveTo>
                  <a:pt x="967906" y="4671628"/>
                </a:moveTo>
                <a:cubicBezTo>
                  <a:pt x="967906" y="4581458"/>
                  <a:pt x="1031406" y="4262688"/>
                  <a:pt x="1051726" y="4100128"/>
                </a:cubicBezTo>
                <a:cubicBezTo>
                  <a:pt x="1072046" y="3937568"/>
                  <a:pt x="1102526" y="3775008"/>
                  <a:pt x="1089826" y="3696268"/>
                </a:cubicBezTo>
                <a:cubicBezTo>
                  <a:pt x="1077126" y="3617528"/>
                  <a:pt x="1017436" y="3630228"/>
                  <a:pt x="975526" y="3627688"/>
                </a:cubicBezTo>
                <a:cubicBezTo>
                  <a:pt x="933616" y="3625148"/>
                  <a:pt x="875196" y="3669598"/>
                  <a:pt x="838366" y="3681028"/>
                </a:cubicBezTo>
                <a:cubicBezTo>
                  <a:pt x="801536" y="3692458"/>
                  <a:pt x="796456" y="3739448"/>
                  <a:pt x="754546" y="3696268"/>
                </a:cubicBezTo>
                <a:cubicBezTo>
                  <a:pt x="712636" y="3653088"/>
                  <a:pt x="627546" y="3484178"/>
                  <a:pt x="586906" y="3421948"/>
                </a:cubicBezTo>
                <a:cubicBezTo>
                  <a:pt x="546266" y="3359718"/>
                  <a:pt x="539916" y="3344478"/>
                  <a:pt x="510706" y="3322888"/>
                </a:cubicBezTo>
                <a:cubicBezTo>
                  <a:pt x="481496" y="3301298"/>
                  <a:pt x="412916" y="3349558"/>
                  <a:pt x="411646" y="3292408"/>
                </a:cubicBezTo>
                <a:cubicBezTo>
                  <a:pt x="410376" y="3235258"/>
                  <a:pt x="505626" y="3065078"/>
                  <a:pt x="503086" y="2979988"/>
                </a:cubicBezTo>
                <a:cubicBezTo>
                  <a:pt x="500546" y="2894898"/>
                  <a:pt x="456096" y="2864418"/>
                  <a:pt x="396406" y="2781868"/>
                </a:cubicBezTo>
                <a:cubicBezTo>
                  <a:pt x="336716" y="2699318"/>
                  <a:pt x="202096" y="2587558"/>
                  <a:pt x="144946" y="2484688"/>
                </a:cubicBezTo>
                <a:cubicBezTo>
                  <a:pt x="87796" y="2381818"/>
                  <a:pt x="19216" y="2215448"/>
                  <a:pt x="53506" y="2164648"/>
                </a:cubicBezTo>
                <a:cubicBezTo>
                  <a:pt x="87796" y="2113848"/>
                  <a:pt x="274486" y="2207828"/>
                  <a:pt x="350686" y="2179888"/>
                </a:cubicBezTo>
                <a:cubicBezTo>
                  <a:pt x="426886" y="2151948"/>
                  <a:pt x="542456" y="2087178"/>
                  <a:pt x="510706" y="1997008"/>
                </a:cubicBezTo>
                <a:cubicBezTo>
                  <a:pt x="478956" y="1906838"/>
                  <a:pt x="245276" y="1739198"/>
                  <a:pt x="160186" y="1638868"/>
                </a:cubicBezTo>
                <a:cubicBezTo>
                  <a:pt x="75096" y="1538538"/>
                  <a:pt x="5246" y="1452178"/>
                  <a:pt x="166" y="1395028"/>
                </a:cubicBezTo>
                <a:cubicBezTo>
                  <a:pt x="-4914" y="1337878"/>
                  <a:pt x="108116" y="1335338"/>
                  <a:pt x="129706" y="1295968"/>
                </a:cubicBezTo>
                <a:cubicBezTo>
                  <a:pt x="151296" y="1256598"/>
                  <a:pt x="130976" y="1221038"/>
                  <a:pt x="129706" y="1158808"/>
                </a:cubicBezTo>
                <a:cubicBezTo>
                  <a:pt x="128436" y="1096578"/>
                  <a:pt x="105576" y="983548"/>
                  <a:pt x="122086" y="922588"/>
                </a:cubicBezTo>
                <a:cubicBezTo>
                  <a:pt x="138596" y="861628"/>
                  <a:pt x="157646" y="780348"/>
                  <a:pt x="228766" y="793048"/>
                </a:cubicBezTo>
                <a:cubicBezTo>
                  <a:pt x="299886" y="805748"/>
                  <a:pt x="448476" y="986088"/>
                  <a:pt x="548806" y="998788"/>
                </a:cubicBezTo>
                <a:cubicBezTo>
                  <a:pt x="649136" y="1011488"/>
                  <a:pt x="781216" y="965768"/>
                  <a:pt x="830746" y="869248"/>
                </a:cubicBezTo>
                <a:cubicBezTo>
                  <a:pt x="880276" y="772728"/>
                  <a:pt x="826936" y="514918"/>
                  <a:pt x="845986" y="419668"/>
                </a:cubicBezTo>
                <a:cubicBezTo>
                  <a:pt x="865036" y="324418"/>
                  <a:pt x="917106" y="339658"/>
                  <a:pt x="945046" y="297748"/>
                </a:cubicBezTo>
                <a:cubicBezTo>
                  <a:pt x="972986" y="255838"/>
                  <a:pt x="966636" y="168208"/>
                  <a:pt x="1013626" y="168208"/>
                </a:cubicBezTo>
                <a:cubicBezTo>
                  <a:pt x="1060616" y="168208"/>
                  <a:pt x="1160946" y="285048"/>
                  <a:pt x="1226986" y="297748"/>
                </a:cubicBezTo>
                <a:cubicBezTo>
                  <a:pt x="1293026" y="310448"/>
                  <a:pt x="1361606" y="272348"/>
                  <a:pt x="1409866" y="244408"/>
                </a:cubicBezTo>
                <a:cubicBezTo>
                  <a:pt x="1458126" y="216468"/>
                  <a:pt x="1455586" y="170748"/>
                  <a:pt x="1516546" y="130108"/>
                </a:cubicBezTo>
                <a:cubicBezTo>
                  <a:pt x="1577506" y="89468"/>
                  <a:pt x="1729906" y="-8322"/>
                  <a:pt x="1775626" y="568"/>
                </a:cubicBezTo>
                <a:cubicBezTo>
                  <a:pt x="1821346" y="9458"/>
                  <a:pt x="1776896" y="152968"/>
                  <a:pt x="1790866" y="183448"/>
                </a:cubicBezTo>
                <a:cubicBezTo>
                  <a:pt x="1804836" y="213928"/>
                  <a:pt x="1842936" y="128838"/>
                  <a:pt x="1859446" y="183448"/>
                </a:cubicBezTo>
                <a:cubicBezTo>
                  <a:pt x="1875956" y="238058"/>
                  <a:pt x="1820076" y="447608"/>
                  <a:pt x="1889926" y="511108"/>
                </a:cubicBezTo>
                <a:cubicBezTo>
                  <a:pt x="1959776" y="574608"/>
                  <a:pt x="2220126" y="528888"/>
                  <a:pt x="2278546" y="564448"/>
                </a:cubicBezTo>
                <a:cubicBezTo>
                  <a:pt x="2336966" y="600008"/>
                  <a:pt x="2248066" y="671128"/>
                  <a:pt x="2240446" y="724468"/>
                </a:cubicBezTo>
                <a:cubicBezTo>
                  <a:pt x="2232826" y="777808"/>
                  <a:pt x="2237906" y="837498"/>
                  <a:pt x="2232826" y="884488"/>
                </a:cubicBezTo>
                <a:cubicBezTo>
                  <a:pt x="2227746" y="931478"/>
                  <a:pt x="2230286" y="964498"/>
                  <a:pt x="2209966" y="1006408"/>
                </a:cubicBezTo>
                <a:cubicBezTo>
                  <a:pt x="2189646" y="1048318"/>
                  <a:pt x="2132496" y="1080068"/>
                  <a:pt x="2110906" y="1135948"/>
                </a:cubicBezTo>
                <a:cubicBezTo>
                  <a:pt x="2089316" y="1191828"/>
                  <a:pt x="2098206" y="1294698"/>
                  <a:pt x="2080426" y="1341688"/>
                </a:cubicBezTo>
                <a:cubicBezTo>
                  <a:pt x="2062646" y="1388678"/>
                  <a:pt x="2006766" y="1392488"/>
                  <a:pt x="2004226" y="1417888"/>
                </a:cubicBezTo>
                <a:cubicBezTo>
                  <a:pt x="2001686" y="1443288"/>
                  <a:pt x="1978826" y="1461068"/>
                  <a:pt x="2065186" y="1494088"/>
                </a:cubicBezTo>
                <a:cubicBezTo>
                  <a:pt x="2151546" y="1527108"/>
                  <a:pt x="2391576" y="1603308"/>
                  <a:pt x="2522386" y="1616008"/>
                </a:cubicBezTo>
                <a:cubicBezTo>
                  <a:pt x="2653196" y="1628708"/>
                  <a:pt x="2842426" y="1534728"/>
                  <a:pt x="2850046" y="1570288"/>
                </a:cubicBezTo>
                <a:cubicBezTo>
                  <a:pt x="2857666" y="1605848"/>
                  <a:pt x="2640496" y="1734118"/>
                  <a:pt x="2568106" y="1829368"/>
                </a:cubicBezTo>
                <a:cubicBezTo>
                  <a:pt x="2495716" y="1924618"/>
                  <a:pt x="2527466" y="2071938"/>
                  <a:pt x="2415706" y="2141788"/>
                </a:cubicBezTo>
                <a:cubicBezTo>
                  <a:pt x="2303946" y="2211638"/>
                  <a:pt x="1995336" y="2202748"/>
                  <a:pt x="1897546" y="2248468"/>
                </a:cubicBezTo>
                <a:cubicBezTo>
                  <a:pt x="1799756" y="2294188"/>
                  <a:pt x="1770546" y="2364038"/>
                  <a:pt x="1828966" y="2416108"/>
                </a:cubicBezTo>
                <a:cubicBezTo>
                  <a:pt x="1887386" y="2468178"/>
                  <a:pt x="2272196" y="2475798"/>
                  <a:pt x="2248066" y="2560888"/>
                </a:cubicBezTo>
                <a:cubicBezTo>
                  <a:pt x="2223936" y="2645978"/>
                  <a:pt x="1797216" y="2841558"/>
                  <a:pt x="1684186" y="2926648"/>
                </a:cubicBezTo>
                <a:cubicBezTo>
                  <a:pt x="1571156" y="3011738"/>
                  <a:pt x="1567346" y="3033328"/>
                  <a:pt x="1569886" y="3071428"/>
                </a:cubicBezTo>
                <a:cubicBezTo>
                  <a:pt x="1572426" y="3109528"/>
                  <a:pt x="1718476" y="3098098"/>
                  <a:pt x="1699426" y="3155248"/>
                </a:cubicBezTo>
                <a:cubicBezTo>
                  <a:pt x="1680376" y="3212398"/>
                  <a:pt x="1508926" y="3343208"/>
                  <a:pt x="1455586" y="3414328"/>
                </a:cubicBezTo>
                <a:cubicBezTo>
                  <a:pt x="1402246" y="3485448"/>
                  <a:pt x="1408596" y="3518468"/>
                  <a:pt x="1379386" y="3581968"/>
                </a:cubicBezTo>
                <a:cubicBezTo>
                  <a:pt x="1350176" y="3645468"/>
                  <a:pt x="1318426" y="3739448"/>
                  <a:pt x="1280326" y="3795328"/>
                </a:cubicBezTo>
                <a:cubicBezTo>
                  <a:pt x="1242226" y="3851208"/>
                  <a:pt x="1182536" y="3839778"/>
                  <a:pt x="1150786" y="3917248"/>
                </a:cubicBezTo>
                <a:cubicBezTo>
                  <a:pt x="1119036" y="3994718"/>
                  <a:pt x="1106336" y="4139498"/>
                  <a:pt x="1089826" y="4260148"/>
                </a:cubicBezTo>
                <a:cubicBezTo>
                  <a:pt x="1073316" y="4380798"/>
                  <a:pt x="1072046" y="4570028"/>
                  <a:pt x="1051726" y="4641148"/>
                </a:cubicBezTo>
                <a:cubicBezTo>
                  <a:pt x="1031406" y="4712268"/>
                  <a:pt x="967906" y="4761798"/>
                  <a:pt x="967906" y="4671628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フリーフォーム 16"/>
          <p:cNvSpPr/>
          <p:nvPr/>
        </p:nvSpPr>
        <p:spPr>
          <a:xfrm>
            <a:off x="8056440" y="4437000"/>
            <a:ext cx="1663920" cy="1629000"/>
          </a:xfrm>
          <a:custGeom>
            <a:avLst/>
            <a:gdLst/>
            <a:ahLst/>
            <a:rect l="l" t="t" r="r" b="b"/>
            <a:pathLst>
              <a:path w="1534855" h="1629107">
                <a:moveTo>
                  <a:pt x="1031649" y="13471"/>
                </a:moveTo>
                <a:cubicBezTo>
                  <a:pt x="955449" y="36331"/>
                  <a:pt x="730236" y="133698"/>
                  <a:pt x="650649" y="155711"/>
                </a:cubicBezTo>
                <a:cubicBezTo>
                  <a:pt x="571062" y="177724"/>
                  <a:pt x="596462" y="131158"/>
                  <a:pt x="554129" y="145551"/>
                </a:cubicBezTo>
                <a:cubicBezTo>
                  <a:pt x="511796" y="159944"/>
                  <a:pt x="437289" y="207358"/>
                  <a:pt x="396649" y="242071"/>
                </a:cubicBezTo>
                <a:cubicBezTo>
                  <a:pt x="356009" y="276784"/>
                  <a:pt x="363629" y="308958"/>
                  <a:pt x="310289" y="353831"/>
                </a:cubicBezTo>
                <a:cubicBezTo>
                  <a:pt x="256949" y="398704"/>
                  <a:pt x="128256" y="462204"/>
                  <a:pt x="76609" y="511311"/>
                </a:cubicBezTo>
                <a:cubicBezTo>
                  <a:pt x="24962" y="560418"/>
                  <a:pt x="-3824" y="631538"/>
                  <a:pt x="409" y="648471"/>
                </a:cubicBezTo>
                <a:cubicBezTo>
                  <a:pt x="4642" y="665404"/>
                  <a:pt x="84229" y="606984"/>
                  <a:pt x="102009" y="612911"/>
                </a:cubicBezTo>
                <a:cubicBezTo>
                  <a:pt x="119789" y="618838"/>
                  <a:pt x="76609" y="678951"/>
                  <a:pt x="107089" y="684031"/>
                </a:cubicBezTo>
                <a:cubicBezTo>
                  <a:pt x="137569" y="689111"/>
                  <a:pt x="277269" y="609524"/>
                  <a:pt x="284889" y="643391"/>
                </a:cubicBezTo>
                <a:cubicBezTo>
                  <a:pt x="292509" y="677258"/>
                  <a:pt x="186676" y="826271"/>
                  <a:pt x="152809" y="887231"/>
                </a:cubicBezTo>
                <a:cubicBezTo>
                  <a:pt x="118942" y="948191"/>
                  <a:pt x="84229" y="985444"/>
                  <a:pt x="81689" y="1009151"/>
                </a:cubicBezTo>
                <a:cubicBezTo>
                  <a:pt x="79149" y="1032858"/>
                  <a:pt x="138416" y="987984"/>
                  <a:pt x="137569" y="1029471"/>
                </a:cubicBezTo>
                <a:cubicBezTo>
                  <a:pt x="136722" y="1070958"/>
                  <a:pt x="83382" y="1207271"/>
                  <a:pt x="76609" y="1258071"/>
                </a:cubicBezTo>
                <a:cubicBezTo>
                  <a:pt x="69836" y="1308871"/>
                  <a:pt x="84229" y="1302944"/>
                  <a:pt x="96929" y="1334271"/>
                </a:cubicBezTo>
                <a:cubicBezTo>
                  <a:pt x="109629" y="1365598"/>
                  <a:pt x="116402" y="1456191"/>
                  <a:pt x="152809" y="1446031"/>
                </a:cubicBezTo>
                <a:cubicBezTo>
                  <a:pt x="189216" y="1435871"/>
                  <a:pt x="279809" y="1285164"/>
                  <a:pt x="315369" y="1273311"/>
                </a:cubicBezTo>
                <a:cubicBezTo>
                  <a:pt x="350929" y="1261458"/>
                  <a:pt x="320449" y="1401158"/>
                  <a:pt x="366169" y="1374911"/>
                </a:cubicBezTo>
                <a:cubicBezTo>
                  <a:pt x="411889" y="1348664"/>
                  <a:pt x="543122" y="1161551"/>
                  <a:pt x="589689" y="1115831"/>
                </a:cubicBezTo>
                <a:cubicBezTo>
                  <a:pt x="636256" y="1070111"/>
                  <a:pt x="637102" y="1065878"/>
                  <a:pt x="645569" y="1100591"/>
                </a:cubicBezTo>
                <a:cubicBezTo>
                  <a:pt x="654036" y="1135304"/>
                  <a:pt x="641336" y="1275004"/>
                  <a:pt x="640489" y="1324111"/>
                </a:cubicBezTo>
                <a:cubicBezTo>
                  <a:pt x="639642" y="1373218"/>
                  <a:pt x="634562" y="1386764"/>
                  <a:pt x="640489" y="1395231"/>
                </a:cubicBezTo>
                <a:cubicBezTo>
                  <a:pt x="646416" y="1403698"/>
                  <a:pt x="663349" y="1357978"/>
                  <a:pt x="676049" y="1374911"/>
                </a:cubicBezTo>
                <a:cubicBezTo>
                  <a:pt x="688749" y="1391844"/>
                  <a:pt x="697216" y="1454498"/>
                  <a:pt x="716689" y="1496831"/>
                </a:cubicBezTo>
                <a:cubicBezTo>
                  <a:pt x="736162" y="1539164"/>
                  <a:pt x="765796" y="1633991"/>
                  <a:pt x="792889" y="1628911"/>
                </a:cubicBezTo>
                <a:cubicBezTo>
                  <a:pt x="819982" y="1623831"/>
                  <a:pt x="848769" y="1481591"/>
                  <a:pt x="879249" y="1466351"/>
                </a:cubicBezTo>
                <a:cubicBezTo>
                  <a:pt x="909729" y="1451111"/>
                  <a:pt x="948676" y="1558638"/>
                  <a:pt x="975769" y="1537471"/>
                </a:cubicBezTo>
                <a:cubicBezTo>
                  <a:pt x="1002862" y="1516304"/>
                  <a:pt x="1018949" y="1361364"/>
                  <a:pt x="1041809" y="1339351"/>
                </a:cubicBezTo>
                <a:cubicBezTo>
                  <a:pt x="1064669" y="1317338"/>
                  <a:pt x="1085836" y="1446031"/>
                  <a:pt x="1112929" y="1405391"/>
                </a:cubicBezTo>
                <a:cubicBezTo>
                  <a:pt x="1140022" y="1364751"/>
                  <a:pt x="1160342" y="1141231"/>
                  <a:pt x="1204369" y="1095511"/>
                </a:cubicBezTo>
                <a:cubicBezTo>
                  <a:pt x="1248396" y="1049791"/>
                  <a:pt x="1337296" y="1155624"/>
                  <a:pt x="1377089" y="1131071"/>
                </a:cubicBezTo>
                <a:cubicBezTo>
                  <a:pt x="1416882" y="1106518"/>
                  <a:pt x="1419422" y="978671"/>
                  <a:pt x="1443129" y="948191"/>
                </a:cubicBezTo>
                <a:cubicBezTo>
                  <a:pt x="1466836" y="917711"/>
                  <a:pt x="1515942" y="973591"/>
                  <a:pt x="1519329" y="948191"/>
                </a:cubicBezTo>
                <a:cubicBezTo>
                  <a:pt x="1522716" y="922791"/>
                  <a:pt x="1460909" y="826271"/>
                  <a:pt x="1463449" y="795791"/>
                </a:cubicBezTo>
                <a:cubicBezTo>
                  <a:pt x="1465989" y="765311"/>
                  <a:pt x="1530336" y="793251"/>
                  <a:pt x="1534569" y="765311"/>
                </a:cubicBezTo>
                <a:cubicBezTo>
                  <a:pt x="1538802" y="737371"/>
                  <a:pt x="1494776" y="673024"/>
                  <a:pt x="1488849" y="628151"/>
                </a:cubicBezTo>
                <a:cubicBezTo>
                  <a:pt x="1482922" y="583278"/>
                  <a:pt x="1525256" y="553644"/>
                  <a:pt x="1499009" y="496071"/>
                </a:cubicBezTo>
                <a:cubicBezTo>
                  <a:pt x="1472762" y="438498"/>
                  <a:pt x="1383016" y="345364"/>
                  <a:pt x="1331369" y="282711"/>
                </a:cubicBezTo>
                <a:cubicBezTo>
                  <a:pt x="1279722" y="220058"/>
                  <a:pt x="1226382" y="164178"/>
                  <a:pt x="1189129" y="120151"/>
                </a:cubicBezTo>
                <a:cubicBezTo>
                  <a:pt x="1151876" y="76124"/>
                  <a:pt x="1135789" y="37178"/>
                  <a:pt x="1107849" y="18551"/>
                </a:cubicBezTo>
                <a:cubicBezTo>
                  <a:pt x="1079909" y="-76"/>
                  <a:pt x="1107849" y="-9389"/>
                  <a:pt x="1031649" y="13471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フリーフォーム 17"/>
          <p:cNvSpPr/>
          <p:nvPr/>
        </p:nvSpPr>
        <p:spPr>
          <a:xfrm>
            <a:off x="6073920" y="225360"/>
            <a:ext cx="2162160" cy="689040"/>
          </a:xfrm>
          <a:custGeom>
            <a:avLst/>
            <a:gdLst/>
            <a:ahLst/>
            <a:rect l="l" t="t" r="r" b="b"/>
            <a:pathLst>
              <a:path w="2545080" h="877808">
                <a:moveTo>
                  <a:pt x="1676400" y="393306"/>
                </a:moveTo>
                <a:cubicBezTo>
                  <a:pt x="1584325" y="327901"/>
                  <a:pt x="1445895" y="224396"/>
                  <a:pt x="1337310" y="168516"/>
                </a:cubicBezTo>
                <a:cubicBezTo>
                  <a:pt x="1228725" y="112636"/>
                  <a:pt x="1125220" y="85966"/>
                  <a:pt x="1024890" y="58026"/>
                </a:cubicBezTo>
                <a:cubicBezTo>
                  <a:pt x="924560" y="30086"/>
                  <a:pt x="850265" y="-6109"/>
                  <a:pt x="735330" y="876"/>
                </a:cubicBezTo>
                <a:cubicBezTo>
                  <a:pt x="620395" y="7861"/>
                  <a:pt x="457835" y="26276"/>
                  <a:pt x="335280" y="99936"/>
                </a:cubicBezTo>
                <a:cubicBezTo>
                  <a:pt x="212725" y="173596"/>
                  <a:pt x="34290" y="361556"/>
                  <a:pt x="0" y="442836"/>
                </a:cubicBezTo>
                <a:cubicBezTo>
                  <a:pt x="30480" y="527926"/>
                  <a:pt x="64770" y="527926"/>
                  <a:pt x="129540" y="587616"/>
                </a:cubicBezTo>
                <a:cubicBezTo>
                  <a:pt x="194310" y="647306"/>
                  <a:pt x="281940" y="752716"/>
                  <a:pt x="388620" y="800976"/>
                </a:cubicBezTo>
                <a:cubicBezTo>
                  <a:pt x="495300" y="849236"/>
                  <a:pt x="615950" y="882891"/>
                  <a:pt x="769620" y="877176"/>
                </a:cubicBezTo>
                <a:cubicBezTo>
                  <a:pt x="923290" y="871461"/>
                  <a:pt x="1159510" y="835901"/>
                  <a:pt x="1310640" y="766686"/>
                </a:cubicBezTo>
                <a:cubicBezTo>
                  <a:pt x="1461770" y="697471"/>
                  <a:pt x="1564640" y="499351"/>
                  <a:pt x="1676400" y="461886"/>
                </a:cubicBezTo>
                <a:cubicBezTo>
                  <a:pt x="1788160" y="424421"/>
                  <a:pt x="1893570" y="497446"/>
                  <a:pt x="2004060" y="530466"/>
                </a:cubicBezTo>
                <a:cubicBezTo>
                  <a:pt x="2114550" y="563486"/>
                  <a:pt x="2258060" y="626986"/>
                  <a:pt x="2339340" y="660006"/>
                </a:cubicBezTo>
                <a:cubicBezTo>
                  <a:pt x="2420620" y="693026"/>
                  <a:pt x="2457450" y="730491"/>
                  <a:pt x="2491740" y="728586"/>
                </a:cubicBezTo>
                <a:cubicBezTo>
                  <a:pt x="2526030" y="726681"/>
                  <a:pt x="2545080" y="669531"/>
                  <a:pt x="2545080" y="648576"/>
                </a:cubicBezTo>
                <a:cubicBezTo>
                  <a:pt x="2545080" y="627621"/>
                  <a:pt x="2508250" y="605396"/>
                  <a:pt x="2491740" y="602856"/>
                </a:cubicBezTo>
                <a:cubicBezTo>
                  <a:pt x="2475230" y="600316"/>
                  <a:pt x="2527300" y="655561"/>
                  <a:pt x="2446020" y="633336"/>
                </a:cubicBezTo>
                <a:cubicBezTo>
                  <a:pt x="2364740" y="611111"/>
                  <a:pt x="2132330" y="509511"/>
                  <a:pt x="2004060" y="469506"/>
                </a:cubicBezTo>
                <a:cubicBezTo>
                  <a:pt x="1875790" y="429501"/>
                  <a:pt x="1753235" y="393941"/>
                  <a:pt x="1676400" y="393306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フリーフォーム 18"/>
          <p:cNvSpPr/>
          <p:nvPr/>
        </p:nvSpPr>
        <p:spPr>
          <a:xfrm>
            <a:off x="6540480" y="1344600"/>
            <a:ext cx="1441440" cy="855720"/>
          </a:xfrm>
          <a:custGeom>
            <a:avLst/>
            <a:gdLst/>
            <a:ahLst/>
            <a:rect l="l" t="t" r="r" b="b"/>
            <a:pathLst>
              <a:path w="1694411" h="1090756">
                <a:moveTo>
                  <a:pt x="1683236" y="1044886"/>
                </a:moveTo>
                <a:cubicBezTo>
                  <a:pt x="1653603" y="1016099"/>
                  <a:pt x="1529143" y="960219"/>
                  <a:pt x="1485116" y="917886"/>
                </a:cubicBezTo>
                <a:cubicBezTo>
                  <a:pt x="1441089" y="875553"/>
                  <a:pt x="1458023" y="869626"/>
                  <a:pt x="1419076" y="790886"/>
                </a:cubicBezTo>
                <a:cubicBezTo>
                  <a:pt x="1380129" y="712146"/>
                  <a:pt x="1335256" y="555513"/>
                  <a:pt x="1251436" y="445446"/>
                </a:cubicBezTo>
                <a:cubicBezTo>
                  <a:pt x="1167616" y="335379"/>
                  <a:pt x="1045696" y="204146"/>
                  <a:pt x="916156" y="130486"/>
                </a:cubicBezTo>
                <a:cubicBezTo>
                  <a:pt x="786616" y="56826"/>
                  <a:pt x="610509" y="18726"/>
                  <a:pt x="474196" y="3486"/>
                </a:cubicBezTo>
                <a:cubicBezTo>
                  <a:pt x="337883" y="-11754"/>
                  <a:pt x="177016" y="27193"/>
                  <a:pt x="98276" y="39046"/>
                </a:cubicBezTo>
                <a:cubicBezTo>
                  <a:pt x="19536" y="50899"/>
                  <a:pt x="-7557" y="5179"/>
                  <a:pt x="1756" y="74606"/>
                </a:cubicBezTo>
                <a:cubicBezTo>
                  <a:pt x="11069" y="144033"/>
                  <a:pt x="65256" y="335379"/>
                  <a:pt x="154156" y="455606"/>
                </a:cubicBezTo>
                <a:cubicBezTo>
                  <a:pt x="243056" y="575833"/>
                  <a:pt x="420856" y="718073"/>
                  <a:pt x="535156" y="795966"/>
                </a:cubicBezTo>
                <a:cubicBezTo>
                  <a:pt x="649456" y="873859"/>
                  <a:pt x="775609" y="895026"/>
                  <a:pt x="839956" y="922966"/>
                </a:cubicBezTo>
                <a:cubicBezTo>
                  <a:pt x="904303" y="950906"/>
                  <a:pt x="905996" y="949213"/>
                  <a:pt x="921236" y="963606"/>
                </a:cubicBezTo>
                <a:cubicBezTo>
                  <a:pt x="936476" y="977999"/>
                  <a:pt x="885676" y="1007633"/>
                  <a:pt x="931396" y="1009326"/>
                </a:cubicBezTo>
                <a:cubicBezTo>
                  <a:pt x="977116" y="1011019"/>
                  <a:pt x="1110043" y="979693"/>
                  <a:pt x="1195556" y="973766"/>
                </a:cubicBezTo>
                <a:cubicBezTo>
                  <a:pt x="1281069" y="967839"/>
                  <a:pt x="1374203" y="959373"/>
                  <a:pt x="1444476" y="973766"/>
                </a:cubicBezTo>
                <a:cubicBezTo>
                  <a:pt x="1514749" y="988159"/>
                  <a:pt x="1580789" y="1040653"/>
                  <a:pt x="1617196" y="1060126"/>
                </a:cubicBezTo>
                <a:cubicBezTo>
                  <a:pt x="1653603" y="1079599"/>
                  <a:pt x="1650216" y="1092299"/>
                  <a:pt x="1662916" y="1090606"/>
                </a:cubicBezTo>
                <a:cubicBezTo>
                  <a:pt x="1675616" y="1088913"/>
                  <a:pt x="1712869" y="1073673"/>
                  <a:pt x="1683236" y="1044886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フリーフォーム 19"/>
          <p:cNvSpPr/>
          <p:nvPr/>
        </p:nvSpPr>
        <p:spPr>
          <a:xfrm>
            <a:off x="5027760" y="1096920"/>
            <a:ext cx="1535040" cy="812880"/>
          </a:xfrm>
          <a:custGeom>
            <a:avLst/>
            <a:gdLst/>
            <a:ahLst/>
            <a:rect l="l" t="t" r="r" b="b"/>
            <a:pathLst>
              <a:path w="1806556" h="1036125">
                <a:moveTo>
                  <a:pt x="1704812" y="19567"/>
                </a:moveTo>
                <a:cubicBezTo>
                  <a:pt x="1650625" y="39887"/>
                  <a:pt x="1562572" y="110160"/>
                  <a:pt x="1471132" y="126247"/>
                </a:cubicBezTo>
                <a:cubicBezTo>
                  <a:pt x="1379692" y="142334"/>
                  <a:pt x="1298412" y="98307"/>
                  <a:pt x="1156172" y="116087"/>
                </a:cubicBezTo>
                <a:cubicBezTo>
                  <a:pt x="1013932" y="133867"/>
                  <a:pt x="765012" y="178740"/>
                  <a:pt x="617692" y="232927"/>
                </a:cubicBezTo>
                <a:cubicBezTo>
                  <a:pt x="470372" y="287114"/>
                  <a:pt x="316279" y="397180"/>
                  <a:pt x="272252" y="441207"/>
                </a:cubicBezTo>
                <a:cubicBezTo>
                  <a:pt x="228225" y="485234"/>
                  <a:pt x="335752" y="469994"/>
                  <a:pt x="353532" y="497087"/>
                </a:cubicBezTo>
                <a:cubicBezTo>
                  <a:pt x="371312" y="524180"/>
                  <a:pt x="394172" y="578367"/>
                  <a:pt x="378932" y="603767"/>
                </a:cubicBezTo>
                <a:cubicBezTo>
                  <a:pt x="363692" y="629167"/>
                  <a:pt x="289185" y="658800"/>
                  <a:pt x="262092" y="649487"/>
                </a:cubicBezTo>
                <a:cubicBezTo>
                  <a:pt x="234999" y="640174"/>
                  <a:pt x="237539" y="541960"/>
                  <a:pt x="216372" y="547887"/>
                </a:cubicBezTo>
                <a:cubicBezTo>
                  <a:pt x="195205" y="553814"/>
                  <a:pt x="158799" y="635940"/>
                  <a:pt x="135092" y="685047"/>
                </a:cubicBezTo>
                <a:cubicBezTo>
                  <a:pt x="111385" y="734154"/>
                  <a:pt x="94452" y="800194"/>
                  <a:pt x="74132" y="842527"/>
                </a:cubicBezTo>
                <a:cubicBezTo>
                  <a:pt x="53812" y="884860"/>
                  <a:pt x="-32548" y="911954"/>
                  <a:pt x="13172" y="939047"/>
                </a:cubicBezTo>
                <a:cubicBezTo>
                  <a:pt x="58892" y="966140"/>
                  <a:pt x="240079" y="990694"/>
                  <a:pt x="348452" y="1005087"/>
                </a:cubicBezTo>
                <a:cubicBezTo>
                  <a:pt x="456825" y="1019480"/>
                  <a:pt x="537259" y="1053347"/>
                  <a:pt x="663412" y="1025407"/>
                </a:cubicBezTo>
                <a:cubicBezTo>
                  <a:pt x="789565" y="997467"/>
                  <a:pt x="992765" y="909414"/>
                  <a:pt x="1105372" y="837447"/>
                </a:cubicBezTo>
                <a:cubicBezTo>
                  <a:pt x="1217979" y="765480"/>
                  <a:pt x="1267085" y="677427"/>
                  <a:pt x="1339052" y="593607"/>
                </a:cubicBezTo>
                <a:cubicBezTo>
                  <a:pt x="1411019" y="509787"/>
                  <a:pt x="1495685" y="409880"/>
                  <a:pt x="1537172" y="334527"/>
                </a:cubicBezTo>
                <a:cubicBezTo>
                  <a:pt x="1578659" y="259174"/>
                  <a:pt x="1547332" y="185514"/>
                  <a:pt x="1587972" y="141487"/>
                </a:cubicBezTo>
                <a:cubicBezTo>
                  <a:pt x="1628612" y="97460"/>
                  <a:pt x="1746299" y="93227"/>
                  <a:pt x="1781012" y="70367"/>
                </a:cubicBezTo>
                <a:cubicBezTo>
                  <a:pt x="1815725" y="47507"/>
                  <a:pt x="1808952" y="12794"/>
                  <a:pt x="1796252" y="4327"/>
                </a:cubicBezTo>
                <a:cubicBezTo>
                  <a:pt x="1783552" y="-4140"/>
                  <a:pt x="1758999" y="-753"/>
                  <a:pt x="1704812" y="19567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フリーフォーム 20"/>
          <p:cNvSpPr/>
          <p:nvPr/>
        </p:nvSpPr>
        <p:spPr>
          <a:xfrm>
            <a:off x="8327880" y="225360"/>
            <a:ext cx="1425600" cy="1123920"/>
          </a:xfrm>
          <a:custGeom>
            <a:avLst/>
            <a:gdLst/>
            <a:ahLst/>
            <a:rect l="l" t="t" r="r" b="b"/>
            <a:pathLst>
              <a:path w="1677372" h="1433876">
                <a:moveTo>
                  <a:pt x="1187910" y="1227"/>
                </a:moveTo>
                <a:cubicBezTo>
                  <a:pt x="1120177" y="4614"/>
                  <a:pt x="961850" y="11387"/>
                  <a:pt x="857710" y="52027"/>
                </a:cubicBezTo>
                <a:cubicBezTo>
                  <a:pt x="753570" y="92667"/>
                  <a:pt x="663823" y="184954"/>
                  <a:pt x="563070" y="245067"/>
                </a:cubicBezTo>
                <a:cubicBezTo>
                  <a:pt x="462317" y="305180"/>
                  <a:pt x="318383" y="312800"/>
                  <a:pt x="253190" y="412707"/>
                </a:cubicBezTo>
                <a:cubicBezTo>
                  <a:pt x="187997" y="512614"/>
                  <a:pt x="198157" y="731054"/>
                  <a:pt x="171910" y="844507"/>
                </a:cubicBezTo>
                <a:cubicBezTo>
                  <a:pt x="145663" y="957960"/>
                  <a:pt x="108410" y="1021460"/>
                  <a:pt x="95710" y="1093427"/>
                </a:cubicBezTo>
                <a:cubicBezTo>
                  <a:pt x="83010" y="1165394"/>
                  <a:pt x="110103" y="1219580"/>
                  <a:pt x="95710" y="1276307"/>
                </a:cubicBezTo>
                <a:cubicBezTo>
                  <a:pt x="81317" y="1333034"/>
                  <a:pt x="-32983" y="1430400"/>
                  <a:pt x="9350" y="1433787"/>
                </a:cubicBezTo>
                <a:cubicBezTo>
                  <a:pt x="51683" y="1437174"/>
                  <a:pt x="226097" y="1344040"/>
                  <a:pt x="349710" y="1296627"/>
                </a:cubicBezTo>
                <a:cubicBezTo>
                  <a:pt x="473323" y="1249214"/>
                  <a:pt x="644350" y="1193334"/>
                  <a:pt x="751030" y="1149307"/>
                </a:cubicBezTo>
                <a:cubicBezTo>
                  <a:pt x="857710" y="1105280"/>
                  <a:pt x="891577" y="1066334"/>
                  <a:pt x="989790" y="1032467"/>
                </a:cubicBezTo>
                <a:cubicBezTo>
                  <a:pt x="1088003" y="998600"/>
                  <a:pt x="1244637" y="1001987"/>
                  <a:pt x="1340310" y="946107"/>
                </a:cubicBezTo>
                <a:cubicBezTo>
                  <a:pt x="1435983" y="890227"/>
                  <a:pt x="1508797" y="786087"/>
                  <a:pt x="1563830" y="697187"/>
                </a:cubicBezTo>
                <a:cubicBezTo>
                  <a:pt x="1618863" y="608287"/>
                  <a:pt x="1701837" y="477900"/>
                  <a:pt x="1670510" y="412707"/>
                </a:cubicBezTo>
                <a:cubicBezTo>
                  <a:pt x="1639183" y="347514"/>
                  <a:pt x="1432597" y="342434"/>
                  <a:pt x="1375870" y="306027"/>
                </a:cubicBezTo>
                <a:cubicBezTo>
                  <a:pt x="1319143" y="269620"/>
                  <a:pt x="1330150" y="194267"/>
                  <a:pt x="1330150" y="194267"/>
                </a:cubicBezTo>
                <a:cubicBezTo>
                  <a:pt x="1311523" y="148547"/>
                  <a:pt x="1289510" y="63880"/>
                  <a:pt x="1264110" y="31707"/>
                </a:cubicBezTo>
                <a:cubicBezTo>
                  <a:pt x="1238710" y="-466"/>
                  <a:pt x="1255643" y="-2160"/>
                  <a:pt x="1187910" y="1227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フリーフォーム 21"/>
          <p:cNvSpPr/>
          <p:nvPr/>
        </p:nvSpPr>
        <p:spPr>
          <a:xfrm>
            <a:off x="8089920" y="1434960"/>
            <a:ext cx="1127160" cy="897120"/>
          </a:xfrm>
          <a:custGeom>
            <a:avLst/>
            <a:gdLst/>
            <a:ahLst/>
            <a:rect l="l" t="t" r="r" b="b"/>
            <a:pathLst>
              <a:path w="899166" h="776412">
                <a:moveTo>
                  <a:pt x="4962" y="734736"/>
                </a:moveTo>
                <a:cubicBezTo>
                  <a:pt x="19779" y="717062"/>
                  <a:pt x="95132" y="689016"/>
                  <a:pt x="123707" y="669331"/>
                </a:cubicBezTo>
                <a:cubicBezTo>
                  <a:pt x="116087" y="617261"/>
                  <a:pt x="86877" y="564662"/>
                  <a:pt x="90687" y="475656"/>
                </a:cubicBezTo>
                <a:cubicBezTo>
                  <a:pt x="94497" y="386650"/>
                  <a:pt x="102540" y="214036"/>
                  <a:pt x="146567" y="135296"/>
                </a:cubicBezTo>
                <a:cubicBezTo>
                  <a:pt x="190594" y="56556"/>
                  <a:pt x="249014" y="17609"/>
                  <a:pt x="354847" y="3216"/>
                </a:cubicBezTo>
                <a:cubicBezTo>
                  <a:pt x="460680" y="-11177"/>
                  <a:pt x="695207" y="26076"/>
                  <a:pt x="781567" y="48936"/>
                </a:cubicBezTo>
                <a:cubicBezTo>
                  <a:pt x="867927" y="71796"/>
                  <a:pt x="853534" y="108203"/>
                  <a:pt x="873007" y="140376"/>
                </a:cubicBezTo>
                <a:cubicBezTo>
                  <a:pt x="892480" y="172549"/>
                  <a:pt x="898407" y="175089"/>
                  <a:pt x="898407" y="241976"/>
                </a:cubicBezTo>
                <a:cubicBezTo>
                  <a:pt x="898407" y="308863"/>
                  <a:pt x="906027" y="466343"/>
                  <a:pt x="873007" y="541696"/>
                </a:cubicBezTo>
                <a:cubicBezTo>
                  <a:pt x="839987" y="617049"/>
                  <a:pt x="764634" y="657689"/>
                  <a:pt x="700287" y="694096"/>
                </a:cubicBezTo>
                <a:cubicBezTo>
                  <a:pt x="635940" y="730503"/>
                  <a:pt x="568207" y="758443"/>
                  <a:pt x="486927" y="760136"/>
                </a:cubicBezTo>
                <a:cubicBezTo>
                  <a:pt x="405647" y="761829"/>
                  <a:pt x="269122" y="715474"/>
                  <a:pt x="212607" y="704256"/>
                </a:cubicBezTo>
                <a:cubicBezTo>
                  <a:pt x="156092" y="693038"/>
                  <a:pt x="177470" y="692403"/>
                  <a:pt x="147837" y="692826"/>
                </a:cubicBezTo>
                <a:cubicBezTo>
                  <a:pt x="131539" y="712299"/>
                  <a:pt x="58619" y="768391"/>
                  <a:pt x="34807" y="775376"/>
                </a:cubicBezTo>
                <a:cubicBezTo>
                  <a:pt x="10995" y="782361"/>
                  <a:pt x="-9855" y="752410"/>
                  <a:pt x="4962" y="734736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フリーフォーム 22"/>
          <p:cNvSpPr/>
          <p:nvPr/>
        </p:nvSpPr>
        <p:spPr>
          <a:xfrm>
            <a:off x="5599080" y="1973160"/>
            <a:ext cx="1165320" cy="717480"/>
          </a:xfrm>
          <a:custGeom>
            <a:avLst/>
            <a:gdLst/>
            <a:ahLst/>
            <a:rect l="l" t="t" r="r" b="b"/>
            <a:pathLst>
              <a:path w="929850" h="620483">
                <a:moveTo>
                  <a:pt x="14" y="619854"/>
                </a:moveTo>
                <a:cubicBezTo>
                  <a:pt x="1284" y="626627"/>
                  <a:pt x="63091" y="576674"/>
                  <a:pt x="109234" y="569054"/>
                </a:cubicBezTo>
                <a:cubicBezTo>
                  <a:pt x="155377" y="561434"/>
                  <a:pt x="187127" y="579214"/>
                  <a:pt x="276874" y="574134"/>
                </a:cubicBezTo>
                <a:cubicBezTo>
                  <a:pt x="366621" y="569054"/>
                  <a:pt x="543997" y="580907"/>
                  <a:pt x="647714" y="538574"/>
                </a:cubicBezTo>
                <a:cubicBezTo>
                  <a:pt x="751431" y="496241"/>
                  <a:pt x="853877" y="386174"/>
                  <a:pt x="899174" y="320134"/>
                </a:cubicBezTo>
                <a:cubicBezTo>
                  <a:pt x="944471" y="254094"/>
                  <a:pt x="928807" y="177471"/>
                  <a:pt x="919494" y="142334"/>
                </a:cubicBezTo>
                <a:cubicBezTo>
                  <a:pt x="910181" y="107197"/>
                  <a:pt x="843294" y="109314"/>
                  <a:pt x="843294" y="109314"/>
                </a:cubicBezTo>
                <a:cubicBezTo>
                  <a:pt x="787414" y="85607"/>
                  <a:pt x="687507" y="-3293"/>
                  <a:pt x="584214" y="94"/>
                </a:cubicBezTo>
                <a:cubicBezTo>
                  <a:pt x="480921" y="3481"/>
                  <a:pt x="306507" y="60631"/>
                  <a:pt x="223534" y="129634"/>
                </a:cubicBezTo>
                <a:cubicBezTo>
                  <a:pt x="140561" y="198637"/>
                  <a:pt x="106694" y="347651"/>
                  <a:pt x="86374" y="414114"/>
                </a:cubicBezTo>
                <a:cubicBezTo>
                  <a:pt x="66054" y="480577"/>
                  <a:pt x="120664" y="500897"/>
                  <a:pt x="101614" y="528414"/>
                </a:cubicBezTo>
                <a:cubicBezTo>
                  <a:pt x="82564" y="555931"/>
                  <a:pt x="-1256" y="613081"/>
                  <a:pt x="14" y="619854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フリーフォーム 23"/>
          <p:cNvSpPr/>
          <p:nvPr/>
        </p:nvSpPr>
        <p:spPr>
          <a:xfrm>
            <a:off x="6745320" y="2414520"/>
            <a:ext cx="741240" cy="1054080"/>
          </a:xfrm>
          <a:custGeom>
            <a:avLst/>
            <a:gdLst/>
            <a:ahLst/>
            <a:rect l="l" t="t" r="r" b="b"/>
            <a:pathLst>
              <a:path w="592055" h="912887">
                <a:moveTo>
                  <a:pt x="269310" y="3370"/>
                </a:moveTo>
                <a:cubicBezTo>
                  <a:pt x="226977" y="25807"/>
                  <a:pt x="133843" y="164660"/>
                  <a:pt x="88970" y="234510"/>
                </a:cubicBezTo>
                <a:cubicBezTo>
                  <a:pt x="44097" y="304360"/>
                  <a:pt x="-2047" y="353890"/>
                  <a:pt x="70" y="422470"/>
                </a:cubicBezTo>
                <a:cubicBezTo>
                  <a:pt x="2187" y="491050"/>
                  <a:pt x="58067" y="590110"/>
                  <a:pt x="101670" y="645990"/>
                </a:cubicBezTo>
                <a:cubicBezTo>
                  <a:pt x="145273" y="701870"/>
                  <a:pt x="232480" y="732773"/>
                  <a:pt x="261690" y="757750"/>
                </a:cubicBezTo>
                <a:cubicBezTo>
                  <a:pt x="290900" y="782727"/>
                  <a:pt x="281587" y="772567"/>
                  <a:pt x="276930" y="795850"/>
                </a:cubicBezTo>
                <a:cubicBezTo>
                  <a:pt x="272273" y="819133"/>
                  <a:pt x="234173" y="879670"/>
                  <a:pt x="233750" y="897450"/>
                </a:cubicBezTo>
                <a:cubicBezTo>
                  <a:pt x="233327" y="915230"/>
                  <a:pt x="262113" y="918617"/>
                  <a:pt x="274390" y="902530"/>
                </a:cubicBezTo>
                <a:cubicBezTo>
                  <a:pt x="286667" y="886443"/>
                  <a:pt x="291323" y="821673"/>
                  <a:pt x="307410" y="800930"/>
                </a:cubicBezTo>
                <a:cubicBezTo>
                  <a:pt x="323497" y="780187"/>
                  <a:pt x="332810" y="806010"/>
                  <a:pt x="370910" y="778070"/>
                </a:cubicBezTo>
                <a:cubicBezTo>
                  <a:pt x="409010" y="750130"/>
                  <a:pt x="499603" y="709913"/>
                  <a:pt x="536010" y="633290"/>
                </a:cubicBezTo>
                <a:cubicBezTo>
                  <a:pt x="572417" y="556667"/>
                  <a:pt x="601203" y="400033"/>
                  <a:pt x="589350" y="318330"/>
                </a:cubicBezTo>
                <a:cubicBezTo>
                  <a:pt x="577497" y="236627"/>
                  <a:pt x="505953" y="179477"/>
                  <a:pt x="464890" y="143070"/>
                </a:cubicBezTo>
                <a:cubicBezTo>
                  <a:pt x="423827" y="106663"/>
                  <a:pt x="379377" y="122750"/>
                  <a:pt x="342970" y="99890"/>
                </a:cubicBezTo>
                <a:cubicBezTo>
                  <a:pt x="306563" y="77030"/>
                  <a:pt x="311643" y="-19067"/>
                  <a:pt x="269310" y="3370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フリーフォーム 24"/>
          <p:cNvSpPr/>
          <p:nvPr/>
        </p:nvSpPr>
        <p:spPr>
          <a:xfrm>
            <a:off x="8607600" y="2449440"/>
            <a:ext cx="920520" cy="1077840"/>
          </a:xfrm>
          <a:custGeom>
            <a:avLst/>
            <a:gdLst/>
            <a:ahLst/>
            <a:rect l="l" t="t" r="r" b="b"/>
            <a:pathLst>
              <a:path w="733951" h="933164">
                <a:moveTo>
                  <a:pt x="530748" y="1419"/>
                </a:moveTo>
                <a:cubicBezTo>
                  <a:pt x="523551" y="9039"/>
                  <a:pt x="566308" y="71692"/>
                  <a:pt x="553608" y="85239"/>
                </a:cubicBezTo>
                <a:cubicBezTo>
                  <a:pt x="540908" y="98786"/>
                  <a:pt x="512968" y="71692"/>
                  <a:pt x="454548" y="82699"/>
                </a:cubicBezTo>
                <a:cubicBezTo>
                  <a:pt x="396128" y="93706"/>
                  <a:pt x="275055" y="103442"/>
                  <a:pt x="203088" y="151279"/>
                </a:cubicBezTo>
                <a:cubicBezTo>
                  <a:pt x="131121" y="199116"/>
                  <a:pt x="54921" y="288016"/>
                  <a:pt x="22748" y="369719"/>
                </a:cubicBezTo>
                <a:cubicBezTo>
                  <a:pt x="-9425" y="451422"/>
                  <a:pt x="-1382" y="561489"/>
                  <a:pt x="10048" y="641499"/>
                </a:cubicBezTo>
                <a:cubicBezTo>
                  <a:pt x="21478" y="721509"/>
                  <a:pt x="77358" y="801519"/>
                  <a:pt x="91328" y="849779"/>
                </a:cubicBezTo>
                <a:cubicBezTo>
                  <a:pt x="105298" y="898039"/>
                  <a:pt x="67198" y="922169"/>
                  <a:pt x="93868" y="931059"/>
                </a:cubicBezTo>
                <a:cubicBezTo>
                  <a:pt x="120538" y="939949"/>
                  <a:pt x="186155" y="918782"/>
                  <a:pt x="251348" y="903119"/>
                </a:cubicBezTo>
                <a:cubicBezTo>
                  <a:pt x="316541" y="887456"/>
                  <a:pt x="405865" y="900156"/>
                  <a:pt x="485028" y="837079"/>
                </a:cubicBezTo>
                <a:cubicBezTo>
                  <a:pt x="564191" y="774002"/>
                  <a:pt x="696271" y="633456"/>
                  <a:pt x="726328" y="524659"/>
                </a:cubicBezTo>
                <a:cubicBezTo>
                  <a:pt x="756385" y="415862"/>
                  <a:pt x="689498" y="252456"/>
                  <a:pt x="665368" y="184299"/>
                </a:cubicBezTo>
                <a:cubicBezTo>
                  <a:pt x="641238" y="116142"/>
                  <a:pt x="592978" y="139849"/>
                  <a:pt x="581548" y="115719"/>
                </a:cubicBezTo>
                <a:cubicBezTo>
                  <a:pt x="570118" y="91589"/>
                  <a:pt x="601445" y="60686"/>
                  <a:pt x="596788" y="39519"/>
                </a:cubicBezTo>
                <a:cubicBezTo>
                  <a:pt x="592131" y="18352"/>
                  <a:pt x="537945" y="-6201"/>
                  <a:pt x="530748" y="1419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フリーフォーム 25"/>
          <p:cNvSpPr/>
          <p:nvPr/>
        </p:nvSpPr>
        <p:spPr>
          <a:xfrm>
            <a:off x="4091040" y="1609560"/>
            <a:ext cx="936720" cy="1241640"/>
          </a:xfrm>
          <a:custGeom>
            <a:avLst/>
            <a:gdLst/>
            <a:ahLst/>
            <a:rect l="l" t="t" r="r" b="b"/>
            <a:pathLst>
              <a:path w="648606" h="931866">
                <a:moveTo>
                  <a:pt x="395643" y="3162"/>
                </a:moveTo>
                <a:cubicBezTo>
                  <a:pt x="355003" y="17555"/>
                  <a:pt x="268220" y="81055"/>
                  <a:pt x="202603" y="150482"/>
                </a:cubicBezTo>
                <a:cubicBezTo>
                  <a:pt x="136986" y="219909"/>
                  <a:pt x="17606" y="324895"/>
                  <a:pt x="1943" y="419722"/>
                </a:cubicBezTo>
                <a:cubicBezTo>
                  <a:pt x="-13720" y="514549"/>
                  <a:pt x="69253" y="654672"/>
                  <a:pt x="108623" y="719442"/>
                </a:cubicBezTo>
                <a:cubicBezTo>
                  <a:pt x="147993" y="784212"/>
                  <a:pt x="214033" y="775322"/>
                  <a:pt x="238163" y="808342"/>
                </a:cubicBezTo>
                <a:cubicBezTo>
                  <a:pt x="262293" y="841362"/>
                  <a:pt x="242820" y="898935"/>
                  <a:pt x="253403" y="917562"/>
                </a:cubicBezTo>
                <a:cubicBezTo>
                  <a:pt x="263986" y="936189"/>
                  <a:pt x="298276" y="936188"/>
                  <a:pt x="301663" y="920102"/>
                </a:cubicBezTo>
                <a:cubicBezTo>
                  <a:pt x="305050" y="904016"/>
                  <a:pt x="274570" y="839245"/>
                  <a:pt x="273723" y="821042"/>
                </a:cubicBezTo>
                <a:cubicBezTo>
                  <a:pt x="272876" y="802839"/>
                  <a:pt x="285576" y="813845"/>
                  <a:pt x="296583" y="810882"/>
                </a:cubicBezTo>
                <a:cubicBezTo>
                  <a:pt x="307590" y="807919"/>
                  <a:pt x="317750" y="811729"/>
                  <a:pt x="339763" y="803262"/>
                </a:cubicBezTo>
                <a:cubicBezTo>
                  <a:pt x="361776" y="794795"/>
                  <a:pt x="385906" y="792255"/>
                  <a:pt x="428663" y="760082"/>
                </a:cubicBezTo>
                <a:cubicBezTo>
                  <a:pt x="471420" y="727909"/>
                  <a:pt x="559896" y="671605"/>
                  <a:pt x="596303" y="610222"/>
                </a:cubicBezTo>
                <a:cubicBezTo>
                  <a:pt x="632710" y="548839"/>
                  <a:pt x="654723" y="457399"/>
                  <a:pt x="647103" y="391782"/>
                </a:cubicBezTo>
                <a:cubicBezTo>
                  <a:pt x="639483" y="326165"/>
                  <a:pt x="584026" y="271132"/>
                  <a:pt x="550583" y="216522"/>
                </a:cubicBezTo>
                <a:cubicBezTo>
                  <a:pt x="517140" y="161912"/>
                  <a:pt x="469303" y="102222"/>
                  <a:pt x="446443" y="64122"/>
                </a:cubicBezTo>
                <a:cubicBezTo>
                  <a:pt x="423583" y="26022"/>
                  <a:pt x="436283" y="-11231"/>
                  <a:pt x="395643" y="3162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フリーフォーム 26"/>
          <p:cNvSpPr/>
          <p:nvPr/>
        </p:nvSpPr>
        <p:spPr>
          <a:xfrm>
            <a:off x="5076720" y="2568600"/>
            <a:ext cx="857520" cy="1079640"/>
          </a:xfrm>
          <a:custGeom>
            <a:avLst/>
            <a:gdLst/>
            <a:ahLst/>
            <a:rect l="l" t="t" r="r" b="b"/>
            <a:pathLst>
              <a:path w="684005" h="933819">
                <a:moveTo>
                  <a:pt x="66040" y="17548"/>
                </a:moveTo>
                <a:cubicBezTo>
                  <a:pt x="40217" y="63691"/>
                  <a:pt x="0" y="222018"/>
                  <a:pt x="0" y="322348"/>
                </a:cubicBezTo>
                <a:cubicBezTo>
                  <a:pt x="0" y="422678"/>
                  <a:pt x="34713" y="545868"/>
                  <a:pt x="66040" y="619528"/>
                </a:cubicBezTo>
                <a:cubicBezTo>
                  <a:pt x="97367" y="693188"/>
                  <a:pt x="135043" y="724938"/>
                  <a:pt x="187960" y="764308"/>
                </a:cubicBezTo>
                <a:cubicBezTo>
                  <a:pt x="240877" y="803678"/>
                  <a:pt x="328930" y="839238"/>
                  <a:pt x="383540" y="855748"/>
                </a:cubicBezTo>
                <a:cubicBezTo>
                  <a:pt x="438150" y="872258"/>
                  <a:pt x="490643" y="859558"/>
                  <a:pt x="515620" y="863368"/>
                </a:cubicBezTo>
                <a:cubicBezTo>
                  <a:pt x="540597" y="867178"/>
                  <a:pt x="523663" y="867601"/>
                  <a:pt x="533400" y="878608"/>
                </a:cubicBezTo>
                <a:cubicBezTo>
                  <a:pt x="543137" y="889615"/>
                  <a:pt x="560917" y="921365"/>
                  <a:pt x="574040" y="929408"/>
                </a:cubicBezTo>
                <a:cubicBezTo>
                  <a:pt x="587163" y="937451"/>
                  <a:pt x="611717" y="933218"/>
                  <a:pt x="612140" y="926868"/>
                </a:cubicBezTo>
                <a:cubicBezTo>
                  <a:pt x="612563" y="920518"/>
                  <a:pt x="584200" y="903161"/>
                  <a:pt x="576580" y="891308"/>
                </a:cubicBezTo>
                <a:cubicBezTo>
                  <a:pt x="568960" y="879455"/>
                  <a:pt x="567267" y="864215"/>
                  <a:pt x="566420" y="855748"/>
                </a:cubicBezTo>
                <a:cubicBezTo>
                  <a:pt x="565573" y="847281"/>
                  <a:pt x="564727" y="850245"/>
                  <a:pt x="571500" y="840508"/>
                </a:cubicBezTo>
                <a:cubicBezTo>
                  <a:pt x="578273" y="830771"/>
                  <a:pt x="588433" y="849821"/>
                  <a:pt x="607060" y="797328"/>
                </a:cubicBezTo>
                <a:cubicBezTo>
                  <a:pt x="625687" y="744835"/>
                  <a:pt x="691727" y="614871"/>
                  <a:pt x="683260" y="525548"/>
                </a:cubicBezTo>
                <a:cubicBezTo>
                  <a:pt x="674793" y="436225"/>
                  <a:pt x="615527" y="330815"/>
                  <a:pt x="556260" y="261388"/>
                </a:cubicBezTo>
                <a:cubicBezTo>
                  <a:pt x="496993" y="191961"/>
                  <a:pt x="394547" y="144971"/>
                  <a:pt x="327660" y="108988"/>
                </a:cubicBezTo>
                <a:cubicBezTo>
                  <a:pt x="260773" y="73005"/>
                  <a:pt x="198120" y="61998"/>
                  <a:pt x="154940" y="45488"/>
                </a:cubicBezTo>
                <a:cubicBezTo>
                  <a:pt x="111760" y="28978"/>
                  <a:pt x="91863" y="-28595"/>
                  <a:pt x="66040" y="17548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フリーフォーム 27"/>
          <p:cNvSpPr/>
          <p:nvPr/>
        </p:nvSpPr>
        <p:spPr>
          <a:xfrm>
            <a:off x="5423040" y="3583080"/>
            <a:ext cx="1733400" cy="1193760"/>
          </a:xfrm>
          <a:custGeom>
            <a:avLst/>
            <a:gdLst/>
            <a:ahLst/>
            <a:rect l="l" t="t" r="r" b="b"/>
            <a:pathLst>
              <a:path w="1307143" h="974774">
                <a:moveTo>
                  <a:pt x="526796" y="329893"/>
                </a:moveTo>
                <a:cubicBezTo>
                  <a:pt x="484124" y="375613"/>
                  <a:pt x="149860" y="477213"/>
                  <a:pt x="63500" y="524965"/>
                </a:cubicBezTo>
                <a:cubicBezTo>
                  <a:pt x="-22860" y="572717"/>
                  <a:pt x="1524" y="597101"/>
                  <a:pt x="8636" y="616405"/>
                </a:cubicBezTo>
                <a:cubicBezTo>
                  <a:pt x="15748" y="635709"/>
                  <a:pt x="100076" y="623517"/>
                  <a:pt x="106172" y="640789"/>
                </a:cubicBezTo>
                <a:cubicBezTo>
                  <a:pt x="112268" y="658061"/>
                  <a:pt x="6604" y="711909"/>
                  <a:pt x="45212" y="720037"/>
                </a:cubicBezTo>
                <a:cubicBezTo>
                  <a:pt x="83820" y="728165"/>
                  <a:pt x="232156" y="740357"/>
                  <a:pt x="337820" y="689557"/>
                </a:cubicBezTo>
                <a:cubicBezTo>
                  <a:pt x="443484" y="638757"/>
                  <a:pt x="627380" y="411173"/>
                  <a:pt x="679196" y="415237"/>
                </a:cubicBezTo>
                <a:cubicBezTo>
                  <a:pt x="731012" y="419301"/>
                  <a:pt x="647700" y="622501"/>
                  <a:pt x="648716" y="713941"/>
                </a:cubicBezTo>
                <a:cubicBezTo>
                  <a:pt x="649732" y="805381"/>
                  <a:pt x="667004" y="928317"/>
                  <a:pt x="685292" y="963877"/>
                </a:cubicBezTo>
                <a:cubicBezTo>
                  <a:pt x="703580" y="999437"/>
                  <a:pt x="734060" y="937461"/>
                  <a:pt x="758444" y="927301"/>
                </a:cubicBezTo>
                <a:cubicBezTo>
                  <a:pt x="782828" y="917141"/>
                  <a:pt x="805180" y="928317"/>
                  <a:pt x="831596" y="902917"/>
                </a:cubicBezTo>
                <a:cubicBezTo>
                  <a:pt x="858012" y="877517"/>
                  <a:pt x="908812" y="852117"/>
                  <a:pt x="916940" y="774901"/>
                </a:cubicBezTo>
                <a:cubicBezTo>
                  <a:pt x="925068" y="697685"/>
                  <a:pt x="858012" y="486357"/>
                  <a:pt x="880364" y="439621"/>
                </a:cubicBezTo>
                <a:cubicBezTo>
                  <a:pt x="902716" y="392885"/>
                  <a:pt x="995172" y="498549"/>
                  <a:pt x="1051052" y="494485"/>
                </a:cubicBezTo>
                <a:cubicBezTo>
                  <a:pt x="1106932" y="490421"/>
                  <a:pt x="1215644" y="415237"/>
                  <a:pt x="1215644" y="415237"/>
                </a:cubicBezTo>
                <a:cubicBezTo>
                  <a:pt x="1258316" y="394917"/>
                  <a:pt x="1309116" y="382725"/>
                  <a:pt x="1307084" y="372565"/>
                </a:cubicBezTo>
                <a:cubicBezTo>
                  <a:pt x="1305052" y="362405"/>
                  <a:pt x="1250188" y="373581"/>
                  <a:pt x="1203452" y="354277"/>
                </a:cubicBezTo>
                <a:cubicBezTo>
                  <a:pt x="1156716" y="334973"/>
                  <a:pt x="1068324" y="267917"/>
                  <a:pt x="1026668" y="256741"/>
                </a:cubicBezTo>
                <a:cubicBezTo>
                  <a:pt x="985012" y="245565"/>
                  <a:pt x="980948" y="282141"/>
                  <a:pt x="953516" y="287221"/>
                </a:cubicBezTo>
                <a:cubicBezTo>
                  <a:pt x="926084" y="292301"/>
                  <a:pt x="885444" y="279093"/>
                  <a:pt x="862076" y="287221"/>
                </a:cubicBezTo>
                <a:cubicBezTo>
                  <a:pt x="838708" y="295349"/>
                  <a:pt x="821436" y="362405"/>
                  <a:pt x="813308" y="335989"/>
                </a:cubicBezTo>
                <a:cubicBezTo>
                  <a:pt x="805180" y="309573"/>
                  <a:pt x="821436" y="184605"/>
                  <a:pt x="813308" y="128725"/>
                </a:cubicBezTo>
                <a:cubicBezTo>
                  <a:pt x="805180" y="72845"/>
                  <a:pt x="783844" y="-8435"/>
                  <a:pt x="764540" y="709"/>
                </a:cubicBezTo>
                <a:cubicBezTo>
                  <a:pt x="745236" y="9853"/>
                  <a:pt x="734060" y="164285"/>
                  <a:pt x="697484" y="183589"/>
                </a:cubicBezTo>
                <a:cubicBezTo>
                  <a:pt x="660908" y="202893"/>
                  <a:pt x="591820" y="134821"/>
                  <a:pt x="545084" y="116533"/>
                </a:cubicBezTo>
                <a:cubicBezTo>
                  <a:pt x="498348" y="98245"/>
                  <a:pt x="459740" y="75893"/>
                  <a:pt x="417068" y="73861"/>
                </a:cubicBezTo>
                <a:cubicBezTo>
                  <a:pt x="374396" y="71829"/>
                  <a:pt x="296164" y="87069"/>
                  <a:pt x="289052" y="104341"/>
                </a:cubicBezTo>
                <a:cubicBezTo>
                  <a:pt x="281940" y="121613"/>
                  <a:pt x="392684" y="172413"/>
                  <a:pt x="374396" y="177493"/>
                </a:cubicBezTo>
                <a:cubicBezTo>
                  <a:pt x="356108" y="182573"/>
                  <a:pt x="188468" y="122629"/>
                  <a:pt x="179324" y="134821"/>
                </a:cubicBezTo>
                <a:cubicBezTo>
                  <a:pt x="170180" y="147013"/>
                  <a:pt x="260604" y="223213"/>
                  <a:pt x="319532" y="250645"/>
                </a:cubicBezTo>
                <a:cubicBezTo>
                  <a:pt x="378460" y="278077"/>
                  <a:pt x="569468" y="284173"/>
                  <a:pt x="526796" y="329893"/>
                </a:cubicBez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cd5b5"/>
              </a:gs>
            </a:gsLst>
            <a:lin ang="2700000"/>
          </a:gra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フリーフォーム 4"/>
          <p:cNvSpPr/>
          <p:nvPr/>
        </p:nvSpPr>
        <p:spPr>
          <a:xfrm>
            <a:off x="281160" y="282600"/>
            <a:ext cx="1180800" cy="100980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フリーフォーム 1"/>
          <p:cNvSpPr/>
          <p:nvPr/>
        </p:nvSpPr>
        <p:spPr>
          <a:xfrm>
            <a:off x="1608120" y="298440"/>
            <a:ext cx="1461960" cy="193212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フリーフォーム 6"/>
          <p:cNvSpPr/>
          <p:nvPr/>
        </p:nvSpPr>
        <p:spPr>
          <a:xfrm>
            <a:off x="3071880" y="677880"/>
            <a:ext cx="1542960" cy="186516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フリーフォーム 7"/>
          <p:cNvSpPr/>
          <p:nvPr/>
        </p:nvSpPr>
        <p:spPr>
          <a:xfrm>
            <a:off x="1003320" y="2806560"/>
            <a:ext cx="2838600" cy="1677960"/>
          </a:xfrm>
          <a:custGeom>
            <a:avLst/>
            <a:gdLst/>
            <a:ahLst/>
            <a:rect l="l" t="t" r="r" b="b"/>
            <a:pathLst>
              <a:path w="5243308" h="3355942">
                <a:moveTo>
                  <a:pt x="2264438" y="999241"/>
                </a:moveTo>
                <a:cubicBezTo>
                  <a:pt x="2028768" y="961534"/>
                  <a:pt x="1254198" y="760428"/>
                  <a:pt x="888124" y="678729"/>
                </a:cubicBezTo>
                <a:cubicBezTo>
                  <a:pt x="522050" y="597030"/>
                  <a:pt x="153514" y="510723"/>
                  <a:pt x="67992" y="509047"/>
                </a:cubicBezTo>
                <a:cubicBezTo>
                  <a:pt x="-17530" y="507371"/>
                  <a:pt x="-17006" y="543402"/>
                  <a:pt x="39712" y="546754"/>
                </a:cubicBezTo>
                <a:cubicBezTo>
                  <a:pt x="96430" y="550106"/>
                  <a:pt x="1048380" y="772997"/>
                  <a:pt x="1048380" y="772997"/>
                </a:cubicBezTo>
                <a:cubicBezTo>
                  <a:pt x="1412883" y="854696"/>
                  <a:pt x="2000487" y="952107"/>
                  <a:pt x="2226730" y="1036948"/>
                </a:cubicBezTo>
                <a:cubicBezTo>
                  <a:pt x="2452973" y="1121789"/>
                  <a:pt x="2455907" y="1195999"/>
                  <a:pt x="2405840" y="1282045"/>
                </a:cubicBezTo>
                <a:cubicBezTo>
                  <a:pt x="2355773" y="1368091"/>
                  <a:pt x="2228302" y="1486293"/>
                  <a:pt x="2170170" y="1583703"/>
                </a:cubicBezTo>
                <a:cubicBezTo>
                  <a:pt x="2112038" y="1681113"/>
                  <a:pt x="2096326" y="1721963"/>
                  <a:pt x="2057048" y="1866507"/>
                </a:cubicBezTo>
                <a:cubicBezTo>
                  <a:pt x="2017770" y="2011051"/>
                  <a:pt x="1891451" y="2381839"/>
                  <a:pt x="1934500" y="2450969"/>
                </a:cubicBezTo>
                <a:cubicBezTo>
                  <a:pt x="2023269" y="2454059"/>
                  <a:pt x="2072759" y="2333133"/>
                  <a:pt x="2132462" y="2281286"/>
                </a:cubicBezTo>
                <a:cubicBezTo>
                  <a:pt x="2192165" y="2229439"/>
                  <a:pt x="2236157" y="2215298"/>
                  <a:pt x="2292718" y="2139884"/>
                </a:cubicBezTo>
                <a:cubicBezTo>
                  <a:pt x="2349279" y="2064470"/>
                  <a:pt x="2424798" y="1853991"/>
                  <a:pt x="2471827" y="1828800"/>
                </a:cubicBezTo>
                <a:cubicBezTo>
                  <a:pt x="2498536" y="1869649"/>
                  <a:pt x="2416838" y="2231010"/>
                  <a:pt x="2452974" y="2384981"/>
                </a:cubicBezTo>
                <a:cubicBezTo>
                  <a:pt x="2489110" y="2538952"/>
                  <a:pt x="2619514" y="2590799"/>
                  <a:pt x="2688644" y="2752626"/>
                </a:cubicBezTo>
                <a:cubicBezTo>
                  <a:pt x="2757774" y="2914453"/>
                  <a:pt x="2826000" y="3301934"/>
                  <a:pt x="2867753" y="3355942"/>
                </a:cubicBezTo>
                <a:cubicBezTo>
                  <a:pt x="2920936" y="3316605"/>
                  <a:pt x="2930598" y="2879889"/>
                  <a:pt x="2962021" y="2733773"/>
                </a:cubicBezTo>
                <a:cubicBezTo>
                  <a:pt x="2993444" y="2587658"/>
                  <a:pt x="3061002" y="2604940"/>
                  <a:pt x="3056289" y="2479249"/>
                </a:cubicBezTo>
                <a:cubicBezTo>
                  <a:pt x="3051576" y="2353558"/>
                  <a:pt x="2900747" y="1984341"/>
                  <a:pt x="2933741" y="1979628"/>
                </a:cubicBezTo>
                <a:cubicBezTo>
                  <a:pt x="2987055" y="2025715"/>
                  <a:pt x="3104994" y="2317423"/>
                  <a:pt x="3254252" y="2450969"/>
                </a:cubicBezTo>
                <a:cubicBezTo>
                  <a:pt x="3403510" y="2584515"/>
                  <a:pt x="3691027" y="2670928"/>
                  <a:pt x="3829287" y="2780907"/>
                </a:cubicBezTo>
                <a:cubicBezTo>
                  <a:pt x="3967547" y="2890886"/>
                  <a:pt x="4035675" y="3031738"/>
                  <a:pt x="4083811" y="3110845"/>
                </a:cubicBezTo>
                <a:cubicBezTo>
                  <a:pt x="4116707" y="3048982"/>
                  <a:pt x="4112091" y="2883030"/>
                  <a:pt x="4083811" y="2752626"/>
                </a:cubicBezTo>
                <a:cubicBezTo>
                  <a:pt x="4055531" y="2622222"/>
                  <a:pt x="3987971" y="2461966"/>
                  <a:pt x="3914128" y="2328420"/>
                </a:cubicBezTo>
                <a:cubicBezTo>
                  <a:pt x="3840285" y="2194874"/>
                  <a:pt x="3725592" y="2061327"/>
                  <a:pt x="3640751" y="1951348"/>
                </a:cubicBezTo>
                <a:cubicBezTo>
                  <a:pt x="3555910" y="1841369"/>
                  <a:pt x="3388898" y="1705976"/>
                  <a:pt x="3405081" y="1668544"/>
                </a:cubicBezTo>
                <a:cubicBezTo>
                  <a:pt x="3436504" y="1665402"/>
                  <a:pt x="3621897" y="1904214"/>
                  <a:pt x="3829287" y="1932494"/>
                </a:cubicBezTo>
                <a:cubicBezTo>
                  <a:pt x="4036677" y="1960774"/>
                  <a:pt x="4413749" y="1850795"/>
                  <a:pt x="4649419" y="1838226"/>
                </a:cubicBezTo>
                <a:cubicBezTo>
                  <a:pt x="4885089" y="1825657"/>
                  <a:pt x="5135901" y="1868392"/>
                  <a:pt x="5243308" y="1857080"/>
                </a:cubicBezTo>
                <a:cubicBezTo>
                  <a:pt x="5204030" y="1784808"/>
                  <a:pt x="4616425" y="1520857"/>
                  <a:pt x="4413749" y="1404593"/>
                </a:cubicBezTo>
                <a:cubicBezTo>
                  <a:pt x="4211073" y="1288329"/>
                  <a:pt x="4182792" y="1220770"/>
                  <a:pt x="4027250" y="1159496"/>
                </a:cubicBezTo>
                <a:cubicBezTo>
                  <a:pt x="3871708" y="1098222"/>
                  <a:pt x="3546404" y="1066741"/>
                  <a:pt x="3480495" y="1036948"/>
                </a:cubicBezTo>
                <a:cubicBezTo>
                  <a:pt x="3507931" y="970960"/>
                  <a:pt x="3796294" y="936396"/>
                  <a:pt x="3951836" y="763571"/>
                </a:cubicBezTo>
                <a:cubicBezTo>
                  <a:pt x="4107378" y="590746"/>
                  <a:pt x="4398745" y="100513"/>
                  <a:pt x="4413749" y="0"/>
                </a:cubicBezTo>
                <a:cubicBezTo>
                  <a:pt x="4343028" y="17597"/>
                  <a:pt x="4066529" y="256095"/>
                  <a:pt x="3904702" y="320511"/>
                </a:cubicBezTo>
                <a:cubicBezTo>
                  <a:pt x="3742875" y="384927"/>
                  <a:pt x="3593617" y="312655"/>
                  <a:pt x="3442788" y="386498"/>
                </a:cubicBezTo>
                <a:cubicBezTo>
                  <a:pt x="3291959" y="460341"/>
                  <a:pt x="3067287" y="707854"/>
                  <a:pt x="2999728" y="763571"/>
                </a:cubicBezTo>
                <a:cubicBezTo>
                  <a:pt x="2962649" y="689747"/>
                  <a:pt x="3032723" y="598602"/>
                  <a:pt x="3037436" y="480767"/>
                </a:cubicBezTo>
                <a:cubicBezTo>
                  <a:pt x="3042149" y="362932"/>
                  <a:pt x="3062849" y="134331"/>
                  <a:pt x="3028009" y="56560"/>
                </a:cubicBezTo>
                <a:cubicBezTo>
                  <a:pt x="2949354" y="89279"/>
                  <a:pt x="2704355" y="334651"/>
                  <a:pt x="2622656" y="471340"/>
                </a:cubicBezTo>
                <a:cubicBezTo>
                  <a:pt x="2540957" y="608029"/>
                  <a:pt x="2558043" y="803124"/>
                  <a:pt x="2537815" y="876692"/>
                </a:cubicBezTo>
                <a:cubicBezTo>
                  <a:pt x="2494727" y="843580"/>
                  <a:pt x="2452974" y="741575"/>
                  <a:pt x="2386986" y="707010"/>
                </a:cubicBezTo>
                <a:cubicBezTo>
                  <a:pt x="2320998" y="672445"/>
                  <a:pt x="2199844" y="659169"/>
                  <a:pt x="2141889" y="669303"/>
                </a:cubicBezTo>
                <a:cubicBezTo>
                  <a:pt x="2158229" y="709917"/>
                  <a:pt x="2278578" y="854697"/>
                  <a:pt x="2302145" y="904973"/>
                </a:cubicBezTo>
                <a:cubicBezTo>
                  <a:pt x="2325712" y="955249"/>
                  <a:pt x="2500108" y="1036948"/>
                  <a:pt x="2264438" y="999241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フリーフォーム 8"/>
          <p:cNvSpPr/>
          <p:nvPr/>
        </p:nvSpPr>
        <p:spPr>
          <a:xfrm>
            <a:off x="22320" y="1292400"/>
            <a:ext cx="1698480" cy="164916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フリーフォーム 9"/>
          <p:cNvSpPr/>
          <p:nvPr/>
        </p:nvSpPr>
        <p:spPr>
          <a:xfrm>
            <a:off x="3195720" y="3316320"/>
            <a:ext cx="1927080" cy="207972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フリーフォーム 10"/>
          <p:cNvSpPr/>
          <p:nvPr/>
        </p:nvSpPr>
        <p:spPr>
          <a:xfrm>
            <a:off x="331920" y="3645000"/>
            <a:ext cx="1711080" cy="142056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フリーフォーム 11"/>
          <p:cNvSpPr/>
          <p:nvPr/>
        </p:nvSpPr>
        <p:spPr>
          <a:xfrm>
            <a:off x="4451400" y="4973760"/>
            <a:ext cx="1482840" cy="162864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フリーフォーム 12"/>
          <p:cNvSpPr/>
          <p:nvPr/>
        </p:nvSpPr>
        <p:spPr>
          <a:xfrm>
            <a:off x="392040" y="4565520"/>
            <a:ext cx="1812960" cy="175104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フリーフォーム 13"/>
          <p:cNvSpPr/>
          <p:nvPr/>
        </p:nvSpPr>
        <p:spPr>
          <a:xfrm>
            <a:off x="2205000" y="5024520"/>
            <a:ext cx="1490760" cy="152856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フリーフォーム 14"/>
          <p:cNvSpPr/>
          <p:nvPr/>
        </p:nvSpPr>
        <p:spPr>
          <a:xfrm>
            <a:off x="5961240" y="5283360"/>
            <a:ext cx="2184120" cy="1366560"/>
          </a:xfrm>
          <a:custGeom>
            <a:avLst/>
            <a:gdLst/>
            <a:ahLst/>
            <a:rect l="l" t="t" r="r" b="b"/>
            <a:pathLst>
              <a:path w="5820309" h="3942257">
                <a:moveTo>
                  <a:pt x="5730394" y="1531663"/>
                </a:moveTo>
                <a:cubicBezTo>
                  <a:pt x="5668164" y="1516423"/>
                  <a:pt x="5537354" y="1546903"/>
                  <a:pt x="5372254" y="1554523"/>
                </a:cubicBezTo>
                <a:cubicBezTo>
                  <a:pt x="5207154" y="1562143"/>
                  <a:pt x="4856634" y="1577383"/>
                  <a:pt x="4739794" y="1577383"/>
                </a:cubicBezTo>
                <a:cubicBezTo>
                  <a:pt x="4622954" y="1577383"/>
                  <a:pt x="4696614" y="1597703"/>
                  <a:pt x="4671214" y="1554523"/>
                </a:cubicBezTo>
                <a:cubicBezTo>
                  <a:pt x="4645814" y="1511343"/>
                  <a:pt x="4620414" y="1374183"/>
                  <a:pt x="4587394" y="1318303"/>
                </a:cubicBezTo>
                <a:cubicBezTo>
                  <a:pt x="4554374" y="1262423"/>
                  <a:pt x="4503574" y="1228133"/>
                  <a:pt x="4473094" y="1219243"/>
                </a:cubicBezTo>
                <a:cubicBezTo>
                  <a:pt x="4442614" y="1210353"/>
                  <a:pt x="4450234" y="1268773"/>
                  <a:pt x="4404514" y="1264963"/>
                </a:cubicBezTo>
                <a:cubicBezTo>
                  <a:pt x="4358794" y="1261153"/>
                  <a:pt x="4261004" y="1254803"/>
                  <a:pt x="4198774" y="1196383"/>
                </a:cubicBezTo>
                <a:cubicBezTo>
                  <a:pt x="4136544" y="1137963"/>
                  <a:pt x="4088284" y="1000803"/>
                  <a:pt x="4031134" y="914443"/>
                </a:cubicBezTo>
                <a:cubicBezTo>
                  <a:pt x="3973984" y="828083"/>
                  <a:pt x="3891434" y="673143"/>
                  <a:pt x="3855874" y="678223"/>
                </a:cubicBezTo>
                <a:cubicBezTo>
                  <a:pt x="3820314" y="683303"/>
                  <a:pt x="3825394" y="859833"/>
                  <a:pt x="3817774" y="944923"/>
                </a:cubicBezTo>
                <a:cubicBezTo>
                  <a:pt x="3810154" y="1030013"/>
                  <a:pt x="3836824" y="1164633"/>
                  <a:pt x="3810154" y="1188763"/>
                </a:cubicBezTo>
                <a:cubicBezTo>
                  <a:pt x="3783484" y="1212893"/>
                  <a:pt x="3706014" y="1168443"/>
                  <a:pt x="3657754" y="1089703"/>
                </a:cubicBezTo>
                <a:cubicBezTo>
                  <a:pt x="3609494" y="1010963"/>
                  <a:pt x="3535834" y="806493"/>
                  <a:pt x="3520594" y="716323"/>
                </a:cubicBezTo>
                <a:cubicBezTo>
                  <a:pt x="3505354" y="626153"/>
                  <a:pt x="3613304" y="607103"/>
                  <a:pt x="3566314" y="548683"/>
                </a:cubicBezTo>
                <a:cubicBezTo>
                  <a:pt x="3519324" y="490263"/>
                  <a:pt x="3305964" y="410253"/>
                  <a:pt x="3238654" y="365803"/>
                </a:cubicBezTo>
                <a:cubicBezTo>
                  <a:pt x="3171344" y="321353"/>
                  <a:pt x="3191664" y="261663"/>
                  <a:pt x="3162454" y="281983"/>
                </a:cubicBezTo>
                <a:cubicBezTo>
                  <a:pt x="3133244" y="302303"/>
                  <a:pt x="3097684" y="434383"/>
                  <a:pt x="3063394" y="487723"/>
                </a:cubicBezTo>
                <a:cubicBezTo>
                  <a:pt x="3029104" y="541063"/>
                  <a:pt x="2959254" y="556303"/>
                  <a:pt x="2956714" y="602023"/>
                </a:cubicBezTo>
                <a:cubicBezTo>
                  <a:pt x="2954174" y="647743"/>
                  <a:pt x="3037994" y="675683"/>
                  <a:pt x="3048154" y="762043"/>
                </a:cubicBezTo>
                <a:cubicBezTo>
                  <a:pt x="3058314" y="848403"/>
                  <a:pt x="3045614" y="1069383"/>
                  <a:pt x="3017674" y="1120183"/>
                </a:cubicBezTo>
                <a:cubicBezTo>
                  <a:pt x="2989734" y="1170983"/>
                  <a:pt x="2937664" y="1154473"/>
                  <a:pt x="2880514" y="1066843"/>
                </a:cubicBezTo>
                <a:cubicBezTo>
                  <a:pt x="2823364" y="979213"/>
                  <a:pt x="2712874" y="716323"/>
                  <a:pt x="2674774" y="594403"/>
                </a:cubicBezTo>
                <a:cubicBezTo>
                  <a:pt x="2636674" y="472483"/>
                  <a:pt x="2663344" y="384853"/>
                  <a:pt x="2651914" y="335323"/>
                </a:cubicBezTo>
                <a:cubicBezTo>
                  <a:pt x="2640484" y="285793"/>
                  <a:pt x="2650644" y="353103"/>
                  <a:pt x="2606194" y="297223"/>
                </a:cubicBezTo>
                <a:cubicBezTo>
                  <a:pt x="2561744" y="241343"/>
                  <a:pt x="2443634" y="-3767"/>
                  <a:pt x="2385214" y="43"/>
                </a:cubicBezTo>
                <a:cubicBezTo>
                  <a:pt x="2326794" y="3853"/>
                  <a:pt x="2322984" y="288333"/>
                  <a:pt x="2255674" y="320083"/>
                </a:cubicBezTo>
                <a:cubicBezTo>
                  <a:pt x="2188364" y="351833"/>
                  <a:pt x="2061364" y="226103"/>
                  <a:pt x="1981354" y="190543"/>
                </a:cubicBezTo>
                <a:cubicBezTo>
                  <a:pt x="1901344" y="154983"/>
                  <a:pt x="1802284" y="104183"/>
                  <a:pt x="1775614" y="106723"/>
                </a:cubicBezTo>
                <a:cubicBezTo>
                  <a:pt x="1748944" y="109263"/>
                  <a:pt x="1844194" y="188003"/>
                  <a:pt x="1821334" y="205783"/>
                </a:cubicBezTo>
                <a:cubicBezTo>
                  <a:pt x="1798474" y="223563"/>
                  <a:pt x="1717194" y="213403"/>
                  <a:pt x="1638454" y="213403"/>
                </a:cubicBezTo>
                <a:cubicBezTo>
                  <a:pt x="1559714" y="213403"/>
                  <a:pt x="1351434" y="137203"/>
                  <a:pt x="1348894" y="205783"/>
                </a:cubicBezTo>
                <a:cubicBezTo>
                  <a:pt x="1346354" y="274363"/>
                  <a:pt x="1597814" y="548683"/>
                  <a:pt x="1623214" y="624883"/>
                </a:cubicBezTo>
                <a:cubicBezTo>
                  <a:pt x="1648614" y="701083"/>
                  <a:pt x="1500024" y="622343"/>
                  <a:pt x="1501294" y="662983"/>
                </a:cubicBezTo>
                <a:cubicBezTo>
                  <a:pt x="1502564" y="703623"/>
                  <a:pt x="1582574" y="806493"/>
                  <a:pt x="1630834" y="868723"/>
                </a:cubicBezTo>
                <a:cubicBezTo>
                  <a:pt x="1679094" y="930953"/>
                  <a:pt x="1784504" y="972863"/>
                  <a:pt x="1790854" y="1036363"/>
                </a:cubicBezTo>
                <a:cubicBezTo>
                  <a:pt x="1797204" y="1099863"/>
                  <a:pt x="1789584" y="1249723"/>
                  <a:pt x="1668934" y="1249723"/>
                </a:cubicBezTo>
                <a:cubicBezTo>
                  <a:pt x="1548284" y="1249723"/>
                  <a:pt x="1191414" y="1064303"/>
                  <a:pt x="1066954" y="1036363"/>
                </a:cubicBezTo>
                <a:cubicBezTo>
                  <a:pt x="942494" y="1008423"/>
                  <a:pt x="997104" y="1092243"/>
                  <a:pt x="922174" y="1082083"/>
                </a:cubicBezTo>
                <a:cubicBezTo>
                  <a:pt x="847244" y="1071923"/>
                  <a:pt x="673254" y="980483"/>
                  <a:pt x="617374" y="975403"/>
                </a:cubicBezTo>
                <a:cubicBezTo>
                  <a:pt x="561494" y="970323"/>
                  <a:pt x="611024" y="1008423"/>
                  <a:pt x="586894" y="1051603"/>
                </a:cubicBezTo>
                <a:cubicBezTo>
                  <a:pt x="562764" y="1094783"/>
                  <a:pt x="454814" y="1143043"/>
                  <a:pt x="472594" y="1234483"/>
                </a:cubicBezTo>
                <a:cubicBezTo>
                  <a:pt x="490374" y="1325923"/>
                  <a:pt x="689764" y="1504993"/>
                  <a:pt x="693574" y="1600243"/>
                </a:cubicBezTo>
                <a:cubicBezTo>
                  <a:pt x="697384" y="1695493"/>
                  <a:pt x="571654" y="1761533"/>
                  <a:pt x="495454" y="1805983"/>
                </a:cubicBezTo>
                <a:cubicBezTo>
                  <a:pt x="419254" y="1850433"/>
                  <a:pt x="270664" y="1831383"/>
                  <a:pt x="236374" y="1866943"/>
                </a:cubicBezTo>
                <a:cubicBezTo>
                  <a:pt x="202084" y="1902503"/>
                  <a:pt x="329084" y="1957113"/>
                  <a:pt x="289714" y="2019343"/>
                </a:cubicBezTo>
                <a:cubicBezTo>
                  <a:pt x="250344" y="2081573"/>
                  <a:pt x="6504" y="2189523"/>
                  <a:pt x="154" y="2240323"/>
                </a:cubicBezTo>
                <a:cubicBezTo>
                  <a:pt x="-6196" y="2291123"/>
                  <a:pt x="184304" y="2298743"/>
                  <a:pt x="251614" y="2324143"/>
                </a:cubicBezTo>
                <a:cubicBezTo>
                  <a:pt x="318924" y="2349543"/>
                  <a:pt x="379884" y="2367323"/>
                  <a:pt x="404014" y="2392723"/>
                </a:cubicBezTo>
                <a:cubicBezTo>
                  <a:pt x="428144" y="2418123"/>
                  <a:pt x="348134" y="2476543"/>
                  <a:pt x="396394" y="2476543"/>
                </a:cubicBezTo>
                <a:cubicBezTo>
                  <a:pt x="444654" y="2476543"/>
                  <a:pt x="674524" y="2345733"/>
                  <a:pt x="693574" y="2392723"/>
                </a:cubicBezTo>
                <a:cubicBezTo>
                  <a:pt x="712624" y="2439713"/>
                  <a:pt x="605944" y="2607353"/>
                  <a:pt x="510694" y="2758483"/>
                </a:cubicBezTo>
                <a:cubicBezTo>
                  <a:pt x="415444" y="2909613"/>
                  <a:pt x="80164" y="3242353"/>
                  <a:pt x="122074" y="3299503"/>
                </a:cubicBezTo>
                <a:cubicBezTo>
                  <a:pt x="163984" y="3356653"/>
                  <a:pt x="638964" y="3095033"/>
                  <a:pt x="762154" y="3101383"/>
                </a:cubicBezTo>
                <a:cubicBezTo>
                  <a:pt x="885344" y="3107733"/>
                  <a:pt x="792634" y="3371893"/>
                  <a:pt x="861214" y="3337603"/>
                </a:cubicBezTo>
                <a:cubicBezTo>
                  <a:pt x="929794" y="3303313"/>
                  <a:pt x="1040284" y="3028993"/>
                  <a:pt x="1173634" y="2895643"/>
                </a:cubicBezTo>
                <a:cubicBezTo>
                  <a:pt x="1306984" y="2762293"/>
                  <a:pt x="1553364" y="2601003"/>
                  <a:pt x="1661314" y="2537503"/>
                </a:cubicBezTo>
                <a:cubicBezTo>
                  <a:pt x="1769264" y="2474003"/>
                  <a:pt x="1851814" y="2405423"/>
                  <a:pt x="1821334" y="2514643"/>
                </a:cubicBezTo>
                <a:cubicBezTo>
                  <a:pt x="1790854" y="2623863"/>
                  <a:pt x="1554634" y="3034073"/>
                  <a:pt x="1478434" y="3192823"/>
                </a:cubicBezTo>
                <a:cubicBezTo>
                  <a:pt x="1402234" y="3351573"/>
                  <a:pt x="1378104" y="3421423"/>
                  <a:pt x="1364134" y="3467143"/>
                </a:cubicBezTo>
                <a:cubicBezTo>
                  <a:pt x="1350164" y="3512863"/>
                  <a:pt x="1406044" y="3388403"/>
                  <a:pt x="1394614" y="3467143"/>
                </a:cubicBezTo>
                <a:cubicBezTo>
                  <a:pt x="1383184" y="3545883"/>
                  <a:pt x="1266344" y="3906563"/>
                  <a:pt x="1295554" y="3939583"/>
                </a:cubicBezTo>
                <a:cubicBezTo>
                  <a:pt x="1324764" y="3972603"/>
                  <a:pt x="1487324" y="3689393"/>
                  <a:pt x="1569874" y="3665263"/>
                </a:cubicBezTo>
                <a:cubicBezTo>
                  <a:pt x="1652424" y="3641133"/>
                  <a:pt x="1719734" y="3755433"/>
                  <a:pt x="1790854" y="3794803"/>
                </a:cubicBezTo>
                <a:cubicBezTo>
                  <a:pt x="1861974" y="3834173"/>
                  <a:pt x="1916584" y="3911643"/>
                  <a:pt x="1996594" y="3901483"/>
                </a:cubicBezTo>
                <a:cubicBezTo>
                  <a:pt x="2076604" y="3891323"/>
                  <a:pt x="2168044" y="3754163"/>
                  <a:pt x="2270914" y="3733843"/>
                </a:cubicBezTo>
                <a:cubicBezTo>
                  <a:pt x="2373784" y="3713523"/>
                  <a:pt x="2524914" y="3862113"/>
                  <a:pt x="2613814" y="3779563"/>
                </a:cubicBezTo>
                <a:cubicBezTo>
                  <a:pt x="2702714" y="3697013"/>
                  <a:pt x="2772564" y="3373163"/>
                  <a:pt x="2804314" y="3238543"/>
                </a:cubicBezTo>
                <a:cubicBezTo>
                  <a:pt x="2836064" y="3103923"/>
                  <a:pt x="2801774" y="3079793"/>
                  <a:pt x="2804314" y="2971843"/>
                </a:cubicBezTo>
                <a:cubicBezTo>
                  <a:pt x="2806854" y="2863893"/>
                  <a:pt x="2792884" y="2694983"/>
                  <a:pt x="2819554" y="2590843"/>
                </a:cubicBezTo>
                <a:cubicBezTo>
                  <a:pt x="2846224" y="2486703"/>
                  <a:pt x="2949094" y="2313983"/>
                  <a:pt x="2964334" y="2347003"/>
                </a:cubicBezTo>
                <a:cubicBezTo>
                  <a:pt x="2979574" y="2380023"/>
                  <a:pt x="2905914" y="2647993"/>
                  <a:pt x="2910994" y="2788963"/>
                </a:cubicBezTo>
                <a:cubicBezTo>
                  <a:pt x="2916074" y="2929933"/>
                  <a:pt x="2955444" y="3164883"/>
                  <a:pt x="2994814" y="3192823"/>
                </a:cubicBezTo>
                <a:cubicBezTo>
                  <a:pt x="3034184" y="3220763"/>
                  <a:pt x="3106574" y="2966763"/>
                  <a:pt x="3147214" y="2956603"/>
                </a:cubicBezTo>
                <a:cubicBezTo>
                  <a:pt x="3187854" y="2946443"/>
                  <a:pt x="3204364" y="3177583"/>
                  <a:pt x="3238654" y="3131863"/>
                </a:cubicBezTo>
                <a:cubicBezTo>
                  <a:pt x="3272944" y="3086143"/>
                  <a:pt x="3303424" y="2796583"/>
                  <a:pt x="3352954" y="2682283"/>
                </a:cubicBezTo>
                <a:cubicBezTo>
                  <a:pt x="3402484" y="2567983"/>
                  <a:pt x="3492654" y="2462573"/>
                  <a:pt x="3535834" y="2446063"/>
                </a:cubicBezTo>
                <a:cubicBezTo>
                  <a:pt x="3579014" y="2429553"/>
                  <a:pt x="3563774" y="2613703"/>
                  <a:pt x="3612034" y="2583223"/>
                </a:cubicBezTo>
                <a:cubicBezTo>
                  <a:pt x="3660294" y="2552743"/>
                  <a:pt x="3744114" y="2363513"/>
                  <a:pt x="3825394" y="2263183"/>
                </a:cubicBezTo>
                <a:cubicBezTo>
                  <a:pt x="3906674" y="2162853"/>
                  <a:pt x="4026054" y="2020613"/>
                  <a:pt x="4099714" y="1981243"/>
                </a:cubicBezTo>
                <a:cubicBezTo>
                  <a:pt x="4173374" y="1941873"/>
                  <a:pt x="4161944" y="2071413"/>
                  <a:pt x="4267354" y="2026963"/>
                </a:cubicBezTo>
                <a:cubicBezTo>
                  <a:pt x="4372764" y="1982513"/>
                  <a:pt x="4648354" y="1775503"/>
                  <a:pt x="4732174" y="1714543"/>
                </a:cubicBezTo>
                <a:cubicBezTo>
                  <a:pt x="4815994" y="1653583"/>
                  <a:pt x="4747414" y="1672633"/>
                  <a:pt x="4770274" y="1661203"/>
                </a:cubicBezTo>
                <a:cubicBezTo>
                  <a:pt x="4793134" y="1649773"/>
                  <a:pt x="4706774" y="1648503"/>
                  <a:pt x="4869334" y="1645963"/>
                </a:cubicBezTo>
                <a:cubicBezTo>
                  <a:pt x="5031894" y="1643423"/>
                  <a:pt x="5602124" y="1658663"/>
                  <a:pt x="5745634" y="1645963"/>
                </a:cubicBezTo>
                <a:cubicBezTo>
                  <a:pt x="5889144" y="1633263"/>
                  <a:pt x="5792624" y="1546903"/>
                  <a:pt x="5730394" y="153166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フリーフォーム 15"/>
          <p:cNvSpPr/>
          <p:nvPr/>
        </p:nvSpPr>
        <p:spPr>
          <a:xfrm>
            <a:off x="7354800" y="3089160"/>
            <a:ext cx="1428840" cy="2181240"/>
          </a:xfrm>
          <a:custGeom>
            <a:avLst/>
            <a:gdLst/>
            <a:ahLst/>
            <a:rect l="l" t="t" r="r" b="b"/>
            <a:pathLst>
              <a:path w="2850241" h="4720393">
                <a:moveTo>
                  <a:pt x="967906" y="4671628"/>
                </a:moveTo>
                <a:cubicBezTo>
                  <a:pt x="967906" y="4581458"/>
                  <a:pt x="1031406" y="4262688"/>
                  <a:pt x="1051726" y="4100128"/>
                </a:cubicBezTo>
                <a:cubicBezTo>
                  <a:pt x="1072046" y="3937568"/>
                  <a:pt x="1102526" y="3775008"/>
                  <a:pt x="1089826" y="3696268"/>
                </a:cubicBezTo>
                <a:cubicBezTo>
                  <a:pt x="1077126" y="3617528"/>
                  <a:pt x="1017436" y="3630228"/>
                  <a:pt x="975526" y="3627688"/>
                </a:cubicBezTo>
                <a:cubicBezTo>
                  <a:pt x="933616" y="3625148"/>
                  <a:pt x="875196" y="3669598"/>
                  <a:pt x="838366" y="3681028"/>
                </a:cubicBezTo>
                <a:cubicBezTo>
                  <a:pt x="801536" y="3692458"/>
                  <a:pt x="796456" y="3739448"/>
                  <a:pt x="754546" y="3696268"/>
                </a:cubicBezTo>
                <a:cubicBezTo>
                  <a:pt x="712636" y="3653088"/>
                  <a:pt x="627546" y="3484178"/>
                  <a:pt x="586906" y="3421948"/>
                </a:cubicBezTo>
                <a:cubicBezTo>
                  <a:pt x="546266" y="3359718"/>
                  <a:pt x="539916" y="3344478"/>
                  <a:pt x="510706" y="3322888"/>
                </a:cubicBezTo>
                <a:cubicBezTo>
                  <a:pt x="481496" y="3301298"/>
                  <a:pt x="412916" y="3349558"/>
                  <a:pt x="411646" y="3292408"/>
                </a:cubicBezTo>
                <a:cubicBezTo>
                  <a:pt x="410376" y="3235258"/>
                  <a:pt x="505626" y="3065078"/>
                  <a:pt x="503086" y="2979988"/>
                </a:cubicBezTo>
                <a:cubicBezTo>
                  <a:pt x="500546" y="2894898"/>
                  <a:pt x="456096" y="2864418"/>
                  <a:pt x="396406" y="2781868"/>
                </a:cubicBezTo>
                <a:cubicBezTo>
                  <a:pt x="336716" y="2699318"/>
                  <a:pt x="202096" y="2587558"/>
                  <a:pt x="144946" y="2484688"/>
                </a:cubicBezTo>
                <a:cubicBezTo>
                  <a:pt x="87796" y="2381818"/>
                  <a:pt x="19216" y="2215448"/>
                  <a:pt x="53506" y="2164648"/>
                </a:cubicBezTo>
                <a:cubicBezTo>
                  <a:pt x="87796" y="2113848"/>
                  <a:pt x="274486" y="2207828"/>
                  <a:pt x="350686" y="2179888"/>
                </a:cubicBezTo>
                <a:cubicBezTo>
                  <a:pt x="426886" y="2151948"/>
                  <a:pt x="542456" y="2087178"/>
                  <a:pt x="510706" y="1997008"/>
                </a:cubicBezTo>
                <a:cubicBezTo>
                  <a:pt x="478956" y="1906838"/>
                  <a:pt x="245276" y="1739198"/>
                  <a:pt x="160186" y="1638868"/>
                </a:cubicBezTo>
                <a:cubicBezTo>
                  <a:pt x="75096" y="1538538"/>
                  <a:pt x="5246" y="1452178"/>
                  <a:pt x="166" y="1395028"/>
                </a:cubicBezTo>
                <a:cubicBezTo>
                  <a:pt x="-4914" y="1337878"/>
                  <a:pt x="108116" y="1335338"/>
                  <a:pt x="129706" y="1295968"/>
                </a:cubicBezTo>
                <a:cubicBezTo>
                  <a:pt x="151296" y="1256598"/>
                  <a:pt x="130976" y="1221038"/>
                  <a:pt x="129706" y="1158808"/>
                </a:cubicBezTo>
                <a:cubicBezTo>
                  <a:pt x="128436" y="1096578"/>
                  <a:pt x="105576" y="983548"/>
                  <a:pt x="122086" y="922588"/>
                </a:cubicBezTo>
                <a:cubicBezTo>
                  <a:pt x="138596" y="861628"/>
                  <a:pt x="157646" y="780348"/>
                  <a:pt x="228766" y="793048"/>
                </a:cubicBezTo>
                <a:cubicBezTo>
                  <a:pt x="299886" y="805748"/>
                  <a:pt x="448476" y="986088"/>
                  <a:pt x="548806" y="998788"/>
                </a:cubicBezTo>
                <a:cubicBezTo>
                  <a:pt x="649136" y="1011488"/>
                  <a:pt x="781216" y="965768"/>
                  <a:pt x="830746" y="869248"/>
                </a:cubicBezTo>
                <a:cubicBezTo>
                  <a:pt x="880276" y="772728"/>
                  <a:pt x="826936" y="514918"/>
                  <a:pt x="845986" y="419668"/>
                </a:cubicBezTo>
                <a:cubicBezTo>
                  <a:pt x="865036" y="324418"/>
                  <a:pt x="917106" y="339658"/>
                  <a:pt x="945046" y="297748"/>
                </a:cubicBezTo>
                <a:cubicBezTo>
                  <a:pt x="972986" y="255838"/>
                  <a:pt x="966636" y="168208"/>
                  <a:pt x="1013626" y="168208"/>
                </a:cubicBezTo>
                <a:cubicBezTo>
                  <a:pt x="1060616" y="168208"/>
                  <a:pt x="1160946" y="285048"/>
                  <a:pt x="1226986" y="297748"/>
                </a:cubicBezTo>
                <a:cubicBezTo>
                  <a:pt x="1293026" y="310448"/>
                  <a:pt x="1361606" y="272348"/>
                  <a:pt x="1409866" y="244408"/>
                </a:cubicBezTo>
                <a:cubicBezTo>
                  <a:pt x="1458126" y="216468"/>
                  <a:pt x="1455586" y="170748"/>
                  <a:pt x="1516546" y="130108"/>
                </a:cubicBezTo>
                <a:cubicBezTo>
                  <a:pt x="1577506" y="89468"/>
                  <a:pt x="1729906" y="-8322"/>
                  <a:pt x="1775626" y="568"/>
                </a:cubicBezTo>
                <a:cubicBezTo>
                  <a:pt x="1821346" y="9458"/>
                  <a:pt x="1776896" y="152968"/>
                  <a:pt x="1790866" y="183448"/>
                </a:cubicBezTo>
                <a:cubicBezTo>
                  <a:pt x="1804836" y="213928"/>
                  <a:pt x="1842936" y="128838"/>
                  <a:pt x="1859446" y="183448"/>
                </a:cubicBezTo>
                <a:cubicBezTo>
                  <a:pt x="1875956" y="238058"/>
                  <a:pt x="1820076" y="447608"/>
                  <a:pt x="1889926" y="511108"/>
                </a:cubicBezTo>
                <a:cubicBezTo>
                  <a:pt x="1959776" y="574608"/>
                  <a:pt x="2220126" y="528888"/>
                  <a:pt x="2278546" y="564448"/>
                </a:cubicBezTo>
                <a:cubicBezTo>
                  <a:pt x="2336966" y="600008"/>
                  <a:pt x="2248066" y="671128"/>
                  <a:pt x="2240446" y="724468"/>
                </a:cubicBezTo>
                <a:cubicBezTo>
                  <a:pt x="2232826" y="777808"/>
                  <a:pt x="2237906" y="837498"/>
                  <a:pt x="2232826" y="884488"/>
                </a:cubicBezTo>
                <a:cubicBezTo>
                  <a:pt x="2227746" y="931478"/>
                  <a:pt x="2230286" y="964498"/>
                  <a:pt x="2209966" y="1006408"/>
                </a:cubicBezTo>
                <a:cubicBezTo>
                  <a:pt x="2189646" y="1048318"/>
                  <a:pt x="2132496" y="1080068"/>
                  <a:pt x="2110906" y="1135948"/>
                </a:cubicBezTo>
                <a:cubicBezTo>
                  <a:pt x="2089316" y="1191828"/>
                  <a:pt x="2098206" y="1294698"/>
                  <a:pt x="2080426" y="1341688"/>
                </a:cubicBezTo>
                <a:cubicBezTo>
                  <a:pt x="2062646" y="1388678"/>
                  <a:pt x="2006766" y="1392488"/>
                  <a:pt x="2004226" y="1417888"/>
                </a:cubicBezTo>
                <a:cubicBezTo>
                  <a:pt x="2001686" y="1443288"/>
                  <a:pt x="1978826" y="1461068"/>
                  <a:pt x="2065186" y="1494088"/>
                </a:cubicBezTo>
                <a:cubicBezTo>
                  <a:pt x="2151546" y="1527108"/>
                  <a:pt x="2391576" y="1603308"/>
                  <a:pt x="2522386" y="1616008"/>
                </a:cubicBezTo>
                <a:cubicBezTo>
                  <a:pt x="2653196" y="1628708"/>
                  <a:pt x="2842426" y="1534728"/>
                  <a:pt x="2850046" y="1570288"/>
                </a:cubicBezTo>
                <a:cubicBezTo>
                  <a:pt x="2857666" y="1605848"/>
                  <a:pt x="2640496" y="1734118"/>
                  <a:pt x="2568106" y="1829368"/>
                </a:cubicBezTo>
                <a:cubicBezTo>
                  <a:pt x="2495716" y="1924618"/>
                  <a:pt x="2527466" y="2071938"/>
                  <a:pt x="2415706" y="2141788"/>
                </a:cubicBezTo>
                <a:cubicBezTo>
                  <a:pt x="2303946" y="2211638"/>
                  <a:pt x="1995336" y="2202748"/>
                  <a:pt x="1897546" y="2248468"/>
                </a:cubicBezTo>
                <a:cubicBezTo>
                  <a:pt x="1799756" y="2294188"/>
                  <a:pt x="1770546" y="2364038"/>
                  <a:pt x="1828966" y="2416108"/>
                </a:cubicBezTo>
                <a:cubicBezTo>
                  <a:pt x="1887386" y="2468178"/>
                  <a:pt x="2272196" y="2475798"/>
                  <a:pt x="2248066" y="2560888"/>
                </a:cubicBezTo>
                <a:cubicBezTo>
                  <a:pt x="2223936" y="2645978"/>
                  <a:pt x="1797216" y="2841558"/>
                  <a:pt x="1684186" y="2926648"/>
                </a:cubicBezTo>
                <a:cubicBezTo>
                  <a:pt x="1571156" y="3011738"/>
                  <a:pt x="1567346" y="3033328"/>
                  <a:pt x="1569886" y="3071428"/>
                </a:cubicBezTo>
                <a:cubicBezTo>
                  <a:pt x="1572426" y="3109528"/>
                  <a:pt x="1718476" y="3098098"/>
                  <a:pt x="1699426" y="3155248"/>
                </a:cubicBezTo>
                <a:cubicBezTo>
                  <a:pt x="1680376" y="3212398"/>
                  <a:pt x="1508926" y="3343208"/>
                  <a:pt x="1455586" y="3414328"/>
                </a:cubicBezTo>
                <a:cubicBezTo>
                  <a:pt x="1402246" y="3485448"/>
                  <a:pt x="1408596" y="3518468"/>
                  <a:pt x="1379386" y="3581968"/>
                </a:cubicBezTo>
                <a:cubicBezTo>
                  <a:pt x="1350176" y="3645468"/>
                  <a:pt x="1318426" y="3739448"/>
                  <a:pt x="1280326" y="3795328"/>
                </a:cubicBezTo>
                <a:cubicBezTo>
                  <a:pt x="1242226" y="3851208"/>
                  <a:pt x="1182536" y="3839778"/>
                  <a:pt x="1150786" y="3917248"/>
                </a:cubicBezTo>
                <a:cubicBezTo>
                  <a:pt x="1119036" y="3994718"/>
                  <a:pt x="1106336" y="4139498"/>
                  <a:pt x="1089826" y="4260148"/>
                </a:cubicBezTo>
                <a:cubicBezTo>
                  <a:pt x="1073316" y="4380798"/>
                  <a:pt x="1072046" y="4570028"/>
                  <a:pt x="1051726" y="4641148"/>
                </a:cubicBezTo>
                <a:cubicBezTo>
                  <a:pt x="1031406" y="4712268"/>
                  <a:pt x="967906" y="4761798"/>
                  <a:pt x="967906" y="4671628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フリーフォーム 16"/>
          <p:cNvSpPr/>
          <p:nvPr/>
        </p:nvSpPr>
        <p:spPr>
          <a:xfrm>
            <a:off x="8056440" y="4437000"/>
            <a:ext cx="1663920" cy="1629000"/>
          </a:xfrm>
          <a:custGeom>
            <a:avLst/>
            <a:gdLst/>
            <a:ahLst/>
            <a:rect l="l" t="t" r="r" b="b"/>
            <a:pathLst>
              <a:path w="1534855" h="1629107">
                <a:moveTo>
                  <a:pt x="1031649" y="13471"/>
                </a:moveTo>
                <a:cubicBezTo>
                  <a:pt x="955449" y="36331"/>
                  <a:pt x="730236" y="133698"/>
                  <a:pt x="650649" y="155711"/>
                </a:cubicBezTo>
                <a:cubicBezTo>
                  <a:pt x="571062" y="177724"/>
                  <a:pt x="596462" y="131158"/>
                  <a:pt x="554129" y="145551"/>
                </a:cubicBezTo>
                <a:cubicBezTo>
                  <a:pt x="511796" y="159944"/>
                  <a:pt x="437289" y="207358"/>
                  <a:pt x="396649" y="242071"/>
                </a:cubicBezTo>
                <a:cubicBezTo>
                  <a:pt x="356009" y="276784"/>
                  <a:pt x="363629" y="308958"/>
                  <a:pt x="310289" y="353831"/>
                </a:cubicBezTo>
                <a:cubicBezTo>
                  <a:pt x="256949" y="398704"/>
                  <a:pt x="128256" y="462204"/>
                  <a:pt x="76609" y="511311"/>
                </a:cubicBezTo>
                <a:cubicBezTo>
                  <a:pt x="24962" y="560418"/>
                  <a:pt x="-3824" y="631538"/>
                  <a:pt x="409" y="648471"/>
                </a:cubicBezTo>
                <a:cubicBezTo>
                  <a:pt x="4642" y="665404"/>
                  <a:pt x="84229" y="606984"/>
                  <a:pt x="102009" y="612911"/>
                </a:cubicBezTo>
                <a:cubicBezTo>
                  <a:pt x="119789" y="618838"/>
                  <a:pt x="76609" y="678951"/>
                  <a:pt x="107089" y="684031"/>
                </a:cubicBezTo>
                <a:cubicBezTo>
                  <a:pt x="137569" y="689111"/>
                  <a:pt x="277269" y="609524"/>
                  <a:pt x="284889" y="643391"/>
                </a:cubicBezTo>
                <a:cubicBezTo>
                  <a:pt x="292509" y="677258"/>
                  <a:pt x="186676" y="826271"/>
                  <a:pt x="152809" y="887231"/>
                </a:cubicBezTo>
                <a:cubicBezTo>
                  <a:pt x="118942" y="948191"/>
                  <a:pt x="84229" y="985444"/>
                  <a:pt x="81689" y="1009151"/>
                </a:cubicBezTo>
                <a:cubicBezTo>
                  <a:pt x="79149" y="1032858"/>
                  <a:pt x="138416" y="987984"/>
                  <a:pt x="137569" y="1029471"/>
                </a:cubicBezTo>
                <a:cubicBezTo>
                  <a:pt x="136722" y="1070958"/>
                  <a:pt x="83382" y="1207271"/>
                  <a:pt x="76609" y="1258071"/>
                </a:cubicBezTo>
                <a:cubicBezTo>
                  <a:pt x="69836" y="1308871"/>
                  <a:pt x="84229" y="1302944"/>
                  <a:pt x="96929" y="1334271"/>
                </a:cubicBezTo>
                <a:cubicBezTo>
                  <a:pt x="109629" y="1365598"/>
                  <a:pt x="116402" y="1456191"/>
                  <a:pt x="152809" y="1446031"/>
                </a:cubicBezTo>
                <a:cubicBezTo>
                  <a:pt x="189216" y="1435871"/>
                  <a:pt x="279809" y="1285164"/>
                  <a:pt x="315369" y="1273311"/>
                </a:cubicBezTo>
                <a:cubicBezTo>
                  <a:pt x="350929" y="1261458"/>
                  <a:pt x="320449" y="1401158"/>
                  <a:pt x="366169" y="1374911"/>
                </a:cubicBezTo>
                <a:cubicBezTo>
                  <a:pt x="411889" y="1348664"/>
                  <a:pt x="543122" y="1161551"/>
                  <a:pt x="589689" y="1115831"/>
                </a:cubicBezTo>
                <a:cubicBezTo>
                  <a:pt x="636256" y="1070111"/>
                  <a:pt x="637102" y="1065878"/>
                  <a:pt x="645569" y="1100591"/>
                </a:cubicBezTo>
                <a:cubicBezTo>
                  <a:pt x="654036" y="1135304"/>
                  <a:pt x="641336" y="1275004"/>
                  <a:pt x="640489" y="1324111"/>
                </a:cubicBezTo>
                <a:cubicBezTo>
                  <a:pt x="639642" y="1373218"/>
                  <a:pt x="634562" y="1386764"/>
                  <a:pt x="640489" y="1395231"/>
                </a:cubicBezTo>
                <a:cubicBezTo>
                  <a:pt x="646416" y="1403698"/>
                  <a:pt x="663349" y="1357978"/>
                  <a:pt x="676049" y="1374911"/>
                </a:cubicBezTo>
                <a:cubicBezTo>
                  <a:pt x="688749" y="1391844"/>
                  <a:pt x="697216" y="1454498"/>
                  <a:pt x="716689" y="1496831"/>
                </a:cubicBezTo>
                <a:cubicBezTo>
                  <a:pt x="736162" y="1539164"/>
                  <a:pt x="765796" y="1633991"/>
                  <a:pt x="792889" y="1628911"/>
                </a:cubicBezTo>
                <a:cubicBezTo>
                  <a:pt x="819982" y="1623831"/>
                  <a:pt x="848769" y="1481591"/>
                  <a:pt x="879249" y="1466351"/>
                </a:cubicBezTo>
                <a:cubicBezTo>
                  <a:pt x="909729" y="1451111"/>
                  <a:pt x="948676" y="1558638"/>
                  <a:pt x="975769" y="1537471"/>
                </a:cubicBezTo>
                <a:cubicBezTo>
                  <a:pt x="1002862" y="1516304"/>
                  <a:pt x="1018949" y="1361364"/>
                  <a:pt x="1041809" y="1339351"/>
                </a:cubicBezTo>
                <a:cubicBezTo>
                  <a:pt x="1064669" y="1317338"/>
                  <a:pt x="1085836" y="1446031"/>
                  <a:pt x="1112929" y="1405391"/>
                </a:cubicBezTo>
                <a:cubicBezTo>
                  <a:pt x="1140022" y="1364751"/>
                  <a:pt x="1160342" y="1141231"/>
                  <a:pt x="1204369" y="1095511"/>
                </a:cubicBezTo>
                <a:cubicBezTo>
                  <a:pt x="1248396" y="1049791"/>
                  <a:pt x="1337296" y="1155624"/>
                  <a:pt x="1377089" y="1131071"/>
                </a:cubicBezTo>
                <a:cubicBezTo>
                  <a:pt x="1416882" y="1106518"/>
                  <a:pt x="1419422" y="978671"/>
                  <a:pt x="1443129" y="948191"/>
                </a:cubicBezTo>
                <a:cubicBezTo>
                  <a:pt x="1466836" y="917711"/>
                  <a:pt x="1515942" y="973591"/>
                  <a:pt x="1519329" y="948191"/>
                </a:cubicBezTo>
                <a:cubicBezTo>
                  <a:pt x="1522716" y="922791"/>
                  <a:pt x="1460909" y="826271"/>
                  <a:pt x="1463449" y="795791"/>
                </a:cubicBezTo>
                <a:cubicBezTo>
                  <a:pt x="1465989" y="765311"/>
                  <a:pt x="1530336" y="793251"/>
                  <a:pt x="1534569" y="765311"/>
                </a:cubicBezTo>
                <a:cubicBezTo>
                  <a:pt x="1538802" y="737371"/>
                  <a:pt x="1494776" y="673024"/>
                  <a:pt x="1488849" y="628151"/>
                </a:cubicBezTo>
                <a:cubicBezTo>
                  <a:pt x="1482922" y="583278"/>
                  <a:pt x="1525256" y="553644"/>
                  <a:pt x="1499009" y="496071"/>
                </a:cubicBezTo>
                <a:cubicBezTo>
                  <a:pt x="1472762" y="438498"/>
                  <a:pt x="1383016" y="345364"/>
                  <a:pt x="1331369" y="282711"/>
                </a:cubicBezTo>
                <a:cubicBezTo>
                  <a:pt x="1279722" y="220058"/>
                  <a:pt x="1226382" y="164178"/>
                  <a:pt x="1189129" y="120151"/>
                </a:cubicBezTo>
                <a:cubicBezTo>
                  <a:pt x="1151876" y="76124"/>
                  <a:pt x="1135789" y="37178"/>
                  <a:pt x="1107849" y="18551"/>
                </a:cubicBezTo>
                <a:cubicBezTo>
                  <a:pt x="1079909" y="-76"/>
                  <a:pt x="1107849" y="-9389"/>
                  <a:pt x="1031649" y="13471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フリーフォーム 17"/>
          <p:cNvSpPr/>
          <p:nvPr/>
        </p:nvSpPr>
        <p:spPr>
          <a:xfrm>
            <a:off x="6073920" y="225360"/>
            <a:ext cx="2162160" cy="689040"/>
          </a:xfrm>
          <a:custGeom>
            <a:avLst/>
            <a:gdLst/>
            <a:ahLst/>
            <a:rect l="l" t="t" r="r" b="b"/>
            <a:pathLst>
              <a:path w="2545080" h="877808">
                <a:moveTo>
                  <a:pt x="1676400" y="393306"/>
                </a:moveTo>
                <a:cubicBezTo>
                  <a:pt x="1584325" y="327901"/>
                  <a:pt x="1445895" y="224396"/>
                  <a:pt x="1337310" y="168516"/>
                </a:cubicBezTo>
                <a:cubicBezTo>
                  <a:pt x="1228725" y="112636"/>
                  <a:pt x="1125220" y="85966"/>
                  <a:pt x="1024890" y="58026"/>
                </a:cubicBezTo>
                <a:cubicBezTo>
                  <a:pt x="924560" y="30086"/>
                  <a:pt x="850265" y="-6109"/>
                  <a:pt x="735330" y="876"/>
                </a:cubicBezTo>
                <a:cubicBezTo>
                  <a:pt x="620395" y="7861"/>
                  <a:pt x="457835" y="26276"/>
                  <a:pt x="335280" y="99936"/>
                </a:cubicBezTo>
                <a:cubicBezTo>
                  <a:pt x="212725" y="173596"/>
                  <a:pt x="34290" y="361556"/>
                  <a:pt x="0" y="442836"/>
                </a:cubicBezTo>
                <a:cubicBezTo>
                  <a:pt x="30480" y="527926"/>
                  <a:pt x="64770" y="527926"/>
                  <a:pt x="129540" y="587616"/>
                </a:cubicBezTo>
                <a:cubicBezTo>
                  <a:pt x="194310" y="647306"/>
                  <a:pt x="281940" y="752716"/>
                  <a:pt x="388620" y="800976"/>
                </a:cubicBezTo>
                <a:cubicBezTo>
                  <a:pt x="495300" y="849236"/>
                  <a:pt x="615950" y="882891"/>
                  <a:pt x="769620" y="877176"/>
                </a:cubicBezTo>
                <a:cubicBezTo>
                  <a:pt x="923290" y="871461"/>
                  <a:pt x="1159510" y="835901"/>
                  <a:pt x="1310640" y="766686"/>
                </a:cubicBezTo>
                <a:cubicBezTo>
                  <a:pt x="1461770" y="697471"/>
                  <a:pt x="1564640" y="499351"/>
                  <a:pt x="1676400" y="461886"/>
                </a:cubicBezTo>
                <a:cubicBezTo>
                  <a:pt x="1788160" y="424421"/>
                  <a:pt x="1893570" y="497446"/>
                  <a:pt x="2004060" y="530466"/>
                </a:cubicBezTo>
                <a:cubicBezTo>
                  <a:pt x="2114550" y="563486"/>
                  <a:pt x="2258060" y="626986"/>
                  <a:pt x="2339340" y="660006"/>
                </a:cubicBezTo>
                <a:cubicBezTo>
                  <a:pt x="2420620" y="693026"/>
                  <a:pt x="2457450" y="730491"/>
                  <a:pt x="2491740" y="728586"/>
                </a:cubicBezTo>
                <a:cubicBezTo>
                  <a:pt x="2526030" y="726681"/>
                  <a:pt x="2545080" y="669531"/>
                  <a:pt x="2545080" y="648576"/>
                </a:cubicBezTo>
                <a:cubicBezTo>
                  <a:pt x="2545080" y="627621"/>
                  <a:pt x="2508250" y="605396"/>
                  <a:pt x="2491740" y="602856"/>
                </a:cubicBezTo>
                <a:cubicBezTo>
                  <a:pt x="2475230" y="600316"/>
                  <a:pt x="2527300" y="655561"/>
                  <a:pt x="2446020" y="633336"/>
                </a:cubicBezTo>
                <a:cubicBezTo>
                  <a:pt x="2364740" y="611111"/>
                  <a:pt x="2132330" y="509511"/>
                  <a:pt x="2004060" y="469506"/>
                </a:cubicBezTo>
                <a:cubicBezTo>
                  <a:pt x="1875790" y="429501"/>
                  <a:pt x="1753235" y="393941"/>
                  <a:pt x="1676400" y="393306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フリーフォーム 18"/>
          <p:cNvSpPr/>
          <p:nvPr/>
        </p:nvSpPr>
        <p:spPr>
          <a:xfrm>
            <a:off x="6540480" y="1344600"/>
            <a:ext cx="1441440" cy="855720"/>
          </a:xfrm>
          <a:custGeom>
            <a:avLst/>
            <a:gdLst/>
            <a:ahLst/>
            <a:rect l="l" t="t" r="r" b="b"/>
            <a:pathLst>
              <a:path w="1694411" h="1090756">
                <a:moveTo>
                  <a:pt x="1683236" y="1044886"/>
                </a:moveTo>
                <a:cubicBezTo>
                  <a:pt x="1653603" y="1016099"/>
                  <a:pt x="1529143" y="960219"/>
                  <a:pt x="1485116" y="917886"/>
                </a:cubicBezTo>
                <a:cubicBezTo>
                  <a:pt x="1441089" y="875553"/>
                  <a:pt x="1458023" y="869626"/>
                  <a:pt x="1419076" y="790886"/>
                </a:cubicBezTo>
                <a:cubicBezTo>
                  <a:pt x="1380129" y="712146"/>
                  <a:pt x="1335256" y="555513"/>
                  <a:pt x="1251436" y="445446"/>
                </a:cubicBezTo>
                <a:cubicBezTo>
                  <a:pt x="1167616" y="335379"/>
                  <a:pt x="1045696" y="204146"/>
                  <a:pt x="916156" y="130486"/>
                </a:cubicBezTo>
                <a:cubicBezTo>
                  <a:pt x="786616" y="56826"/>
                  <a:pt x="610509" y="18726"/>
                  <a:pt x="474196" y="3486"/>
                </a:cubicBezTo>
                <a:cubicBezTo>
                  <a:pt x="337883" y="-11754"/>
                  <a:pt x="177016" y="27193"/>
                  <a:pt x="98276" y="39046"/>
                </a:cubicBezTo>
                <a:cubicBezTo>
                  <a:pt x="19536" y="50899"/>
                  <a:pt x="-7557" y="5179"/>
                  <a:pt x="1756" y="74606"/>
                </a:cubicBezTo>
                <a:cubicBezTo>
                  <a:pt x="11069" y="144033"/>
                  <a:pt x="65256" y="335379"/>
                  <a:pt x="154156" y="455606"/>
                </a:cubicBezTo>
                <a:cubicBezTo>
                  <a:pt x="243056" y="575833"/>
                  <a:pt x="420856" y="718073"/>
                  <a:pt x="535156" y="795966"/>
                </a:cubicBezTo>
                <a:cubicBezTo>
                  <a:pt x="649456" y="873859"/>
                  <a:pt x="775609" y="895026"/>
                  <a:pt x="839956" y="922966"/>
                </a:cubicBezTo>
                <a:cubicBezTo>
                  <a:pt x="904303" y="950906"/>
                  <a:pt x="905996" y="949213"/>
                  <a:pt x="921236" y="963606"/>
                </a:cubicBezTo>
                <a:cubicBezTo>
                  <a:pt x="936476" y="977999"/>
                  <a:pt x="885676" y="1007633"/>
                  <a:pt x="931396" y="1009326"/>
                </a:cubicBezTo>
                <a:cubicBezTo>
                  <a:pt x="977116" y="1011019"/>
                  <a:pt x="1110043" y="979693"/>
                  <a:pt x="1195556" y="973766"/>
                </a:cubicBezTo>
                <a:cubicBezTo>
                  <a:pt x="1281069" y="967839"/>
                  <a:pt x="1374203" y="959373"/>
                  <a:pt x="1444476" y="973766"/>
                </a:cubicBezTo>
                <a:cubicBezTo>
                  <a:pt x="1514749" y="988159"/>
                  <a:pt x="1580789" y="1040653"/>
                  <a:pt x="1617196" y="1060126"/>
                </a:cubicBezTo>
                <a:cubicBezTo>
                  <a:pt x="1653603" y="1079599"/>
                  <a:pt x="1650216" y="1092299"/>
                  <a:pt x="1662916" y="1090606"/>
                </a:cubicBezTo>
                <a:cubicBezTo>
                  <a:pt x="1675616" y="1088913"/>
                  <a:pt x="1712869" y="1073673"/>
                  <a:pt x="1683236" y="1044886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フリーフォーム 19"/>
          <p:cNvSpPr/>
          <p:nvPr/>
        </p:nvSpPr>
        <p:spPr>
          <a:xfrm>
            <a:off x="5027760" y="1096920"/>
            <a:ext cx="1535040" cy="812880"/>
          </a:xfrm>
          <a:custGeom>
            <a:avLst/>
            <a:gdLst/>
            <a:ahLst/>
            <a:rect l="l" t="t" r="r" b="b"/>
            <a:pathLst>
              <a:path w="1806556" h="1036125">
                <a:moveTo>
                  <a:pt x="1704812" y="19567"/>
                </a:moveTo>
                <a:cubicBezTo>
                  <a:pt x="1650625" y="39887"/>
                  <a:pt x="1562572" y="110160"/>
                  <a:pt x="1471132" y="126247"/>
                </a:cubicBezTo>
                <a:cubicBezTo>
                  <a:pt x="1379692" y="142334"/>
                  <a:pt x="1298412" y="98307"/>
                  <a:pt x="1156172" y="116087"/>
                </a:cubicBezTo>
                <a:cubicBezTo>
                  <a:pt x="1013932" y="133867"/>
                  <a:pt x="765012" y="178740"/>
                  <a:pt x="617692" y="232927"/>
                </a:cubicBezTo>
                <a:cubicBezTo>
                  <a:pt x="470372" y="287114"/>
                  <a:pt x="316279" y="397180"/>
                  <a:pt x="272252" y="441207"/>
                </a:cubicBezTo>
                <a:cubicBezTo>
                  <a:pt x="228225" y="485234"/>
                  <a:pt x="335752" y="469994"/>
                  <a:pt x="353532" y="497087"/>
                </a:cubicBezTo>
                <a:cubicBezTo>
                  <a:pt x="371312" y="524180"/>
                  <a:pt x="394172" y="578367"/>
                  <a:pt x="378932" y="603767"/>
                </a:cubicBezTo>
                <a:cubicBezTo>
                  <a:pt x="363692" y="629167"/>
                  <a:pt x="289185" y="658800"/>
                  <a:pt x="262092" y="649487"/>
                </a:cubicBezTo>
                <a:cubicBezTo>
                  <a:pt x="234999" y="640174"/>
                  <a:pt x="237539" y="541960"/>
                  <a:pt x="216372" y="547887"/>
                </a:cubicBezTo>
                <a:cubicBezTo>
                  <a:pt x="195205" y="553814"/>
                  <a:pt x="158799" y="635940"/>
                  <a:pt x="135092" y="685047"/>
                </a:cubicBezTo>
                <a:cubicBezTo>
                  <a:pt x="111385" y="734154"/>
                  <a:pt x="94452" y="800194"/>
                  <a:pt x="74132" y="842527"/>
                </a:cubicBezTo>
                <a:cubicBezTo>
                  <a:pt x="53812" y="884860"/>
                  <a:pt x="-32548" y="911954"/>
                  <a:pt x="13172" y="939047"/>
                </a:cubicBezTo>
                <a:cubicBezTo>
                  <a:pt x="58892" y="966140"/>
                  <a:pt x="240079" y="990694"/>
                  <a:pt x="348452" y="1005087"/>
                </a:cubicBezTo>
                <a:cubicBezTo>
                  <a:pt x="456825" y="1019480"/>
                  <a:pt x="537259" y="1053347"/>
                  <a:pt x="663412" y="1025407"/>
                </a:cubicBezTo>
                <a:cubicBezTo>
                  <a:pt x="789565" y="997467"/>
                  <a:pt x="992765" y="909414"/>
                  <a:pt x="1105372" y="837447"/>
                </a:cubicBezTo>
                <a:cubicBezTo>
                  <a:pt x="1217979" y="765480"/>
                  <a:pt x="1267085" y="677427"/>
                  <a:pt x="1339052" y="593607"/>
                </a:cubicBezTo>
                <a:cubicBezTo>
                  <a:pt x="1411019" y="509787"/>
                  <a:pt x="1495685" y="409880"/>
                  <a:pt x="1537172" y="334527"/>
                </a:cubicBezTo>
                <a:cubicBezTo>
                  <a:pt x="1578659" y="259174"/>
                  <a:pt x="1547332" y="185514"/>
                  <a:pt x="1587972" y="141487"/>
                </a:cubicBezTo>
                <a:cubicBezTo>
                  <a:pt x="1628612" y="97460"/>
                  <a:pt x="1746299" y="93227"/>
                  <a:pt x="1781012" y="70367"/>
                </a:cubicBezTo>
                <a:cubicBezTo>
                  <a:pt x="1815725" y="47507"/>
                  <a:pt x="1808952" y="12794"/>
                  <a:pt x="1796252" y="4327"/>
                </a:cubicBezTo>
                <a:cubicBezTo>
                  <a:pt x="1783552" y="-4140"/>
                  <a:pt x="1758999" y="-753"/>
                  <a:pt x="1704812" y="19567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フリーフォーム 20"/>
          <p:cNvSpPr/>
          <p:nvPr/>
        </p:nvSpPr>
        <p:spPr>
          <a:xfrm>
            <a:off x="8327880" y="225360"/>
            <a:ext cx="1425600" cy="1123920"/>
          </a:xfrm>
          <a:custGeom>
            <a:avLst/>
            <a:gdLst/>
            <a:ahLst/>
            <a:rect l="l" t="t" r="r" b="b"/>
            <a:pathLst>
              <a:path w="1677372" h="1433876">
                <a:moveTo>
                  <a:pt x="1187910" y="1227"/>
                </a:moveTo>
                <a:cubicBezTo>
                  <a:pt x="1120177" y="4614"/>
                  <a:pt x="961850" y="11387"/>
                  <a:pt x="857710" y="52027"/>
                </a:cubicBezTo>
                <a:cubicBezTo>
                  <a:pt x="753570" y="92667"/>
                  <a:pt x="663823" y="184954"/>
                  <a:pt x="563070" y="245067"/>
                </a:cubicBezTo>
                <a:cubicBezTo>
                  <a:pt x="462317" y="305180"/>
                  <a:pt x="318383" y="312800"/>
                  <a:pt x="253190" y="412707"/>
                </a:cubicBezTo>
                <a:cubicBezTo>
                  <a:pt x="187997" y="512614"/>
                  <a:pt x="198157" y="731054"/>
                  <a:pt x="171910" y="844507"/>
                </a:cubicBezTo>
                <a:cubicBezTo>
                  <a:pt x="145663" y="957960"/>
                  <a:pt x="108410" y="1021460"/>
                  <a:pt x="95710" y="1093427"/>
                </a:cubicBezTo>
                <a:cubicBezTo>
                  <a:pt x="83010" y="1165394"/>
                  <a:pt x="110103" y="1219580"/>
                  <a:pt x="95710" y="1276307"/>
                </a:cubicBezTo>
                <a:cubicBezTo>
                  <a:pt x="81317" y="1333034"/>
                  <a:pt x="-32983" y="1430400"/>
                  <a:pt x="9350" y="1433787"/>
                </a:cubicBezTo>
                <a:cubicBezTo>
                  <a:pt x="51683" y="1437174"/>
                  <a:pt x="226097" y="1344040"/>
                  <a:pt x="349710" y="1296627"/>
                </a:cubicBezTo>
                <a:cubicBezTo>
                  <a:pt x="473323" y="1249214"/>
                  <a:pt x="644350" y="1193334"/>
                  <a:pt x="751030" y="1149307"/>
                </a:cubicBezTo>
                <a:cubicBezTo>
                  <a:pt x="857710" y="1105280"/>
                  <a:pt x="891577" y="1066334"/>
                  <a:pt x="989790" y="1032467"/>
                </a:cubicBezTo>
                <a:cubicBezTo>
                  <a:pt x="1088003" y="998600"/>
                  <a:pt x="1244637" y="1001987"/>
                  <a:pt x="1340310" y="946107"/>
                </a:cubicBezTo>
                <a:cubicBezTo>
                  <a:pt x="1435983" y="890227"/>
                  <a:pt x="1508797" y="786087"/>
                  <a:pt x="1563830" y="697187"/>
                </a:cubicBezTo>
                <a:cubicBezTo>
                  <a:pt x="1618863" y="608287"/>
                  <a:pt x="1701837" y="477900"/>
                  <a:pt x="1670510" y="412707"/>
                </a:cubicBezTo>
                <a:cubicBezTo>
                  <a:pt x="1639183" y="347514"/>
                  <a:pt x="1432597" y="342434"/>
                  <a:pt x="1375870" y="306027"/>
                </a:cubicBezTo>
                <a:cubicBezTo>
                  <a:pt x="1319143" y="269620"/>
                  <a:pt x="1330150" y="194267"/>
                  <a:pt x="1330150" y="194267"/>
                </a:cubicBezTo>
                <a:cubicBezTo>
                  <a:pt x="1311523" y="148547"/>
                  <a:pt x="1289510" y="63880"/>
                  <a:pt x="1264110" y="31707"/>
                </a:cubicBezTo>
                <a:cubicBezTo>
                  <a:pt x="1238710" y="-466"/>
                  <a:pt x="1255643" y="-2160"/>
                  <a:pt x="1187910" y="1227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フリーフォーム 21"/>
          <p:cNvSpPr/>
          <p:nvPr/>
        </p:nvSpPr>
        <p:spPr>
          <a:xfrm>
            <a:off x="8089920" y="1434960"/>
            <a:ext cx="1127160" cy="897120"/>
          </a:xfrm>
          <a:custGeom>
            <a:avLst/>
            <a:gdLst/>
            <a:ahLst/>
            <a:rect l="l" t="t" r="r" b="b"/>
            <a:pathLst>
              <a:path w="899166" h="776412">
                <a:moveTo>
                  <a:pt x="4962" y="734736"/>
                </a:moveTo>
                <a:cubicBezTo>
                  <a:pt x="19779" y="717062"/>
                  <a:pt x="95132" y="689016"/>
                  <a:pt x="123707" y="669331"/>
                </a:cubicBezTo>
                <a:cubicBezTo>
                  <a:pt x="116087" y="617261"/>
                  <a:pt x="86877" y="564662"/>
                  <a:pt x="90687" y="475656"/>
                </a:cubicBezTo>
                <a:cubicBezTo>
                  <a:pt x="94497" y="386650"/>
                  <a:pt x="102540" y="214036"/>
                  <a:pt x="146567" y="135296"/>
                </a:cubicBezTo>
                <a:cubicBezTo>
                  <a:pt x="190594" y="56556"/>
                  <a:pt x="249014" y="17609"/>
                  <a:pt x="354847" y="3216"/>
                </a:cubicBezTo>
                <a:cubicBezTo>
                  <a:pt x="460680" y="-11177"/>
                  <a:pt x="695207" y="26076"/>
                  <a:pt x="781567" y="48936"/>
                </a:cubicBezTo>
                <a:cubicBezTo>
                  <a:pt x="867927" y="71796"/>
                  <a:pt x="853534" y="108203"/>
                  <a:pt x="873007" y="140376"/>
                </a:cubicBezTo>
                <a:cubicBezTo>
                  <a:pt x="892480" y="172549"/>
                  <a:pt x="898407" y="175089"/>
                  <a:pt x="898407" y="241976"/>
                </a:cubicBezTo>
                <a:cubicBezTo>
                  <a:pt x="898407" y="308863"/>
                  <a:pt x="906027" y="466343"/>
                  <a:pt x="873007" y="541696"/>
                </a:cubicBezTo>
                <a:cubicBezTo>
                  <a:pt x="839987" y="617049"/>
                  <a:pt x="764634" y="657689"/>
                  <a:pt x="700287" y="694096"/>
                </a:cubicBezTo>
                <a:cubicBezTo>
                  <a:pt x="635940" y="730503"/>
                  <a:pt x="568207" y="758443"/>
                  <a:pt x="486927" y="760136"/>
                </a:cubicBezTo>
                <a:cubicBezTo>
                  <a:pt x="405647" y="761829"/>
                  <a:pt x="269122" y="715474"/>
                  <a:pt x="212607" y="704256"/>
                </a:cubicBezTo>
                <a:cubicBezTo>
                  <a:pt x="156092" y="693038"/>
                  <a:pt x="177470" y="692403"/>
                  <a:pt x="147837" y="692826"/>
                </a:cubicBezTo>
                <a:cubicBezTo>
                  <a:pt x="131539" y="712299"/>
                  <a:pt x="58619" y="768391"/>
                  <a:pt x="34807" y="775376"/>
                </a:cubicBezTo>
                <a:cubicBezTo>
                  <a:pt x="10995" y="782361"/>
                  <a:pt x="-9855" y="752410"/>
                  <a:pt x="4962" y="734736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フリーフォーム 22"/>
          <p:cNvSpPr/>
          <p:nvPr/>
        </p:nvSpPr>
        <p:spPr>
          <a:xfrm>
            <a:off x="5599080" y="1973160"/>
            <a:ext cx="1165320" cy="717480"/>
          </a:xfrm>
          <a:custGeom>
            <a:avLst/>
            <a:gdLst/>
            <a:ahLst/>
            <a:rect l="l" t="t" r="r" b="b"/>
            <a:pathLst>
              <a:path w="929850" h="620483">
                <a:moveTo>
                  <a:pt x="14" y="619854"/>
                </a:moveTo>
                <a:cubicBezTo>
                  <a:pt x="1284" y="626627"/>
                  <a:pt x="63091" y="576674"/>
                  <a:pt x="109234" y="569054"/>
                </a:cubicBezTo>
                <a:cubicBezTo>
                  <a:pt x="155377" y="561434"/>
                  <a:pt x="187127" y="579214"/>
                  <a:pt x="276874" y="574134"/>
                </a:cubicBezTo>
                <a:cubicBezTo>
                  <a:pt x="366621" y="569054"/>
                  <a:pt x="543997" y="580907"/>
                  <a:pt x="647714" y="538574"/>
                </a:cubicBezTo>
                <a:cubicBezTo>
                  <a:pt x="751431" y="496241"/>
                  <a:pt x="853877" y="386174"/>
                  <a:pt x="899174" y="320134"/>
                </a:cubicBezTo>
                <a:cubicBezTo>
                  <a:pt x="944471" y="254094"/>
                  <a:pt x="928807" y="177471"/>
                  <a:pt x="919494" y="142334"/>
                </a:cubicBezTo>
                <a:cubicBezTo>
                  <a:pt x="910181" y="107197"/>
                  <a:pt x="843294" y="109314"/>
                  <a:pt x="843294" y="109314"/>
                </a:cubicBezTo>
                <a:cubicBezTo>
                  <a:pt x="787414" y="85607"/>
                  <a:pt x="687507" y="-3293"/>
                  <a:pt x="584214" y="94"/>
                </a:cubicBezTo>
                <a:cubicBezTo>
                  <a:pt x="480921" y="3481"/>
                  <a:pt x="306507" y="60631"/>
                  <a:pt x="223534" y="129634"/>
                </a:cubicBezTo>
                <a:cubicBezTo>
                  <a:pt x="140561" y="198637"/>
                  <a:pt x="106694" y="347651"/>
                  <a:pt x="86374" y="414114"/>
                </a:cubicBezTo>
                <a:cubicBezTo>
                  <a:pt x="66054" y="480577"/>
                  <a:pt x="120664" y="500897"/>
                  <a:pt x="101614" y="528414"/>
                </a:cubicBezTo>
                <a:cubicBezTo>
                  <a:pt x="82564" y="555931"/>
                  <a:pt x="-1256" y="613081"/>
                  <a:pt x="14" y="619854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フリーフォーム 23"/>
          <p:cNvSpPr/>
          <p:nvPr/>
        </p:nvSpPr>
        <p:spPr>
          <a:xfrm>
            <a:off x="6745320" y="2414520"/>
            <a:ext cx="741240" cy="1054080"/>
          </a:xfrm>
          <a:custGeom>
            <a:avLst/>
            <a:gdLst/>
            <a:ahLst/>
            <a:rect l="l" t="t" r="r" b="b"/>
            <a:pathLst>
              <a:path w="592055" h="912887">
                <a:moveTo>
                  <a:pt x="269310" y="3370"/>
                </a:moveTo>
                <a:cubicBezTo>
                  <a:pt x="226977" y="25807"/>
                  <a:pt x="133843" y="164660"/>
                  <a:pt x="88970" y="234510"/>
                </a:cubicBezTo>
                <a:cubicBezTo>
                  <a:pt x="44097" y="304360"/>
                  <a:pt x="-2047" y="353890"/>
                  <a:pt x="70" y="422470"/>
                </a:cubicBezTo>
                <a:cubicBezTo>
                  <a:pt x="2187" y="491050"/>
                  <a:pt x="58067" y="590110"/>
                  <a:pt x="101670" y="645990"/>
                </a:cubicBezTo>
                <a:cubicBezTo>
                  <a:pt x="145273" y="701870"/>
                  <a:pt x="232480" y="732773"/>
                  <a:pt x="261690" y="757750"/>
                </a:cubicBezTo>
                <a:cubicBezTo>
                  <a:pt x="290900" y="782727"/>
                  <a:pt x="281587" y="772567"/>
                  <a:pt x="276930" y="795850"/>
                </a:cubicBezTo>
                <a:cubicBezTo>
                  <a:pt x="272273" y="819133"/>
                  <a:pt x="234173" y="879670"/>
                  <a:pt x="233750" y="897450"/>
                </a:cubicBezTo>
                <a:cubicBezTo>
                  <a:pt x="233327" y="915230"/>
                  <a:pt x="262113" y="918617"/>
                  <a:pt x="274390" y="902530"/>
                </a:cubicBezTo>
                <a:cubicBezTo>
                  <a:pt x="286667" y="886443"/>
                  <a:pt x="291323" y="821673"/>
                  <a:pt x="307410" y="800930"/>
                </a:cubicBezTo>
                <a:cubicBezTo>
                  <a:pt x="323497" y="780187"/>
                  <a:pt x="332810" y="806010"/>
                  <a:pt x="370910" y="778070"/>
                </a:cubicBezTo>
                <a:cubicBezTo>
                  <a:pt x="409010" y="750130"/>
                  <a:pt x="499603" y="709913"/>
                  <a:pt x="536010" y="633290"/>
                </a:cubicBezTo>
                <a:cubicBezTo>
                  <a:pt x="572417" y="556667"/>
                  <a:pt x="601203" y="400033"/>
                  <a:pt x="589350" y="318330"/>
                </a:cubicBezTo>
                <a:cubicBezTo>
                  <a:pt x="577497" y="236627"/>
                  <a:pt x="505953" y="179477"/>
                  <a:pt x="464890" y="143070"/>
                </a:cubicBezTo>
                <a:cubicBezTo>
                  <a:pt x="423827" y="106663"/>
                  <a:pt x="379377" y="122750"/>
                  <a:pt x="342970" y="99890"/>
                </a:cubicBezTo>
                <a:cubicBezTo>
                  <a:pt x="306563" y="77030"/>
                  <a:pt x="311643" y="-19067"/>
                  <a:pt x="269310" y="337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フリーフォーム 24"/>
          <p:cNvSpPr/>
          <p:nvPr/>
        </p:nvSpPr>
        <p:spPr>
          <a:xfrm>
            <a:off x="8607600" y="2449440"/>
            <a:ext cx="920520" cy="1077840"/>
          </a:xfrm>
          <a:custGeom>
            <a:avLst/>
            <a:gdLst/>
            <a:ahLst/>
            <a:rect l="l" t="t" r="r" b="b"/>
            <a:pathLst>
              <a:path w="733951" h="933164">
                <a:moveTo>
                  <a:pt x="530748" y="1419"/>
                </a:moveTo>
                <a:cubicBezTo>
                  <a:pt x="523551" y="9039"/>
                  <a:pt x="566308" y="71692"/>
                  <a:pt x="553608" y="85239"/>
                </a:cubicBezTo>
                <a:cubicBezTo>
                  <a:pt x="540908" y="98786"/>
                  <a:pt x="512968" y="71692"/>
                  <a:pt x="454548" y="82699"/>
                </a:cubicBezTo>
                <a:cubicBezTo>
                  <a:pt x="396128" y="93706"/>
                  <a:pt x="275055" y="103442"/>
                  <a:pt x="203088" y="151279"/>
                </a:cubicBezTo>
                <a:cubicBezTo>
                  <a:pt x="131121" y="199116"/>
                  <a:pt x="54921" y="288016"/>
                  <a:pt x="22748" y="369719"/>
                </a:cubicBezTo>
                <a:cubicBezTo>
                  <a:pt x="-9425" y="451422"/>
                  <a:pt x="-1382" y="561489"/>
                  <a:pt x="10048" y="641499"/>
                </a:cubicBezTo>
                <a:cubicBezTo>
                  <a:pt x="21478" y="721509"/>
                  <a:pt x="77358" y="801519"/>
                  <a:pt x="91328" y="849779"/>
                </a:cubicBezTo>
                <a:cubicBezTo>
                  <a:pt x="105298" y="898039"/>
                  <a:pt x="67198" y="922169"/>
                  <a:pt x="93868" y="931059"/>
                </a:cubicBezTo>
                <a:cubicBezTo>
                  <a:pt x="120538" y="939949"/>
                  <a:pt x="186155" y="918782"/>
                  <a:pt x="251348" y="903119"/>
                </a:cubicBezTo>
                <a:cubicBezTo>
                  <a:pt x="316541" y="887456"/>
                  <a:pt x="405865" y="900156"/>
                  <a:pt x="485028" y="837079"/>
                </a:cubicBezTo>
                <a:cubicBezTo>
                  <a:pt x="564191" y="774002"/>
                  <a:pt x="696271" y="633456"/>
                  <a:pt x="726328" y="524659"/>
                </a:cubicBezTo>
                <a:cubicBezTo>
                  <a:pt x="756385" y="415862"/>
                  <a:pt x="689498" y="252456"/>
                  <a:pt x="665368" y="184299"/>
                </a:cubicBezTo>
                <a:cubicBezTo>
                  <a:pt x="641238" y="116142"/>
                  <a:pt x="592978" y="139849"/>
                  <a:pt x="581548" y="115719"/>
                </a:cubicBezTo>
                <a:cubicBezTo>
                  <a:pt x="570118" y="91589"/>
                  <a:pt x="601445" y="60686"/>
                  <a:pt x="596788" y="39519"/>
                </a:cubicBezTo>
                <a:cubicBezTo>
                  <a:pt x="592131" y="18352"/>
                  <a:pt x="537945" y="-6201"/>
                  <a:pt x="530748" y="141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フリーフォーム 25"/>
          <p:cNvSpPr/>
          <p:nvPr/>
        </p:nvSpPr>
        <p:spPr>
          <a:xfrm>
            <a:off x="4091040" y="1609560"/>
            <a:ext cx="936720" cy="1241640"/>
          </a:xfrm>
          <a:custGeom>
            <a:avLst/>
            <a:gdLst/>
            <a:ahLst/>
            <a:rect l="l" t="t" r="r" b="b"/>
            <a:pathLst>
              <a:path w="648606" h="931866">
                <a:moveTo>
                  <a:pt x="395643" y="3162"/>
                </a:moveTo>
                <a:cubicBezTo>
                  <a:pt x="355003" y="17555"/>
                  <a:pt x="268220" y="81055"/>
                  <a:pt x="202603" y="150482"/>
                </a:cubicBezTo>
                <a:cubicBezTo>
                  <a:pt x="136986" y="219909"/>
                  <a:pt x="17606" y="324895"/>
                  <a:pt x="1943" y="419722"/>
                </a:cubicBezTo>
                <a:cubicBezTo>
                  <a:pt x="-13720" y="514549"/>
                  <a:pt x="69253" y="654672"/>
                  <a:pt x="108623" y="719442"/>
                </a:cubicBezTo>
                <a:cubicBezTo>
                  <a:pt x="147993" y="784212"/>
                  <a:pt x="214033" y="775322"/>
                  <a:pt x="238163" y="808342"/>
                </a:cubicBezTo>
                <a:cubicBezTo>
                  <a:pt x="262293" y="841362"/>
                  <a:pt x="242820" y="898935"/>
                  <a:pt x="253403" y="917562"/>
                </a:cubicBezTo>
                <a:cubicBezTo>
                  <a:pt x="263986" y="936189"/>
                  <a:pt x="298276" y="936188"/>
                  <a:pt x="301663" y="920102"/>
                </a:cubicBezTo>
                <a:cubicBezTo>
                  <a:pt x="305050" y="904016"/>
                  <a:pt x="274570" y="839245"/>
                  <a:pt x="273723" y="821042"/>
                </a:cubicBezTo>
                <a:cubicBezTo>
                  <a:pt x="272876" y="802839"/>
                  <a:pt x="285576" y="813845"/>
                  <a:pt x="296583" y="810882"/>
                </a:cubicBezTo>
                <a:cubicBezTo>
                  <a:pt x="307590" y="807919"/>
                  <a:pt x="317750" y="811729"/>
                  <a:pt x="339763" y="803262"/>
                </a:cubicBezTo>
                <a:cubicBezTo>
                  <a:pt x="361776" y="794795"/>
                  <a:pt x="385906" y="792255"/>
                  <a:pt x="428663" y="760082"/>
                </a:cubicBezTo>
                <a:cubicBezTo>
                  <a:pt x="471420" y="727909"/>
                  <a:pt x="559896" y="671605"/>
                  <a:pt x="596303" y="610222"/>
                </a:cubicBezTo>
                <a:cubicBezTo>
                  <a:pt x="632710" y="548839"/>
                  <a:pt x="654723" y="457399"/>
                  <a:pt x="647103" y="391782"/>
                </a:cubicBezTo>
                <a:cubicBezTo>
                  <a:pt x="639483" y="326165"/>
                  <a:pt x="584026" y="271132"/>
                  <a:pt x="550583" y="216522"/>
                </a:cubicBezTo>
                <a:cubicBezTo>
                  <a:pt x="517140" y="161912"/>
                  <a:pt x="469303" y="102222"/>
                  <a:pt x="446443" y="64122"/>
                </a:cubicBezTo>
                <a:cubicBezTo>
                  <a:pt x="423583" y="26022"/>
                  <a:pt x="436283" y="-11231"/>
                  <a:pt x="395643" y="3162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フリーフォーム 26"/>
          <p:cNvSpPr/>
          <p:nvPr/>
        </p:nvSpPr>
        <p:spPr>
          <a:xfrm>
            <a:off x="5076720" y="2568600"/>
            <a:ext cx="857520" cy="1079640"/>
          </a:xfrm>
          <a:custGeom>
            <a:avLst/>
            <a:gdLst/>
            <a:ahLst/>
            <a:rect l="l" t="t" r="r" b="b"/>
            <a:pathLst>
              <a:path w="684005" h="933819">
                <a:moveTo>
                  <a:pt x="66040" y="17548"/>
                </a:moveTo>
                <a:cubicBezTo>
                  <a:pt x="40217" y="63691"/>
                  <a:pt x="0" y="222018"/>
                  <a:pt x="0" y="322348"/>
                </a:cubicBezTo>
                <a:cubicBezTo>
                  <a:pt x="0" y="422678"/>
                  <a:pt x="34713" y="545868"/>
                  <a:pt x="66040" y="619528"/>
                </a:cubicBezTo>
                <a:cubicBezTo>
                  <a:pt x="97367" y="693188"/>
                  <a:pt x="135043" y="724938"/>
                  <a:pt x="187960" y="764308"/>
                </a:cubicBezTo>
                <a:cubicBezTo>
                  <a:pt x="240877" y="803678"/>
                  <a:pt x="328930" y="839238"/>
                  <a:pt x="383540" y="855748"/>
                </a:cubicBezTo>
                <a:cubicBezTo>
                  <a:pt x="438150" y="872258"/>
                  <a:pt x="490643" y="859558"/>
                  <a:pt x="515620" y="863368"/>
                </a:cubicBezTo>
                <a:cubicBezTo>
                  <a:pt x="540597" y="867178"/>
                  <a:pt x="523663" y="867601"/>
                  <a:pt x="533400" y="878608"/>
                </a:cubicBezTo>
                <a:cubicBezTo>
                  <a:pt x="543137" y="889615"/>
                  <a:pt x="560917" y="921365"/>
                  <a:pt x="574040" y="929408"/>
                </a:cubicBezTo>
                <a:cubicBezTo>
                  <a:pt x="587163" y="937451"/>
                  <a:pt x="611717" y="933218"/>
                  <a:pt x="612140" y="926868"/>
                </a:cubicBezTo>
                <a:cubicBezTo>
                  <a:pt x="612563" y="920518"/>
                  <a:pt x="584200" y="903161"/>
                  <a:pt x="576580" y="891308"/>
                </a:cubicBezTo>
                <a:cubicBezTo>
                  <a:pt x="568960" y="879455"/>
                  <a:pt x="567267" y="864215"/>
                  <a:pt x="566420" y="855748"/>
                </a:cubicBezTo>
                <a:cubicBezTo>
                  <a:pt x="565573" y="847281"/>
                  <a:pt x="564727" y="850245"/>
                  <a:pt x="571500" y="840508"/>
                </a:cubicBezTo>
                <a:cubicBezTo>
                  <a:pt x="578273" y="830771"/>
                  <a:pt x="588433" y="849821"/>
                  <a:pt x="607060" y="797328"/>
                </a:cubicBezTo>
                <a:cubicBezTo>
                  <a:pt x="625687" y="744835"/>
                  <a:pt x="691727" y="614871"/>
                  <a:pt x="683260" y="525548"/>
                </a:cubicBezTo>
                <a:cubicBezTo>
                  <a:pt x="674793" y="436225"/>
                  <a:pt x="615527" y="330815"/>
                  <a:pt x="556260" y="261388"/>
                </a:cubicBezTo>
                <a:cubicBezTo>
                  <a:pt x="496993" y="191961"/>
                  <a:pt x="394547" y="144971"/>
                  <a:pt x="327660" y="108988"/>
                </a:cubicBezTo>
                <a:cubicBezTo>
                  <a:pt x="260773" y="73005"/>
                  <a:pt x="198120" y="61998"/>
                  <a:pt x="154940" y="45488"/>
                </a:cubicBezTo>
                <a:cubicBezTo>
                  <a:pt x="111760" y="28978"/>
                  <a:pt x="91863" y="-28595"/>
                  <a:pt x="66040" y="17548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フリーフォーム 27"/>
          <p:cNvSpPr/>
          <p:nvPr/>
        </p:nvSpPr>
        <p:spPr>
          <a:xfrm>
            <a:off x="5423040" y="3583080"/>
            <a:ext cx="1733400" cy="1193760"/>
          </a:xfrm>
          <a:custGeom>
            <a:avLst/>
            <a:gdLst/>
            <a:ahLst/>
            <a:rect l="l" t="t" r="r" b="b"/>
            <a:pathLst>
              <a:path w="1307143" h="974774">
                <a:moveTo>
                  <a:pt x="526796" y="329893"/>
                </a:moveTo>
                <a:cubicBezTo>
                  <a:pt x="484124" y="375613"/>
                  <a:pt x="149860" y="477213"/>
                  <a:pt x="63500" y="524965"/>
                </a:cubicBezTo>
                <a:cubicBezTo>
                  <a:pt x="-22860" y="572717"/>
                  <a:pt x="1524" y="597101"/>
                  <a:pt x="8636" y="616405"/>
                </a:cubicBezTo>
                <a:cubicBezTo>
                  <a:pt x="15748" y="635709"/>
                  <a:pt x="100076" y="623517"/>
                  <a:pt x="106172" y="640789"/>
                </a:cubicBezTo>
                <a:cubicBezTo>
                  <a:pt x="112268" y="658061"/>
                  <a:pt x="6604" y="711909"/>
                  <a:pt x="45212" y="720037"/>
                </a:cubicBezTo>
                <a:cubicBezTo>
                  <a:pt x="83820" y="728165"/>
                  <a:pt x="232156" y="740357"/>
                  <a:pt x="337820" y="689557"/>
                </a:cubicBezTo>
                <a:cubicBezTo>
                  <a:pt x="443484" y="638757"/>
                  <a:pt x="627380" y="411173"/>
                  <a:pt x="679196" y="415237"/>
                </a:cubicBezTo>
                <a:cubicBezTo>
                  <a:pt x="731012" y="419301"/>
                  <a:pt x="647700" y="622501"/>
                  <a:pt x="648716" y="713941"/>
                </a:cubicBezTo>
                <a:cubicBezTo>
                  <a:pt x="649732" y="805381"/>
                  <a:pt x="667004" y="928317"/>
                  <a:pt x="685292" y="963877"/>
                </a:cubicBezTo>
                <a:cubicBezTo>
                  <a:pt x="703580" y="999437"/>
                  <a:pt x="734060" y="937461"/>
                  <a:pt x="758444" y="927301"/>
                </a:cubicBezTo>
                <a:cubicBezTo>
                  <a:pt x="782828" y="917141"/>
                  <a:pt x="805180" y="928317"/>
                  <a:pt x="831596" y="902917"/>
                </a:cubicBezTo>
                <a:cubicBezTo>
                  <a:pt x="858012" y="877517"/>
                  <a:pt x="908812" y="852117"/>
                  <a:pt x="916940" y="774901"/>
                </a:cubicBezTo>
                <a:cubicBezTo>
                  <a:pt x="925068" y="697685"/>
                  <a:pt x="858012" y="486357"/>
                  <a:pt x="880364" y="439621"/>
                </a:cubicBezTo>
                <a:cubicBezTo>
                  <a:pt x="902716" y="392885"/>
                  <a:pt x="995172" y="498549"/>
                  <a:pt x="1051052" y="494485"/>
                </a:cubicBezTo>
                <a:cubicBezTo>
                  <a:pt x="1106932" y="490421"/>
                  <a:pt x="1215644" y="415237"/>
                  <a:pt x="1215644" y="415237"/>
                </a:cubicBezTo>
                <a:cubicBezTo>
                  <a:pt x="1258316" y="394917"/>
                  <a:pt x="1309116" y="382725"/>
                  <a:pt x="1307084" y="372565"/>
                </a:cubicBezTo>
                <a:cubicBezTo>
                  <a:pt x="1305052" y="362405"/>
                  <a:pt x="1250188" y="373581"/>
                  <a:pt x="1203452" y="354277"/>
                </a:cubicBezTo>
                <a:cubicBezTo>
                  <a:pt x="1156716" y="334973"/>
                  <a:pt x="1068324" y="267917"/>
                  <a:pt x="1026668" y="256741"/>
                </a:cubicBezTo>
                <a:cubicBezTo>
                  <a:pt x="985012" y="245565"/>
                  <a:pt x="980948" y="282141"/>
                  <a:pt x="953516" y="287221"/>
                </a:cubicBezTo>
                <a:cubicBezTo>
                  <a:pt x="926084" y="292301"/>
                  <a:pt x="885444" y="279093"/>
                  <a:pt x="862076" y="287221"/>
                </a:cubicBezTo>
                <a:cubicBezTo>
                  <a:pt x="838708" y="295349"/>
                  <a:pt x="821436" y="362405"/>
                  <a:pt x="813308" y="335989"/>
                </a:cubicBezTo>
                <a:cubicBezTo>
                  <a:pt x="805180" y="309573"/>
                  <a:pt x="821436" y="184605"/>
                  <a:pt x="813308" y="128725"/>
                </a:cubicBezTo>
                <a:cubicBezTo>
                  <a:pt x="805180" y="72845"/>
                  <a:pt x="783844" y="-8435"/>
                  <a:pt x="764540" y="709"/>
                </a:cubicBezTo>
                <a:cubicBezTo>
                  <a:pt x="745236" y="9853"/>
                  <a:pt x="734060" y="164285"/>
                  <a:pt x="697484" y="183589"/>
                </a:cubicBezTo>
                <a:cubicBezTo>
                  <a:pt x="660908" y="202893"/>
                  <a:pt x="591820" y="134821"/>
                  <a:pt x="545084" y="116533"/>
                </a:cubicBezTo>
                <a:cubicBezTo>
                  <a:pt x="498348" y="98245"/>
                  <a:pt x="459740" y="75893"/>
                  <a:pt x="417068" y="73861"/>
                </a:cubicBezTo>
                <a:cubicBezTo>
                  <a:pt x="374396" y="71829"/>
                  <a:pt x="296164" y="87069"/>
                  <a:pt x="289052" y="104341"/>
                </a:cubicBezTo>
                <a:cubicBezTo>
                  <a:pt x="281940" y="121613"/>
                  <a:pt x="392684" y="172413"/>
                  <a:pt x="374396" y="177493"/>
                </a:cubicBezTo>
                <a:cubicBezTo>
                  <a:pt x="356108" y="182573"/>
                  <a:pt x="188468" y="122629"/>
                  <a:pt x="179324" y="134821"/>
                </a:cubicBezTo>
                <a:cubicBezTo>
                  <a:pt x="170180" y="147013"/>
                  <a:pt x="260604" y="223213"/>
                  <a:pt x="319532" y="250645"/>
                </a:cubicBezTo>
                <a:cubicBezTo>
                  <a:pt x="378460" y="278077"/>
                  <a:pt x="569468" y="284173"/>
                  <a:pt x="526796" y="32989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フリーフォーム 4"/>
          <p:cNvSpPr/>
          <p:nvPr/>
        </p:nvSpPr>
        <p:spPr>
          <a:xfrm>
            <a:off x="281160" y="282600"/>
            <a:ext cx="1180800" cy="100980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フリーフォーム 1"/>
          <p:cNvSpPr/>
          <p:nvPr/>
        </p:nvSpPr>
        <p:spPr>
          <a:xfrm>
            <a:off x="1608120" y="298440"/>
            <a:ext cx="1461960" cy="193212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フリーフォーム 6"/>
          <p:cNvSpPr/>
          <p:nvPr/>
        </p:nvSpPr>
        <p:spPr>
          <a:xfrm>
            <a:off x="3071880" y="677880"/>
            <a:ext cx="1542960" cy="186516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フリーフォーム 7"/>
          <p:cNvSpPr/>
          <p:nvPr/>
        </p:nvSpPr>
        <p:spPr>
          <a:xfrm>
            <a:off x="1003320" y="2806560"/>
            <a:ext cx="2838600" cy="1677960"/>
          </a:xfrm>
          <a:custGeom>
            <a:avLst/>
            <a:gdLst/>
            <a:ahLst/>
            <a:rect l="l" t="t" r="r" b="b"/>
            <a:pathLst>
              <a:path w="5243308" h="3355942">
                <a:moveTo>
                  <a:pt x="2264438" y="999241"/>
                </a:moveTo>
                <a:cubicBezTo>
                  <a:pt x="2028768" y="961534"/>
                  <a:pt x="1254198" y="760428"/>
                  <a:pt x="888124" y="678729"/>
                </a:cubicBezTo>
                <a:cubicBezTo>
                  <a:pt x="522050" y="597030"/>
                  <a:pt x="153514" y="510723"/>
                  <a:pt x="67992" y="509047"/>
                </a:cubicBezTo>
                <a:cubicBezTo>
                  <a:pt x="-17530" y="507371"/>
                  <a:pt x="-17006" y="543402"/>
                  <a:pt x="39712" y="546754"/>
                </a:cubicBezTo>
                <a:cubicBezTo>
                  <a:pt x="96430" y="550106"/>
                  <a:pt x="1048380" y="772997"/>
                  <a:pt x="1048380" y="772997"/>
                </a:cubicBezTo>
                <a:cubicBezTo>
                  <a:pt x="1412883" y="854696"/>
                  <a:pt x="2000487" y="952107"/>
                  <a:pt x="2226730" y="1036948"/>
                </a:cubicBezTo>
                <a:cubicBezTo>
                  <a:pt x="2452973" y="1121789"/>
                  <a:pt x="2455907" y="1195999"/>
                  <a:pt x="2405840" y="1282045"/>
                </a:cubicBezTo>
                <a:cubicBezTo>
                  <a:pt x="2355773" y="1368091"/>
                  <a:pt x="2228302" y="1486293"/>
                  <a:pt x="2170170" y="1583703"/>
                </a:cubicBezTo>
                <a:cubicBezTo>
                  <a:pt x="2112038" y="1681113"/>
                  <a:pt x="2096326" y="1721963"/>
                  <a:pt x="2057048" y="1866507"/>
                </a:cubicBezTo>
                <a:cubicBezTo>
                  <a:pt x="2017770" y="2011051"/>
                  <a:pt x="1891451" y="2381839"/>
                  <a:pt x="1934500" y="2450969"/>
                </a:cubicBezTo>
                <a:cubicBezTo>
                  <a:pt x="2023269" y="2454059"/>
                  <a:pt x="2072759" y="2333133"/>
                  <a:pt x="2132462" y="2281286"/>
                </a:cubicBezTo>
                <a:cubicBezTo>
                  <a:pt x="2192165" y="2229439"/>
                  <a:pt x="2236157" y="2215298"/>
                  <a:pt x="2292718" y="2139884"/>
                </a:cubicBezTo>
                <a:cubicBezTo>
                  <a:pt x="2349279" y="2064470"/>
                  <a:pt x="2424798" y="1853991"/>
                  <a:pt x="2471827" y="1828800"/>
                </a:cubicBezTo>
                <a:cubicBezTo>
                  <a:pt x="2498536" y="1869649"/>
                  <a:pt x="2416838" y="2231010"/>
                  <a:pt x="2452974" y="2384981"/>
                </a:cubicBezTo>
                <a:cubicBezTo>
                  <a:pt x="2489110" y="2538952"/>
                  <a:pt x="2619514" y="2590799"/>
                  <a:pt x="2688644" y="2752626"/>
                </a:cubicBezTo>
                <a:cubicBezTo>
                  <a:pt x="2757774" y="2914453"/>
                  <a:pt x="2826000" y="3301934"/>
                  <a:pt x="2867753" y="3355942"/>
                </a:cubicBezTo>
                <a:cubicBezTo>
                  <a:pt x="2920936" y="3316605"/>
                  <a:pt x="2930598" y="2879889"/>
                  <a:pt x="2962021" y="2733773"/>
                </a:cubicBezTo>
                <a:cubicBezTo>
                  <a:pt x="2993444" y="2587658"/>
                  <a:pt x="3061002" y="2604940"/>
                  <a:pt x="3056289" y="2479249"/>
                </a:cubicBezTo>
                <a:cubicBezTo>
                  <a:pt x="3051576" y="2353558"/>
                  <a:pt x="2900747" y="1984341"/>
                  <a:pt x="2933741" y="1979628"/>
                </a:cubicBezTo>
                <a:cubicBezTo>
                  <a:pt x="2987055" y="2025715"/>
                  <a:pt x="3104994" y="2317423"/>
                  <a:pt x="3254252" y="2450969"/>
                </a:cubicBezTo>
                <a:cubicBezTo>
                  <a:pt x="3403510" y="2584515"/>
                  <a:pt x="3691027" y="2670928"/>
                  <a:pt x="3829287" y="2780907"/>
                </a:cubicBezTo>
                <a:cubicBezTo>
                  <a:pt x="3967547" y="2890886"/>
                  <a:pt x="4035675" y="3031738"/>
                  <a:pt x="4083811" y="3110845"/>
                </a:cubicBezTo>
                <a:cubicBezTo>
                  <a:pt x="4116707" y="3048982"/>
                  <a:pt x="4112091" y="2883030"/>
                  <a:pt x="4083811" y="2752626"/>
                </a:cubicBezTo>
                <a:cubicBezTo>
                  <a:pt x="4055531" y="2622222"/>
                  <a:pt x="3987971" y="2461966"/>
                  <a:pt x="3914128" y="2328420"/>
                </a:cubicBezTo>
                <a:cubicBezTo>
                  <a:pt x="3840285" y="2194874"/>
                  <a:pt x="3725592" y="2061327"/>
                  <a:pt x="3640751" y="1951348"/>
                </a:cubicBezTo>
                <a:cubicBezTo>
                  <a:pt x="3555910" y="1841369"/>
                  <a:pt x="3388898" y="1705976"/>
                  <a:pt x="3405081" y="1668544"/>
                </a:cubicBezTo>
                <a:cubicBezTo>
                  <a:pt x="3436504" y="1665402"/>
                  <a:pt x="3621897" y="1904214"/>
                  <a:pt x="3829287" y="1932494"/>
                </a:cubicBezTo>
                <a:cubicBezTo>
                  <a:pt x="4036677" y="1960774"/>
                  <a:pt x="4413749" y="1850795"/>
                  <a:pt x="4649419" y="1838226"/>
                </a:cubicBezTo>
                <a:cubicBezTo>
                  <a:pt x="4885089" y="1825657"/>
                  <a:pt x="5135901" y="1868392"/>
                  <a:pt x="5243308" y="1857080"/>
                </a:cubicBezTo>
                <a:cubicBezTo>
                  <a:pt x="5204030" y="1784808"/>
                  <a:pt x="4616425" y="1520857"/>
                  <a:pt x="4413749" y="1404593"/>
                </a:cubicBezTo>
                <a:cubicBezTo>
                  <a:pt x="4211073" y="1288329"/>
                  <a:pt x="4182792" y="1220770"/>
                  <a:pt x="4027250" y="1159496"/>
                </a:cubicBezTo>
                <a:cubicBezTo>
                  <a:pt x="3871708" y="1098222"/>
                  <a:pt x="3546404" y="1066741"/>
                  <a:pt x="3480495" y="1036948"/>
                </a:cubicBezTo>
                <a:cubicBezTo>
                  <a:pt x="3507931" y="970960"/>
                  <a:pt x="3796294" y="936396"/>
                  <a:pt x="3951836" y="763571"/>
                </a:cubicBezTo>
                <a:cubicBezTo>
                  <a:pt x="4107378" y="590746"/>
                  <a:pt x="4398745" y="100513"/>
                  <a:pt x="4413749" y="0"/>
                </a:cubicBezTo>
                <a:cubicBezTo>
                  <a:pt x="4343028" y="17597"/>
                  <a:pt x="4066529" y="256095"/>
                  <a:pt x="3904702" y="320511"/>
                </a:cubicBezTo>
                <a:cubicBezTo>
                  <a:pt x="3742875" y="384927"/>
                  <a:pt x="3593617" y="312655"/>
                  <a:pt x="3442788" y="386498"/>
                </a:cubicBezTo>
                <a:cubicBezTo>
                  <a:pt x="3291959" y="460341"/>
                  <a:pt x="3067287" y="707854"/>
                  <a:pt x="2999728" y="763571"/>
                </a:cubicBezTo>
                <a:cubicBezTo>
                  <a:pt x="2962649" y="689747"/>
                  <a:pt x="3032723" y="598602"/>
                  <a:pt x="3037436" y="480767"/>
                </a:cubicBezTo>
                <a:cubicBezTo>
                  <a:pt x="3042149" y="362932"/>
                  <a:pt x="3062849" y="134331"/>
                  <a:pt x="3028009" y="56560"/>
                </a:cubicBezTo>
                <a:cubicBezTo>
                  <a:pt x="2949354" y="89279"/>
                  <a:pt x="2704355" y="334651"/>
                  <a:pt x="2622656" y="471340"/>
                </a:cubicBezTo>
                <a:cubicBezTo>
                  <a:pt x="2540957" y="608029"/>
                  <a:pt x="2558043" y="803124"/>
                  <a:pt x="2537815" y="876692"/>
                </a:cubicBezTo>
                <a:cubicBezTo>
                  <a:pt x="2494727" y="843580"/>
                  <a:pt x="2452974" y="741575"/>
                  <a:pt x="2386986" y="707010"/>
                </a:cubicBezTo>
                <a:cubicBezTo>
                  <a:pt x="2320998" y="672445"/>
                  <a:pt x="2199844" y="659169"/>
                  <a:pt x="2141889" y="669303"/>
                </a:cubicBezTo>
                <a:cubicBezTo>
                  <a:pt x="2158229" y="709917"/>
                  <a:pt x="2278578" y="854697"/>
                  <a:pt x="2302145" y="904973"/>
                </a:cubicBezTo>
                <a:cubicBezTo>
                  <a:pt x="2325712" y="955249"/>
                  <a:pt x="2500108" y="1036948"/>
                  <a:pt x="2264438" y="999241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フリーフォーム 8"/>
          <p:cNvSpPr/>
          <p:nvPr/>
        </p:nvSpPr>
        <p:spPr>
          <a:xfrm>
            <a:off x="22320" y="1292400"/>
            <a:ext cx="1698480" cy="164916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フリーフォーム 9"/>
          <p:cNvSpPr/>
          <p:nvPr/>
        </p:nvSpPr>
        <p:spPr>
          <a:xfrm>
            <a:off x="3195720" y="3316320"/>
            <a:ext cx="1927080" cy="207972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フリーフォーム 10"/>
          <p:cNvSpPr/>
          <p:nvPr/>
        </p:nvSpPr>
        <p:spPr>
          <a:xfrm>
            <a:off x="331920" y="3645000"/>
            <a:ext cx="1711080" cy="142056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フリーフォーム 11"/>
          <p:cNvSpPr/>
          <p:nvPr/>
        </p:nvSpPr>
        <p:spPr>
          <a:xfrm>
            <a:off x="4451400" y="4973760"/>
            <a:ext cx="1482840" cy="162864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フリーフォーム 12"/>
          <p:cNvSpPr/>
          <p:nvPr/>
        </p:nvSpPr>
        <p:spPr>
          <a:xfrm>
            <a:off x="392040" y="4565520"/>
            <a:ext cx="1812960" cy="175104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フリーフォーム 13"/>
          <p:cNvSpPr/>
          <p:nvPr/>
        </p:nvSpPr>
        <p:spPr>
          <a:xfrm>
            <a:off x="2205000" y="5024520"/>
            <a:ext cx="1490760" cy="152856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フリーフォーム 14"/>
          <p:cNvSpPr/>
          <p:nvPr/>
        </p:nvSpPr>
        <p:spPr>
          <a:xfrm>
            <a:off x="5961240" y="5283360"/>
            <a:ext cx="2184120" cy="1366560"/>
          </a:xfrm>
          <a:custGeom>
            <a:avLst/>
            <a:gdLst/>
            <a:ahLst/>
            <a:rect l="l" t="t" r="r" b="b"/>
            <a:pathLst>
              <a:path w="5820309" h="3942257">
                <a:moveTo>
                  <a:pt x="5730394" y="1531663"/>
                </a:moveTo>
                <a:cubicBezTo>
                  <a:pt x="5668164" y="1516423"/>
                  <a:pt x="5537354" y="1546903"/>
                  <a:pt x="5372254" y="1554523"/>
                </a:cubicBezTo>
                <a:cubicBezTo>
                  <a:pt x="5207154" y="1562143"/>
                  <a:pt x="4856634" y="1577383"/>
                  <a:pt x="4739794" y="1577383"/>
                </a:cubicBezTo>
                <a:cubicBezTo>
                  <a:pt x="4622954" y="1577383"/>
                  <a:pt x="4696614" y="1597703"/>
                  <a:pt x="4671214" y="1554523"/>
                </a:cubicBezTo>
                <a:cubicBezTo>
                  <a:pt x="4645814" y="1511343"/>
                  <a:pt x="4620414" y="1374183"/>
                  <a:pt x="4587394" y="1318303"/>
                </a:cubicBezTo>
                <a:cubicBezTo>
                  <a:pt x="4554374" y="1262423"/>
                  <a:pt x="4503574" y="1228133"/>
                  <a:pt x="4473094" y="1219243"/>
                </a:cubicBezTo>
                <a:cubicBezTo>
                  <a:pt x="4442614" y="1210353"/>
                  <a:pt x="4450234" y="1268773"/>
                  <a:pt x="4404514" y="1264963"/>
                </a:cubicBezTo>
                <a:cubicBezTo>
                  <a:pt x="4358794" y="1261153"/>
                  <a:pt x="4261004" y="1254803"/>
                  <a:pt x="4198774" y="1196383"/>
                </a:cubicBezTo>
                <a:cubicBezTo>
                  <a:pt x="4136544" y="1137963"/>
                  <a:pt x="4088284" y="1000803"/>
                  <a:pt x="4031134" y="914443"/>
                </a:cubicBezTo>
                <a:cubicBezTo>
                  <a:pt x="3973984" y="828083"/>
                  <a:pt x="3891434" y="673143"/>
                  <a:pt x="3855874" y="678223"/>
                </a:cubicBezTo>
                <a:cubicBezTo>
                  <a:pt x="3820314" y="683303"/>
                  <a:pt x="3825394" y="859833"/>
                  <a:pt x="3817774" y="944923"/>
                </a:cubicBezTo>
                <a:cubicBezTo>
                  <a:pt x="3810154" y="1030013"/>
                  <a:pt x="3836824" y="1164633"/>
                  <a:pt x="3810154" y="1188763"/>
                </a:cubicBezTo>
                <a:cubicBezTo>
                  <a:pt x="3783484" y="1212893"/>
                  <a:pt x="3706014" y="1168443"/>
                  <a:pt x="3657754" y="1089703"/>
                </a:cubicBezTo>
                <a:cubicBezTo>
                  <a:pt x="3609494" y="1010963"/>
                  <a:pt x="3535834" y="806493"/>
                  <a:pt x="3520594" y="716323"/>
                </a:cubicBezTo>
                <a:cubicBezTo>
                  <a:pt x="3505354" y="626153"/>
                  <a:pt x="3613304" y="607103"/>
                  <a:pt x="3566314" y="548683"/>
                </a:cubicBezTo>
                <a:cubicBezTo>
                  <a:pt x="3519324" y="490263"/>
                  <a:pt x="3305964" y="410253"/>
                  <a:pt x="3238654" y="365803"/>
                </a:cubicBezTo>
                <a:cubicBezTo>
                  <a:pt x="3171344" y="321353"/>
                  <a:pt x="3191664" y="261663"/>
                  <a:pt x="3162454" y="281983"/>
                </a:cubicBezTo>
                <a:cubicBezTo>
                  <a:pt x="3133244" y="302303"/>
                  <a:pt x="3097684" y="434383"/>
                  <a:pt x="3063394" y="487723"/>
                </a:cubicBezTo>
                <a:cubicBezTo>
                  <a:pt x="3029104" y="541063"/>
                  <a:pt x="2959254" y="556303"/>
                  <a:pt x="2956714" y="602023"/>
                </a:cubicBezTo>
                <a:cubicBezTo>
                  <a:pt x="2954174" y="647743"/>
                  <a:pt x="3037994" y="675683"/>
                  <a:pt x="3048154" y="762043"/>
                </a:cubicBezTo>
                <a:cubicBezTo>
                  <a:pt x="3058314" y="848403"/>
                  <a:pt x="3045614" y="1069383"/>
                  <a:pt x="3017674" y="1120183"/>
                </a:cubicBezTo>
                <a:cubicBezTo>
                  <a:pt x="2989734" y="1170983"/>
                  <a:pt x="2937664" y="1154473"/>
                  <a:pt x="2880514" y="1066843"/>
                </a:cubicBezTo>
                <a:cubicBezTo>
                  <a:pt x="2823364" y="979213"/>
                  <a:pt x="2712874" y="716323"/>
                  <a:pt x="2674774" y="594403"/>
                </a:cubicBezTo>
                <a:cubicBezTo>
                  <a:pt x="2636674" y="472483"/>
                  <a:pt x="2663344" y="384853"/>
                  <a:pt x="2651914" y="335323"/>
                </a:cubicBezTo>
                <a:cubicBezTo>
                  <a:pt x="2640484" y="285793"/>
                  <a:pt x="2650644" y="353103"/>
                  <a:pt x="2606194" y="297223"/>
                </a:cubicBezTo>
                <a:cubicBezTo>
                  <a:pt x="2561744" y="241343"/>
                  <a:pt x="2443634" y="-3767"/>
                  <a:pt x="2385214" y="43"/>
                </a:cubicBezTo>
                <a:cubicBezTo>
                  <a:pt x="2326794" y="3853"/>
                  <a:pt x="2322984" y="288333"/>
                  <a:pt x="2255674" y="320083"/>
                </a:cubicBezTo>
                <a:cubicBezTo>
                  <a:pt x="2188364" y="351833"/>
                  <a:pt x="2061364" y="226103"/>
                  <a:pt x="1981354" y="190543"/>
                </a:cubicBezTo>
                <a:cubicBezTo>
                  <a:pt x="1901344" y="154983"/>
                  <a:pt x="1802284" y="104183"/>
                  <a:pt x="1775614" y="106723"/>
                </a:cubicBezTo>
                <a:cubicBezTo>
                  <a:pt x="1748944" y="109263"/>
                  <a:pt x="1844194" y="188003"/>
                  <a:pt x="1821334" y="205783"/>
                </a:cubicBezTo>
                <a:cubicBezTo>
                  <a:pt x="1798474" y="223563"/>
                  <a:pt x="1717194" y="213403"/>
                  <a:pt x="1638454" y="213403"/>
                </a:cubicBezTo>
                <a:cubicBezTo>
                  <a:pt x="1559714" y="213403"/>
                  <a:pt x="1351434" y="137203"/>
                  <a:pt x="1348894" y="205783"/>
                </a:cubicBezTo>
                <a:cubicBezTo>
                  <a:pt x="1346354" y="274363"/>
                  <a:pt x="1597814" y="548683"/>
                  <a:pt x="1623214" y="624883"/>
                </a:cubicBezTo>
                <a:cubicBezTo>
                  <a:pt x="1648614" y="701083"/>
                  <a:pt x="1500024" y="622343"/>
                  <a:pt x="1501294" y="662983"/>
                </a:cubicBezTo>
                <a:cubicBezTo>
                  <a:pt x="1502564" y="703623"/>
                  <a:pt x="1582574" y="806493"/>
                  <a:pt x="1630834" y="868723"/>
                </a:cubicBezTo>
                <a:cubicBezTo>
                  <a:pt x="1679094" y="930953"/>
                  <a:pt x="1784504" y="972863"/>
                  <a:pt x="1790854" y="1036363"/>
                </a:cubicBezTo>
                <a:cubicBezTo>
                  <a:pt x="1797204" y="1099863"/>
                  <a:pt x="1789584" y="1249723"/>
                  <a:pt x="1668934" y="1249723"/>
                </a:cubicBezTo>
                <a:cubicBezTo>
                  <a:pt x="1548284" y="1249723"/>
                  <a:pt x="1191414" y="1064303"/>
                  <a:pt x="1066954" y="1036363"/>
                </a:cubicBezTo>
                <a:cubicBezTo>
                  <a:pt x="942494" y="1008423"/>
                  <a:pt x="997104" y="1092243"/>
                  <a:pt x="922174" y="1082083"/>
                </a:cubicBezTo>
                <a:cubicBezTo>
                  <a:pt x="847244" y="1071923"/>
                  <a:pt x="673254" y="980483"/>
                  <a:pt x="617374" y="975403"/>
                </a:cubicBezTo>
                <a:cubicBezTo>
                  <a:pt x="561494" y="970323"/>
                  <a:pt x="611024" y="1008423"/>
                  <a:pt x="586894" y="1051603"/>
                </a:cubicBezTo>
                <a:cubicBezTo>
                  <a:pt x="562764" y="1094783"/>
                  <a:pt x="454814" y="1143043"/>
                  <a:pt x="472594" y="1234483"/>
                </a:cubicBezTo>
                <a:cubicBezTo>
                  <a:pt x="490374" y="1325923"/>
                  <a:pt x="689764" y="1504993"/>
                  <a:pt x="693574" y="1600243"/>
                </a:cubicBezTo>
                <a:cubicBezTo>
                  <a:pt x="697384" y="1695493"/>
                  <a:pt x="571654" y="1761533"/>
                  <a:pt x="495454" y="1805983"/>
                </a:cubicBezTo>
                <a:cubicBezTo>
                  <a:pt x="419254" y="1850433"/>
                  <a:pt x="270664" y="1831383"/>
                  <a:pt x="236374" y="1866943"/>
                </a:cubicBezTo>
                <a:cubicBezTo>
                  <a:pt x="202084" y="1902503"/>
                  <a:pt x="329084" y="1957113"/>
                  <a:pt x="289714" y="2019343"/>
                </a:cubicBezTo>
                <a:cubicBezTo>
                  <a:pt x="250344" y="2081573"/>
                  <a:pt x="6504" y="2189523"/>
                  <a:pt x="154" y="2240323"/>
                </a:cubicBezTo>
                <a:cubicBezTo>
                  <a:pt x="-6196" y="2291123"/>
                  <a:pt x="184304" y="2298743"/>
                  <a:pt x="251614" y="2324143"/>
                </a:cubicBezTo>
                <a:cubicBezTo>
                  <a:pt x="318924" y="2349543"/>
                  <a:pt x="379884" y="2367323"/>
                  <a:pt x="404014" y="2392723"/>
                </a:cubicBezTo>
                <a:cubicBezTo>
                  <a:pt x="428144" y="2418123"/>
                  <a:pt x="348134" y="2476543"/>
                  <a:pt x="396394" y="2476543"/>
                </a:cubicBezTo>
                <a:cubicBezTo>
                  <a:pt x="444654" y="2476543"/>
                  <a:pt x="674524" y="2345733"/>
                  <a:pt x="693574" y="2392723"/>
                </a:cubicBezTo>
                <a:cubicBezTo>
                  <a:pt x="712624" y="2439713"/>
                  <a:pt x="605944" y="2607353"/>
                  <a:pt x="510694" y="2758483"/>
                </a:cubicBezTo>
                <a:cubicBezTo>
                  <a:pt x="415444" y="2909613"/>
                  <a:pt x="80164" y="3242353"/>
                  <a:pt x="122074" y="3299503"/>
                </a:cubicBezTo>
                <a:cubicBezTo>
                  <a:pt x="163984" y="3356653"/>
                  <a:pt x="638964" y="3095033"/>
                  <a:pt x="762154" y="3101383"/>
                </a:cubicBezTo>
                <a:cubicBezTo>
                  <a:pt x="885344" y="3107733"/>
                  <a:pt x="792634" y="3371893"/>
                  <a:pt x="861214" y="3337603"/>
                </a:cubicBezTo>
                <a:cubicBezTo>
                  <a:pt x="929794" y="3303313"/>
                  <a:pt x="1040284" y="3028993"/>
                  <a:pt x="1173634" y="2895643"/>
                </a:cubicBezTo>
                <a:cubicBezTo>
                  <a:pt x="1306984" y="2762293"/>
                  <a:pt x="1553364" y="2601003"/>
                  <a:pt x="1661314" y="2537503"/>
                </a:cubicBezTo>
                <a:cubicBezTo>
                  <a:pt x="1769264" y="2474003"/>
                  <a:pt x="1851814" y="2405423"/>
                  <a:pt x="1821334" y="2514643"/>
                </a:cubicBezTo>
                <a:cubicBezTo>
                  <a:pt x="1790854" y="2623863"/>
                  <a:pt x="1554634" y="3034073"/>
                  <a:pt x="1478434" y="3192823"/>
                </a:cubicBezTo>
                <a:cubicBezTo>
                  <a:pt x="1402234" y="3351573"/>
                  <a:pt x="1378104" y="3421423"/>
                  <a:pt x="1364134" y="3467143"/>
                </a:cubicBezTo>
                <a:cubicBezTo>
                  <a:pt x="1350164" y="3512863"/>
                  <a:pt x="1406044" y="3388403"/>
                  <a:pt x="1394614" y="3467143"/>
                </a:cubicBezTo>
                <a:cubicBezTo>
                  <a:pt x="1383184" y="3545883"/>
                  <a:pt x="1266344" y="3906563"/>
                  <a:pt x="1295554" y="3939583"/>
                </a:cubicBezTo>
                <a:cubicBezTo>
                  <a:pt x="1324764" y="3972603"/>
                  <a:pt x="1487324" y="3689393"/>
                  <a:pt x="1569874" y="3665263"/>
                </a:cubicBezTo>
                <a:cubicBezTo>
                  <a:pt x="1652424" y="3641133"/>
                  <a:pt x="1719734" y="3755433"/>
                  <a:pt x="1790854" y="3794803"/>
                </a:cubicBezTo>
                <a:cubicBezTo>
                  <a:pt x="1861974" y="3834173"/>
                  <a:pt x="1916584" y="3911643"/>
                  <a:pt x="1996594" y="3901483"/>
                </a:cubicBezTo>
                <a:cubicBezTo>
                  <a:pt x="2076604" y="3891323"/>
                  <a:pt x="2168044" y="3754163"/>
                  <a:pt x="2270914" y="3733843"/>
                </a:cubicBezTo>
                <a:cubicBezTo>
                  <a:pt x="2373784" y="3713523"/>
                  <a:pt x="2524914" y="3862113"/>
                  <a:pt x="2613814" y="3779563"/>
                </a:cubicBezTo>
                <a:cubicBezTo>
                  <a:pt x="2702714" y="3697013"/>
                  <a:pt x="2772564" y="3373163"/>
                  <a:pt x="2804314" y="3238543"/>
                </a:cubicBezTo>
                <a:cubicBezTo>
                  <a:pt x="2836064" y="3103923"/>
                  <a:pt x="2801774" y="3079793"/>
                  <a:pt x="2804314" y="2971843"/>
                </a:cubicBezTo>
                <a:cubicBezTo>
                  <a:pt x="2806854" y="2863893"/>
                  <a:pt x="2792884" y="2694983"/>
                  <a:pt x="2819554" y="2590843"/>
                </a:cubicBezTo>
                <a:cubicBezTo>
                  <a:pt x="2846224" y="2486703"/>
                  <a:pt x="2949094" y="2313983"/>
                  <a:pt x="2964334" y="2347003"/>
                </a:cubicBezTo>
                <a:cubicBezTo>
                  <a:pt x="2979574" y="2380023"/>
                  <a:pt x="2905914" y="2647993"/>
                  <a:pt x="2910994" y="2788963"/>
                </a:cubicBezTo>
                <a:cubicBezTo>
                  <a:pt x="2916074" y="2929933"/>
                  <a:pt x="2955444" y="3164883"/>
                  <a:pt x="2994814" y="3192823"/>
                </a:cubicBezTo>
                <a:cubicBezTo>
                  <a:pt x="3034184" y="3220763"/>
                  <a:pt x="3106574" y="2966763"/>
                  <a:pt x="3147214" y="2956603"/>
                </a:cubicBezTo>
                <a:cubicBezTo>
                  <a:pt x="3187854" y="2946443"/>
                  <a:pt x="3204364" y="3177583"/>
                  <a:pt x="3238654" y="3131863"/>
                </a:cubicBezTo>
                <a:cubicBezTo>
                  <a:pt x="3272944" y="3086143"/>
                  <a:pt x="3303424" y="2796583"/>
                  <a:pt x="3352954" y="2682283"/>
                </a:cubicBezTo>
                <a:cubicBezTo>
                  <a:pt x="3402484" y="2567983"/>
                  <a:pt x="3492654" y="2462573"/>
                  <a:pt x="3535834" y="2446063"/>
                </a:cubicBezTo>
                <a:cubicBezTo>
                  <a:pt x="3579014" y="2429553"/>
                  <a:pt x="3563774" y="2613703"/>
                  <a:pt x="3612034" y="2583223"/>
                </a:cubicBezTo>
                <a:cubicBezTo>
                  <a:pt x="3660294" y="2552743"/>
                  <a:pt x="3744114" y="2363513"/>
                  <a:pt x="3825394" y="2263183"/>
                </a:cubicBezTo>
                <a:cubicBezTo>
                  <a:pt x="3906674" y="2162853"/>
                  <a:pt x="4026054" y="2020613"/>
                  <a:pt x="4099714" y="1981243"/>
                </a:cubicBezTo>
                <a:cubicBezTo>
                  <a:pt x="4173374" y="1941873"/>
                  <a:pt x="4161944" y="2071413"/>
                  <a:pt x="4267354" y="2026963"/>
                </a:cubicBezTo>
                <a:cubicBezTo>
                  <a:pt x="4372764" y="1982513"/>
                  <a:pt x="4648354" y="1775503"/>
                  <a:pt x="4732174" y="1714543"/>
                </a:cubicBezTo>
                <a:cubicBezTo>
                  <a:pt x="4815994" y="1653583"/>
                  <a:pt x="4747414" y="1672633"/>
                  <a:pt x="4770274" y="1661203"/>
                </a:cubicBezTo>
                <a:cubicBezTo>
                  <a:pt x="4793134" y="1649773"/>
                  <a:pt x="4706774" y="1648503"/>
                  <a:pt x="4869334" y="1645963"/>
                </a:cubicBezTo>
                <a:cubicBezTo>
                  <a:pt x="5031894" y="1643423"/>
                  <a:pt x="5602124" y="1658663"/>
                  <a:pt x="5745634" y="1645963"/>
                </a:cubicBezTo>
                <a:cubicBezTo>
                  <a:pt x="5889144" y="1633263"/>
                  <a:pt x="5792624" y="1546903"/>
                  <a:pt x="5730394" y="1531663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フリーフォーム 15"/>
          <p:cNvSpPr/>
          <p:nvPr/>
        </p:nvSpPr>
        <p:spPr>
          <a:xfrm>
            <a:off x="7354800" y="3089160"/>
            <a:ext cx="1428840" cy="2181240"/>
          </a:xfrm>
          <a:custGeom>
            <a:avLst/>
            <a:gdLst/>
            <a:ahLst/>
            <a:rect l="l" t="t" r="r" b="b"/>
            <a:pathLst>
              <a:path w="2850241" h="4720393">
                <a:moveTo>
                  <a:pt x="967906" y="4671628"/>
                </a:moveTo>
                <a:cubicBezTo>
                  <a:pt x="967906" y="4581458"/>
                  <a:pt x="1031406" y="4262688"/>
                  <a:pt x="1051726" y="4100128"/>
                </a:cubicBezTo>
                <a:cubicBezTo>
                  <a:pt x="1072046" y="3937568"/>
                  <a:pt x="1102526" y="3775008"/>
                  <a:pt x="1089826" y="3696268"/>
                </a:cubicBezTo>
                <a:cubicBezTo>
                  <a:pt x="1077126" y="3617528"/>
                  <a:pt x="1017436" y="3630228"/>
                  <a:pt x="975526" y="3627688"/>
                </a:cubicBezTo>
                <a:cubicBezTo>
                  <a:pt x="933616" y="3625148"/>
                  <a:pt x="875196" y="3669598"/>
                  <a:pt x="838366" y="3681028"/>
                </a:cubicBezTo>
                <a:cubicBezTo>
                  <a:pt x="801536" y="3692458"/>
                  <a:pt x="796456" y="3739448"/>
                  <a:pt x="754546" y="3696268"/>
                </a:cubicBezTo>
                <a:cubicBezTo>
                  <a:pt x="712636" y="3653088"/>
                  <a:pt x="627546" y="3484178"/>
                  <a:pt x="586906" y="3421948"/>
                </a:cubicBezTo>
                <a:cubicBezTo>
                  <a:pt x="546266" y="3359718"/>
                  <a:pt x="539916" y="3344478"/>
                  <a:pt x="510706" y="3322888"/>
                </a:cubicBezTo>
                <a:cubicBezTo>
                  <a:pt x="481496" y="3301298"/>
                  <a:pt x="412916" y="3349558"/>
                  <a:pt x="411646" y="3292408"/>
                </a:cubicBezTo>
                <a:cubicBezTo>
                  <a:pt x="410376" y="3235258"/>
                  <a:pt x="505626" y="3065078"/>
                  <a:pt x="503086" y="2979988"/>
                </a:cubicBezTo>
                <a:cubicBezTo>
                  <a:pt x="500546" y="2894898"/>
                  <a:pt x="456096" y="2864418"/>
                  <a:pt x="396406" y="2781868"/>
                </a:cubicBezTo>
                <a:cubicBezTo>
                  <a:pt x="336716" y="2699318"/>
                  <a:pt x="202096" y="2587558"/>
                  <a:pt x="144946" y="2484688"/>
                </a:cubicBezTo>
                <a:cubicBezTo>
                  <a:pt x="87796" y="2381818"/>
                  <a:pt x="19216" y="2215448"/>
                  <a:pt x="53506" y="2164648"/>
                </a:cubicBezTo>
                <a:cubicBezTo>
                  <a:pt x="87796" y="2113848"/>
                  <a:pt x="274486" y="2207828"/>
                  <a:pt x="350686" y="2179888"/>
                </a:cubicBezTo>
                <a:cubicBezTo>
                  <a:pt x="426886" y="2151948"/>
                  <a:pt x="542456" y="2087178"/>
                  <a:pt x="510706" y="1997008"/>
                </a:cubicBezTo>
                <a:cubicBezTo>
                  <a:pt x="478956" y="1906838"/>
                  <a:pt x="245276" y="1739198"/>
                  <a:pt x="160186" y="1638868"/>
                </a:cubicBezTo>
                <a:cubicBezTo>
                  <a:pt x="75096" y="1538538"/>
                  <a:pt x="5246" y="1452178"/>
                  <a:pt x="166" y="1395028"/>
                </a:cubicBezTo>
                <a:cubicBezTo>
                  <a:pt x="-4914" y="1337878"/>
                  <a:pt x="108116" y="1335338"/>
                  <a:pt x="129706" y="1295968"/>
                </a:cubicBezTo>
                <a:cubicBezTo>
                  <a:pt x="151296" y="1256598"/>
                  <a:pt x="130976" y="1221038"/>
                  <a:pt x="129706" y="1158808"/>
                </a:cubicBezTo>
                <a:cubicBezTo>
                  <a:pt x="128436" y="1096578"/>
                  <a:pt x="105576" y="983548"/>
                  <a:pt x="122086" y="922588"/>
                </a:cubicBezTo>
                <a:cubicBezTo>
                  <a:pt x="138596" y="861628"/>
                  <a:pt x="157646" y="780348"/>
                  <a:pt x="228766" y="793048"/>
                </a:cubicBezTo>
                <a:cubicBezTo>
                  <a:pt x="299886" y="805748"/>
                  <a:pt x="448476" y="986088"/>
                  <a:pt x="548806" y="998788"/>
                </a:cubicBezTo>
                <a:cubicBezTo>
                  <a:pt x="649136" y="1011488"/>
                  <a:pt x="781216" y="965768"/>
                  <a:pt x="830746" y="869248"/>
                </a:cubicBezTo>
                <a:cubicBezTo>
                  <a:pt x="880276" y="772728"/>
                  <a:pt x="826936" y="514918"/>
                  <a:pt x="845986" y="419668"/>
                </a:cubicBezTo>
                <a:cubicBezTo>
                  <a:pt x="865036" y="324418"/>
                  <a:pt x="917106" y="339658"/>
                  <a:pt x="945046" y="297748"/>
                </a:cubicBezTo>
                <a:cubicBezTo>
                  <a:pt x="972986" y="255838"/>
                  <a:pt x="966636" y="168208"/>
                  <a:pt x="1013626" y="168208"/>
                </a:cubicBezTo>
                <a:cubicBezTo>
                  <a:pt x="1060616" y="168208"/>
                  <a:pt x="1160946" y="285048"/>
                  <a:pt x="1226986" y="297748"/>
                </a:cubicBezTo>
                <a:cubicBezTo>
                  <a:pt x="1293026" y="310448"/>
                  <a:pt x="1361606" y="272348"/>
                  <a:pt x="1409866" y="244408"/>
                </a:cubicBezTo>
                <a:cubicBezTo>
                  <a:pt x="1458126" y="216468"/>
                  <a:pt x="1455586" y="170748"/>
                  <a:pt x="1516546" y="130108"/>
                </a:cubicBezTo>
                <a:cubicBezTo>
                  <a:pt x="1577506" y="89468"/>
                  <a:pt x="1729906" y="-8322"/>
                  <a:pt x="1775626" y="568"/>
                </a:cubicBezTo>
                <a:cubicBezTo>
                  <a:pt x="1821346" y="9458"/>
                  <a:pt x="1776896" y="152968"/>
                  <a:pt x="1790866" y="183448"/>
                </a:cubicBezTo>
                <a:cubicBezTo>
                  <a:pt x="1804836" y="213928"/>
                  <a:pt x="1842936" y="128838"/>
                  <a:pt x="1859446" y="183448"/>
                </a:cubicBezTo>
                <a:cubicBezTo>
                  <a:pt x="1875956" y="238058"/>
                  <a:pt x="1820076" y="447608"/>
                  <a:pt x="1889926" y="511108"/>
                </a:cubicBezTo>
                <a:cubicBezTo>
                  <a:pt x="1959776" y="574608"/>
                  <a:pt x="2220126" y="528888"/>
                  <a:pt x="2278546" y="564448"/>
                </a:cubicBezTo>
                <a:cubicBezTo>
                  <a:pt x="2336966" y="600008"/>
                  <a:pt x="2248066" y="671128"/>
                  <a:pt x="2240446" y="724468"/>
                </a:cubicBezTo>
                <a:cubicBezTo>
                  <a:pt x="2232826" y="777808"/>
                  <a:pt x="2237906" y="837498"/>
                  <a:pt x="2232826" y="884488"/>
                </a:cubicBezTo>
                <a:cubicBezTo>
                  <a:pt x="2227746" y="931478"/>
                  <a:pt x="2230286" y="964498"/>
                  <a:pt x="2209966" y="1006408"/>
                </a:cubicBezTo>
                <a:cubicBezTo>
                  <a:pt x="2189646" y="1048318"/>
                  <a:pt x="2132496" y="1080068"/>
                  <a:pt x="2110906" y="1135948"/>
                </a:cubicBezTo>
                <a:cubicBezTo>
                  <a:pt x="2089316" y="1191828"/>
                  <a:pt x="2098206" y="1294698"/>
                  <a:pt x="2080426" y="1341688"/>
                </a:cubicBezTo>
                <a:cubicBezTo>
                  <a:pt x="2062646" y="1388678"/>
                  <a:pt x="2006766" y="1392488"/>
                  <a:pt x="2004226" y="1417888"/>
                </a:cubicBezTo>
                <a:cubicBezTo>
                  <a:pt x="2001686" y="1443288"/>
                  <a:pt x="1978826" y="1461068"/>
                  <a:pt x="2065186" y="1494088"/>
                </a:cubicBezTo>
                <a:cubicBezTo>
                  <a:pt x="2151546" y="1527108"/>
                  <a:pt x="2391576" y="1603308"/>
                  <a:pt x="2522386" y="1616008"/>
                </a:cubicBezTo>
                <a:cubicBezTo>
                  <a:pt x="2653196" y="1628708"/>
                  <a:pt x="2842426" y="1534728"/>
                  <a:pt x="2850046" y="1570288"/>
                </a:cubicBezTo>
                <a:cubicBezTo>
                  <a:pt x="2857666" y="1605848"/>
                  <a:pt x="2640496" y="1734118"/>
                  <a:pt x="2568106" y="1829368"/>
                </a:cubicBezTo>
                <a:cubicBezTo>
                  <a:pt x="2495716" y="1924618"/>
                  <a:pt x="2527466" y="2071938"/>
                  <a:pt x="2415706" y="2141788"/>
                </a:cubicBezTo>
                <a:cubicBezTo>
                  <a:pt x="2303946" y="2211638"/>
                  <a:pt x="1995336" y="2202748"/>
                  <a:pt x="1897546" y="2248468"/>
                </a:cubicBezTo>
                <a:cubicBezTo>
                  <a:pt x="1799756" y="2294188"/>
                  <a:pt x="1770546" y="2364038"/>
                  <a:pt x="1828966" y="2416108"/>
                </a:cubicBezTo>
                <a:cubicBezTo>
                  <a:pt x="1887386" y="2468178"/>
                  <a:pt x="2272196" y="2475798"/>
                  <a:pt x="2248066" y="2560888"/>
                </a:cubicBezTo>
                <a:cubicBezTo>
                  <a:pt x="2223936" y="2645978"/>
                  <a:pt x="1797216" y="2841558"/>
                  <a:pt x="1684186" y="2926648"/>
                </a:cubicBezTo>
                <a:cubicBezTo>
                  <a:pt x="1571156" y="3011738"/>
                  <a:pt x="1567346" y="3033328"/>
                  <a:pt x="1569886" y="3071428"/>
                </a:cubicBezTo>
                <a:cubicBezTo>
                  <a:pt x="1572426" y="3109528"/>
                  <a:pt x="1718476" y="3098098"/>
                  <a:pt x="1699426" y="3155248"/>
                </a:cubicBezTo>
                <a:cubicBezTo>
                  <a:pt x="1680376" y="3212398"/>
                  <a:pt x="1508926" y="3343208"/>
                  <a:pt x="1455586" y="3414328"/>
                </a:cubicBezTo>
                <a:cubicBezTo>
                  <a:pt x="1402246" y="3485448"/>
                  <a:pt x="1408596" y="3518468"/>
                  <a:pt x="1379386" y="3581968"/>
                </a:cubicBezTo>
                <a:cubicBezTo>
                  <a:pt x="1350176" y="3645468"/>
                  <a:pt x="1318426" y="3739448"/>
                  <a:pt x="1280326" y="3795328"/>
                </a:cubicBezTo>
                <a:cubicBezTo>
                  <a:pt x="1242226" y="3851208"/>
                  <a:pt x="1182536" y="3839778"/>
                  <a:pt x="1150786" y="3917248"/>
                </a:cubicBezTo>
                <a:cubicBezTo>
                  <a:pt x="1119036" y="3994718"/>
                  <a:pt x="1106336" y="4139498"/>
                  <a:pt x="1089826" y="4260148"/>
                </a:cubicBezTo>
                <a:cubicBezTo>
                  <a:pt x="1073316" y="4380798"/>
                  <a:pt x="1072046" y="4570028"/>
                  <a:pt x="1051726" y="4641148"/>
                </a:cubicBezTo>
                <a:cubicBezTo>
                  <a:pt x="1031406" y="4712268"/>
                  <a:pt x="967906" y="4761798"/>
                  <a:pt x="967906" y="4671628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フリーフォーム 16"/>
          <p:cNvSpPr/>
          <p:nvPr/>
        </p:nvSpPr>
        <p:spPr>
          <a:xfrm>
            <a:off x="8056440" y="4437000"/>
            <a:ext cx="1663920" cy="1629000"/>
          </a:xfrm>
          <a:custGeom>
            <a:avLst/>
            <a:gdLst/>
            <a:ahLst/>
            <a:rect l="l" t="t" r="r" b="b"/>
            <a:pathLst>
              <a:path w="1534855" h="1629107">
                <a:moveTo>
                  <a:pt x="1031649" y="13471"/>
                </a:moveTo>
                <a:cubicBezTo>
                  <a:pt x="955449" y="36331"/>
                  <a:pt x="730236" y="133698"/>
                  <a:pt x="650649" y="155711"/>
                </a:cubicBezTo>
                <a:cubicBezTo>
                  <a:pt x="571062" y="177724"/>
                  <a:pt x="596462" y="131158"/>
                  <a:pt x="554129" y="145551"/>
                </a:cubicBezTo>
                <a:cubicBezTo>
                  <a:pt x="511796" y="159944"/>
                  <a:pt x="437289" y="207358"/>
                  <a:pt x="396649" y="242071"/>
                </a:cubicBezTo>
                <a:cubicBezTo>
                  <a:pt x="356009" y="276784"/>
                  <a:pt x="363629" y="308958"/>
                  <a:pt x="310289" y="353831"/>
                </a:cubicBezTo>
                <a:cubicBezTo>
                  <a:pt x="256949" y="398704"/>
                  <a:pt x="128256" y="462204"/>
                  <a:pt x="76609" y="511311"/>
                </a:cubicBezTo>
                <a:cubicBezTo>
                  <a:pt x="24962" y="560418"/>
                  <a:pt x="-3824" y="631538"/>
                  <a:pt x="409" y="648471"/>
                </a:cubicBezTo>
                <a:cubicBezTo>
                  <a:pt x="4642" y="665404"/>
                  <a:pt x="84229" y="606984"/>
                  <a:pt x="102009" y="612911"/>
                </a:cubicBezTo>
                <a:cubicBezTo>
                  <a:pt x="119789" y="618838"/>
                  <a:pt x="76609" y="678951"/>
                  <a:pt x="107089" y="684031"/>
                </a:cubicBezTo>
                <a:cubicBezTo>
                  <a:pt x="137569" y="689111"/>
                  <a:pt x="277269" y="609524"/>
                  <a:pt x="284889" y="643391"/>
                </a:cubicBezTo>
                <a:cubicBezTo>
                  <a:pt x="292509" y="677258"/>
                  <a:pt x="186676" y="826271"/>
                  <a:pt x="152809" y="887231"/>
                </a:cubicBezTo>
                <a:cubicBezTo>
                  <a:pt x="118942" y="948191"/>
                  <a:pt x="84229" y="985444"/>
                  <a:pt x="81689" y="1009151"/>
                </a:cubicBezTo>
                <a:cubicBezTo>
                  <a:pt x="79149" y="1032858"/>
                  <a:pt x="138416" y="987984"/>
                  <a:pt x="137569" y="1029471"/>
                </a:cubicBezTo>
                <a:cubicBezTo>
                  <a:pt x="136722" y="1070958"/>
                  <a:pt x="83382" y="1207271"/>
                  <a:pt x="76609" y="1258071"/>
                </a:cubicBezTo>
                <a:cubicBezTo>
                  <a:pt x="69836" y="1308871"/>
                  <a:pt x="84229" y="1302944"/>
                  <a:pt x="96929" y="1334271"/>
                </a:cubicBezTo>
                <a:cubicBezTo>
                  <a:pt x="109629" y="1365598"/>
                  <a:pt x="116402" y="1456191"/>
                  <a:pt x="152809" y="1446031"/>
                </a:cubicBezTo>
                <a:cubicBezTo>
                  <a:pt x="189216" y="1435871"/>
                  <a:pt x="279809" y="1285164"/>
                  <a:pt x="315369" y="1273311"/>
                </a:cubicBezTo>
                <a:cubicBezTo>
                  <a:pt x="350929" y="1261458"/>
                  <a:pt x="320449" y="1401158"/>
                  <a:pt x="366169" y="1374911"/>
                </a:cubicBezTo>
                <a:cubicBezTo>
                  <a:pt x="411889" y="1348664"/>
                  <a:pt x="543122" y="1161551"/>
                  <a:pt x="589689" y="1115831"/>
                </a:cubicBezTo>
                <a:cubicBezTo>
                  <a:pt x="636256" y="1070111"/>
                  <a:pt x="637102" y="1065878"/>
                  <a:pt x="645569" y="1100591"/>
                </a:cubicBezTo>
                <a:cubicBezTo>
                  <a:pt x="654036" y="1135304"/>
                  <a:pt x="641336" y="1275004"/>
                  <a:pt x="640489" y="1324111"/>
                </a:cubicBezTo>
                <a:cubicBezTo>
                  <a:pt x="639642" y="1373218"/>
                  <a:pt x="634562" y="1386764"/>
                  <a:pt x="640489" y="1395231"/>
                </a:cubicBezTo>
                <a:cubicBezTo>
                  <a:pt x="646416" y="1403698"/>
                  <a:pt x="663349" y="1357978"/>
                  <a:pt x="676049" y="1374911"/>
                </a:cubicBezTo>
                <a:cubicBezTo>
                  <a:pt x="688749" y="1391844"/>
                  <a:pt x="697216" y="1454498"/>
                  <a:pt x="716689" y="1496831"/>
                </a:cubicBezTo>
                <a:cubicBezTo>
                  <a:pt x="736162" y="1539164"/>
                  <a:pt x="765796" y="1633991"/>
                  <a:pt x="792889" y="1628911"/>
                </a:cubicBezTo>
                <a:cubicBezTo>
                  <a:pt x="819982" y="1623831"/>
                  <a:pt x="848769" y="1481591"/>
                  <a:pt x="879249" y="1466351"/>
                </a:cubicBezTo>
                <a:cubicBezTo>
                  <a:pt x="909729" y="1451111"/>
                  <a:pt x="948676" y="1558638"/>
                  <a:pt x="975769" y="1537471"/>
                </a:cubicBezTo>
                <a:cubicBezTo>
                  <a:pt x="1002862" y="1516304"/>
                  <a:pt x="1018949" y="1361364"/>
                  <a:pt x="1041809" y="1339351"/>
                </a:cubicBezTo>
                <a:cubicBezTo>
                  <a:pt x="1064669" y="1317338"/>
                  <a:pt x="1085836" y="1446031"/>
                  <a:pt x="1112929" y="1405391"/>
                </a:cubicBezTo>
                <a:cubicBezTo>
                  <a:pt x="1140022" y="1364751"/>
                  <a:pt x="1160342" y="1141231"/>
                  <a:pt x="1204369" y="1095511"/>
                </a:cubicBezTo>
                <a:cubicBezTo>
                  <a:pt x="1248396" y="1049791"/>
                  <a:pt x="1337296" y="1155624"/>
                  <a:pt x="1377089" y="1131071"/>
                </a:cubicBezTo>
                <a:cubicBezTo>
                  <a:pt x="1416882" y="1106518"/>
                  <a:pt x="1419422" y="978671"/>
                  <a:pt x="1443129" y="948191"/>
                </a:cubicBezTo>
                <a:cubicBezTo>
                  <a:pt x="1466836" y="917711"/>
                  <a:pt x="1515942" y="973591"/>
                  <a:pt x="1519329" y="948191"/>
                </a:cubicBezTo>
                <a:cubicBezTo>
                  <a:pt x="1522716" y="922791"/>
                  <a:pt x="1460909" y="826271"/>
                  <a:pt x="1463449" y="795791"/>
                </a:cubicBezTo>
                <a:cubicBezTo>
                  <a:pt x="1465989" y="765311"/>
                  <a:pt x="1530336" y="793251"/>
                  <a:pt x="1534569" y="765311"/>
                </a:cubicBezTo>
                <a:cubicBezTo>
                  <a:pt x="1538802" y="737371"/>
                  <a:pt x="1494776" y="673024"/>
                  <a:pt x="1488849" y="628151"/>
                </a:cubicBezTo>
                <a:cubicBezTo>
                  <a:pt x="1482922" y="583278"/>
                  <a:pt x="1525256" y="553644"/>
                  <a:pt x="1499009" y="496071"/>
                </a:cubicBezTo>
                <a:cubicBezTo>
                  <a:pt x="1472762" y="438498"/>
                  <a:pt x="1383016" y="345364"/>
                  <a:pt x="1331369" y="282711"/>
                </a:cubicBezTo>
                <a:cubicBezTo>
                  <a:pt x="1279722" y="220058"/>
                  <a:pt x="1226382" y="164178"/>
                  <a:pt x="1189129" y="120151"/>
                </a:cubicBezTo>
                <a:cubicBezTo>
                  <a:pt x="1151876" y="76124"/>
                  <a:pt x="1135789" y="37178"/>
                  <a:pt x="1107849" y="18551"/>
                </a:cubicBezTo>
                <a:cubicBezTo>
                  <a:pt x="1079909" y="-76"/>
                  <a:pt x="1107849" y="-9389"/>
                  <a:pt x="1031649" y="13471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フリーフォーム 17"/>
          <p:cNvSpPr/>
          <p:nvPr/>
        </p:nvSpPr>
        <p:spPr>
          <a:xfrm>
            <a:off x="6073920" y="225360"/>
            <a:ext cx="2162160" cy="689040"/>
          </a:xfrm>
          <a:custGeom>
            <a:avLst/>
            <a:gdLst/>
            <a:ahLst/>
            <a:rect l="l" t="t" r="r" b="b"/>
            <a:pathLst>
              <a:path w="2545080" h="877808">
                <a:moveTo>
                  <a:pt x="1676400" y="393306"/>
                </a:moveTo>
                <a:cubicBezTo>
                  <a:pt x="1584325" y="327901"/>
                  <a:pt x="1445895" y="224396"/>
                  <a:pt x="1337310" y="168516"/>
                </a:cubicBezTo>
                <a:cubicBezTo>
                  <a:pt x="1228725" y="112636"/>
                  <a:pt x="1125220" y="85966"/>
                  <a:pt x="1024890" y="58026"/>
                </a:cubicBezTo>
                <a:cubicBezTo>
                  <a:pt x="924560" y="30086"/>
                  <a:pt x="850265" y="-6109"/>
                  <a:pt x="735330" y="876"/>
                </a:cubicBezTo>
                <a:cubicBezTo>
                  <a:pt x="620395" y="7861"/>
                  <a:pt x="457835" y="26276"/>
                  <a:pt x="335280" y="99936"/>
                </a:cubicBezTo>
                <a:cubicBezTo>
                  <a:pt x="212725" y="173596"/>
                  <a:pt x="34290" y="361556"/>
                  <a:pt x="0" y="442836"/>
                </a:cubicBezTo>
                <a:cubicBezTo>
                  <a:pt x="30480" y="527926"/>
                  <a:pt x="64770" y="527926"/>
                  <a:pt x="129540" y="587616"/>
                </a:cubicBezTo>
                <a:cubicBezTo>
                  <a:pt x="194310" y="647306"/>
                  <a:pt x="281940" y="752716"/>
                  <a:pt x="388620" y="800976"/>
                </a:cubicBezTo>
                <a:cubicBezTo>
                  <a:pt x="495300" y="849236"/>
                  <a:pt x="615950" y="882891"/>
                  <a:pt x="769620" y="877176"/>
                </a:cubicBezTo>
                <a:cubicBezTo>
                  <a:pt x="923290" y="871461"/>
                  <a:pt x="1159510" y="835901"/>
                  <a:pt x="1310640" y="766686"/>
                </a:cubicBezTo>
                <a:cubicBezTo>
                  <a:pt x="1461770" y="697471"/>
                  <a:pt x="1564640" y="499351"/>
                  <a:pt x="1676400" y="461886"/>
                </a:cubicBezTo>
                <a:cubicBezTo>
                  <a:pt x="1788160" y="424421"/>
                  <a:pt x="1893570" y="497446"/>
                  <a:pt x="2004060" y="530466"/>
                </a:cubicBezTo>
                <a:cubicBezTo>
                  <a:pt x="2114550" y="563486"/>
                  <a:pt x="2258060" y="626986"/>
                  <a:pt x="2339340" y="660006"/>
                </a:cubicBezTo>
                <a:cubicBezTo>
                  <a:pt x="2420620" y="693026"/>
                  <a:pt x="2457450" y="730491"/>
                  <a:pt x="2491740" y="728586"/>
                </a:cubicBezTo>
                <a:cubicBezTo>
                  <a:pt x="2526030" y="726681"/>
                  <a:pt x="2545080" y="669531"/>
                  <a:pt x="2545080" y="648576"/>
                </a:cubicBezTo>
                <a:cubicBezTo>
                  <a:pt x="2545080" y="627621"/>
                  <a:pt x="2508250" y="605396"/>
                  <a:pt x="2491740" y="602856"/>
                </a:cubicBezTo>
                <a:cubicBezTo>
                  <a:pt x="2475230" y="600316"/>
                  <a:pt x="2527300" y="655561"/>
                  <a:pt x="2446020" y="633336"/>
                </a:cubicBezTo>
                <a:cubicBezTo>
                  <a:pt x="2364740" y="611111"/>
                  <a:pt x="2132330" y="509511"/>
                  <a:pt x="2004060" y="469506"/>
                </a:cubicBezTo>
                <a:cubicBezTo>
                  <a:pt x="1875790" y="429501"/>
                  <a:pt x="1753235" y="393941"/>
                  <a:pt x="1676400" y="393306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フリーフォーム 18"/>
          <p:cNvSpPr/>
          <p:nvPr/>
        </p:nvSpPr>
        <p:spPr>
          <a:xfrm>
            <a:off x="6540480" y="1344600"/>
            <a:ext cx="1441440" cy="855720"/>
          </a:xfrm>
          <a:custGeom>
            <a:avLst/>
            <a:gdLst/>
            <a:ahLst/>
            <a:rect l="l" t="t" r="r" b="b"/>
            <a:pathLst>
              <a:path w="1694411" h="1090756">
                <a:moveTo>
                  <a:pt x="1683236" y="1044886"/>
                </a:moveTo>
                <a:cubicBezTo>
                  <a:pt x="1653603" y="1016099"/>
                  <a:pt x="1529143" y="960219"/>
                  <a:pt x="1485116" y="917886"/>
                </a:cubicBezTo>
                <a:cubicBezTo>
                  <a:pt x="1441089" y="875553"/>
                  <a:pt x="1458023" y="869626"/>
                  <a:pt x="1419076" y="790886"/>
                </a:cubicBezTo>
                <a:cubicBezTo>
                  <a:pt x="1380129" y="712146"/>
                  <a:pt x="1335256" y="555513"/>
                  <a:pt x="1251436" y="445446"/>
                </a:cubicBezTo>
                <a:cubicBezTo>
                  <a:pt x="1167616" y="335379"/>
                  <a:pt x="1045696" y="204146"/>
                  <a:pt x="916156" y="130486"/>
                </a:cubicBezTo>
                <a:cubicBezTo>
                  <a:pt x="786616" y="56826"/>
                  <a:pt x="610509" y="18726"/>
                  <a:pt x="474196" y="3486"/>
                </a:cubicBezTo>
                <a:cubicBezTo>
                  <a:pt x="337883" y="-11754"/>
                  <a:pt x="177016" y="27193"/>
                  <a:pt x="98276" y="39046"/>
                </a:cubicBezTo>
                <a:cubicBezTo>
                  <a:pt x="19536" y="50899"/>
                  <a:pt x="-7557" y="5179"/>
                  <a:pt x="1756" y="74606"/>
                </a:cubicBezTo>
                <a:cubicBezTo>
                  <a:pt x="11069" y="144033"/>
                  <a:pt x="65256" y="335379"/>
                  <a:pt x="154156" y="455606"/>
                </a:cubicBezTo>
                <a:cubicBezTo>
                  <a:pt x="243056" y="575833"/>
                  <a:pt x="420856" y="718073"/>
                  <a:pt x="535156" y="795966"/>
                </a:cubicBezTo>
                <a:cubicBezTo>
                  <a:pt x="649456" y="873859"/>
                  <a:pt x="775609" y="895026"/>
                  <a:pt x="839956" y="922966"/>
                </a:cubicBezTo>
                <a:cubicBezTo>
                  <a:pt x="904303" y="950906"/>
                  <a:pt x="905996" y="949213"/>
                  <a:pt x="921236" y="963606"/>
                </a:cubicBezTo>
                <a:cubicBezTo>
                  <a:pt x="936476" y="977999"/>
                  <a:pt x="885676" y="1007633"/>
                  <a:pt x="931396" y="1009326"/>
                </a:cubicBezTo>
                <a:cubicBezTo>
                  <a:pt x="977116" y="1011019"/>
                  <a:pt x="1110043" y="979693"/>
                  <a:pt x="1195556" y="973766"/>
                </a:cubicBezTo>
                <a:cubicBezTo>
                  <a:pt x="1281069" y="967839"/>
                  <a:pt x="1374203" y="959373"/>
                  <a:pt x="1444476" y="973766"/>
                </a:cubicBezTo>
                <a:cubicBezTo>
                  <a:pt x="1514749" y="988159"/>
                  <a:pt x="1580789" y="1040653"/>
                  <a:pt x="1617196" y="1060126"/>
                </a:cubicBezTo>
                <a:cubicBezTo>
                  <a:pt x="1653603" y="1079599"/>
                  <a:pt x="1650216" y="1092299"/>
                  <a:pt x="1662916" y="1090606"/>
                </a:cubicBezTo>
                <a:cubicBezTo>
                  <a:pt x="1675616" y="1088913"/>
                  <a:pt x="1712869" y="1073673"/>
                  <a:pt x="1683236" y="1044886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フリーフォーム 19"/>
          <p:cNvSpPr/>
          <p:nvPr/>
        </p:nvSpPr>
        <p:spPr>
          <a:xfrm>
            <a:off x="5027760" y="1096920"/>
            <a:ext cx="1535040" cy="812880"/>
          </a:xfrm>
          <a:custGeom>
            <a:avLst/>
            <a:gdLst/>
            <a:ahLst/>
            <a:rect l="l" t="t" r="r" b="b"/>
            <a:pathLst>
              <a:path w="1806556" h="1036125">
                <a:moveTo>
                  <a:pt x="1704812" y="19567"/>
                </a:moveTo>
                <a:cubicBezTo>
                  <a:pt x="1650625" y="39887"/>
                  <a:pt x="1562572" y="110160"/>
                  <a:pt x="1471132" y="126247"/>
                </a:cubicBezTo>
                <a:cubicBezTo>
                  <a:pt x="1379692" y="142334"/>
                  <a:pt x="1298412" y="98307"/>
                  <a:pt x="1156172" y="116087"/>
                </a:cubicBezTo>
                <a:cubicBezTo>
                  <a:pt x="1013932" y="133867"/>
                  <a:pt x="765012" y="178740"/>
                  <a:pt x="617692" y="232927"/>
                </a:cubicBezTo>
                <a:cubicBezTo>
                  <a:pt x="470372" y="287114"/>
                  <a:pt x="316279" y="397180"/>
                  <a:pt x="272252" y="441207"/>
                </a:cubicBezTo>
                <a:cubicBezTo>
                  <a:pt x="228225" y="485234"/>
                  <a:pt x="335752" y="469994"/>
                  <a:pt x="353532" y="497087"/>
                </a:cubicBezTo>
                <a:cubicBezTo>
                  <a:pt x="371312" y="524180"/>
                  <a:pt x="394172" y="578367"/>
                  <a:pt x="378932" y="603767"/>
                </a:cubicBezTo>
                <a:cubicBezTo>
                  <a:pt x="363692" y="629167"/>
                  <a:pt x="289185" y="658800"/>
                  <a:pt x="262092" y="649487"/>
                </a:cubicBezTo>
                <a:cubicBezTo>
                  <a:pt x="234999" y="640174"/>
                  <a:pt x="237539" y="541960"/>
                  <a:pt x="216372" y="547887"/>
                </a:cubicBezTo>
                <a:cubicBezTo>
                  <a:pt x="195205" y="553814"/>
                  <a:pt x="158799" y="635940"/>
                  <a:pt x="135092" y="685047"/>
                </a:cubicBezTo>
                <a:cubicBezTo>
                  <a:pt x="111385" y="734154"/>
                  <a:pt x="94452" y="800194"/>
                  <a:pt x="74132" y="842527"/>
                </a:cubicBezTo>
                <a:cubicBezTo>
                  <a:pt x="53812" y="884860"/>
                  <a:pt x="-32548" y="911954"/>
                  <a:pt x="13172" y="939047"/>
                </a:cubicBezTo>
                <a:cubicBezTo>
                  <a:pt x="58892" y="966140"/>
                  <a:pt x="240079" y="990694"/>
                  <a:pt x="348452" y="1005087"/>
                </a:cubicBezTo>
                <a:cubicBezTo>
                  <a:pt x="456825" y="1019480"/>
                  <a:pt x="537259" y="1053347"/>
                  <a:pt x="663412" y="1025407"/>
                </a:cubicBezTo>
                <a:cubicBezTo>
                  <a:pt x="789565" y="997467"/>
                  <a:pt x="992765" y="909414"/>
                  <a:pt x="1105372" y="837447"/>
                </a:cubicBezTo>
                <a:cubicBezTo>
                  <a:pt x="1217979" y="765480"/>
                  <a:pt x="1267085" y="677427"/>
                  <a:pt x="1339052" y="593607"/>
                </a:cubicBezTo>
                <a:cubicBezTo>
                  <a:pt x="1411019" y="509787"/>
                  <a:pt x="1495685" y="409880"/>
                  <a:pt x="1537172" y="334527"/>
                </a:cubicBezTo>
                <a:cubicBezTo>
                  <a:pt x="1578659" y="259174"/>
                  <a:pt x="1547332" y="185514"/>
                  <a:pt x="1587972" y="141487"/>
                </a:cubicBezTo>
                <a:cubicBezTo>
                  <a:pt x="1628612" y="97460"/>
                  <a:pt x="1746299" y="93227"/>
                  <a:pt x="1781012" y="70367"/>
                </a:cubicBezTo>
                <a:cubicBezTo>
                  <a:pt x="1815725" y="47507"/>
                  <a:pt x="1808952" y="12794"/>
                  <a:pt x="1796252" y="4327"/>
                </a:cubicBezTo>
                <a:cubicBezTo>
                  <a:pt x="1783552" y="-4140"/>
                  <a:pt x="1758999" y="-753"/>
                  <a:pt x="1704812" y="19567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フリーフォーム 20"/>
          <p:cNvSpPr/>
          <p:nvPr/>
        </p:nvSpPr>
        <p:spPr>
          <a:xfrm>
            <a:off x="8327880" y="225360"/>
            <a:ext cx="1425600" cy="1123920"/>
          </a:xfrm>
          <a:custGeom>
            <a:avLst/>
            <a:gdLst/>
            <a:ahLst/>
            <a:rect l="l" t="t" r="r" b="b"/>
            <a:pathLst>
              <a:path w="1677372" h="1433876">
                <a:moveTo>
                  <a:pt x="1187910" y="1227"/>
                </a:moveTo>
                <a:cubicBezTo>
                  <a:pt x="1120177" y="4614"/>
                  <a:pt x="961850" y="11387"/>
                  <a:pt x="857710" y="52027"/>
                </a:cubicBezTo>
                <a:cubicBezTo>
                  <a:pt x="753570" y="92667"/>
                  <a:pt x="663823" y="184954"/>
                  <a:pt x="563070" y="245067"/>
                </a:cubicBezTo>
                <a:cubicBezTo>
                  <a:pt x="462317" y="305180"/>
                  <a:pt x="318383" y="312800"/>
                  <a:pt x="253190" y="412707"/>
                </a:cubicBezTo>
                <a:cubicBezTo>
                  <a:pt x="187997" y="512614"/>
                  <a:pt x="198157" y="731054"/>
                  <a:pt x="171910" y="844507"/>
                </a:cubicBezTo>
                <a:cubicBezTo>
                  <a:pt x="145663" y="957960"/>
                  <a:pt x="108410" y="1021460"/>
                  <a:pt x="95710" y="1093427"/>
                </a:cubicBezTo>
                <a:cubicBezTo>
                  <a:pt x="83010" y="1165394"/>
                  <a:pt x="110103" y="1219580"/>
                  <a:pt x="95710" y="1276307"/>
                </a:cubicBezTo>
                <a:cubicBezTo>
                  <a:pt x="81317" y="1333034"/>
                  <a:pt x="-32983" y="1430400"/>
                  <a:pt x="9350" y="1433787"/>
                </a:cubicBezTo>
                <a:cubicBezTo>
                  <a:pt x="51683" y="1437174"/>
                  <a:pt x="226097" y="1344040"/>
                  <a:pt x="349710" y="1296627"/>
                </a:cubicBezTo>
                <a:cubicBezTo>
                  <a:pt x="473323" y="1249214"/>
                  <a:pt x="644350" y="1193334"/>
                  <a:pt x="751030" y="1149307"/>
                </a:cubicBezTo>
                <a:cubicBezTo>
                  <a:pt x="857710" y="1105280"/>
                  <a:pt x="891577" y="1066334"/>
                  <a:pt x="989790" y="1032467"/>
                </a:cubicBezTo>
                <a:cubicBezTo>
                  <a:pt x="1088003" y="998600"/>
                  <a:pt x="1244637" y="1001987"/>
                  <a:pt x="1340310" y="946107"/>
                </a:cubicBezTo>
                <a:cubicBezTo>
                  <a:pt x="1435983" y="890227"/>
                  <a:pt x="1508797" y="786087"/>
                  <a:pt x="1563830" y="697187"/>
                </a:cubicBezTo>
                <a:cubicBezTo>
                  <a:pt x="1618863" y="608287"/>
                  <a:pt x="1701837" y="477900"/>
                  <a:pt x="1670510" y="412707"/>
                </a:cubicBezTo>
                <a:cubicBezTo>
                  <a:pt x="1639183" y="347514"/>
                  <a:pt x="1432597" y="342434"/>
                  <a:pt x="1375870" y="306027"/>
                </a:cubicBezTo>
                <a:cubicBezTo>
                  <a:pt x="1319143" y="269620"/>
                  <a:pt x="1330150" y="194267"/>
                  <a:pt x="1330150" y="194267"/>
                </a:cubicBezTo>
                <a:cubicBezTo>
                  <a:pt x="1311523" y="148547"/>
                  <a:pt x="1289510" y="63880"/>
                  <a:pt x="1264110" y="31707"/>
                </a:cubicBezTo>
                <a:cubicBezTo>
                  <a:pt x="1238710" y="-466"/>
                  <a:pt x="1255643" y="-2160"/>
                  <a:pt x="1187910" y="1227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フリーフォーム 21"/>
          <p:cNvSpPr/>
          <p:nvPr/>
        </p:nvSpPr>
        <p:spPr>
          <a:xfrm>
            <a:off x="8089920" y="1434960"/>
            <a:ext cx="1127160" cy="897120"/>
          </a:xfrm>
          <a:custGeom>
            <a:avLst/>
            <a:gdLst/>
            <a:ahLst/>
            <a:rect l="l" t="t" r="r" b="b"/>
            <a:pathLst>
              <a:path w="899166" h="776412">
                <a:moveTo>
                  <a:pt x="4962" y="734736"/>
                </a:moveTo>
                <a:cubicBezTo>
                  <a:pt x="19779" y="717062"/>
                  <a:pt x="95132" y="689016"/>
                  <a:pt x="123707" y="669331"/>
                </a:cubicBezTo>
                <a:cubicBezTo>
                  <a:pt x="116087" y="617261"/>
                  <a:pt x="86877" y="564662"/>
                  <a:pt x="90687" y="475656"/>
                </a:cubicBezTo>
                <a:cubicBezTo>
                  <a:pt x="94497" y="386650"/>
                  <a:pt x="102540" y="214036"/>
                  <a:pt x="146567" y="135296"/>
                </a:cubicBezTo>
                <a:cubicBezTo>
                  <a:pt x="190594" y="56556"/>
                  <a:pt x="249014" y="17609"/>
                  <a:pt x="354847" y="3216"/>
                </a:cubicBezTo>
                <a:cubicBezTo>
                  <a:pt x="460680" y="-11177"/>
                  <a:pt x="695207" y="26076"/>
                  <a:pt x="781567" y="48936"/>
                </a:cubicBezTo>
                <a:cubicBezTo>
                  <a:pt x="867927" y="71796"/>
                  <a:pt x="853534" y="108203"/>
                  <a:pt x="873007" y="140376"/>
                </a:cubicBezTo>
                <a:cubicBezTo>
                  <a:pt x="892480" y="172549"/>
                  <a:pt x="898407" y="175089"/>
                  <a:pt x="898407" y="241976"/>
                </a:cubicBezTo>
                <a:cubicBezTo>
                  <a:pt x="898407" y="308863"/>
                  <a:pt x="906027" y="466343"/>
                  <a:pt x="873007" y="541696"/>
                </a:cubicBezTo>
                <a:cubicBezTo>
                  <a:pt x="839987" y="617049"/>
                  <a:pt x="764634" y="657689"/>
                  <a:pt x="700287" y="694096"/>
                </a:cubicBezTo>
                <a:cubicBezTo>
                  <a:pt x="635940" y="730503"/>
                  <a:pt x="568207" y="758443"/>
                  <a:pt x="486927" y="760136"/>
                </a:cubicBezTo>
                <a:cubicBezTo>
                  <a:pt x="405647" y="761829"/>
                  <a:pt x="269122" y="715474"/>
                  <a:pt x="212607" y="704256"/>
                </a:cubicBezTo>
                <a:cubicBezTo>
                  <a:pt x="156092" y="693038"/>
                  <a:pt x="177470" y="692403"/>
                  <a:pt x="147837" y="692826"/>
                </a:cubicBezTo>
                <a:cubicBezTo>
                  <a:pt x="131539" y="712299"/>
                  <a:pt x="58619" y="768391"/>
                  <a:pt x="34807" y="775376"/>
                </a:cubicBezTo>
                <a:cubicBezTo>
                  <a:pt x="10995" y="782361"/>
                  <a:pt x="-9855" y="752410"/>
                  <a:pt x="4962" y="734736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フリーフォーム 22"/>
          <p:cNvSpPr/>
          <p:nvPr/>
        </p:nvSpPr>
        <p:spPr>
          <a:xfrm>
            <a:off x="5599080" y="1973160"/>
            <a:ext cx="1165320" cy="717480"/>
          </a:xfrm>
          <a:custGeom>
            <a:avLst/>
            <a:gdLst/>
            <a:ahLst/>
            <a:rect l="l" t="t" r="r" b="b"/>
            <a:pathLst>
              <a:path w="929850" h="620483">
                <a:moveTo>
                  <a:pt x="14" y="619854"/>
                </a:moveTo>
                <a:cubicBezTo>
                  <a:pt x="1284" y="626627"/>
                  <a:pt x="63091" y="576674"/>
                  <a:pt x="109234" y="569054"/>
                </a:cubicBezTo>
                <a:cubicBezTo>
                  <a:pt x="155377" y="561434"/>
                  <a:pt x="187127" y="579214"/>
                  <a:pt x="276874" y="574134"/>
                </a:cubicBezTo>
                <a:cubicBezTo>
                  <a:pt x="366621" y="569054"/>
                  <a:pt x="543997" y="580907"/>
                  <a:pt x="647714" y="538574"/>
                </a:cubicBezTo>
                <a:cubicBezTo>
                  <a:pt x="751431" y="496241"/>
                  <a:pt x="853877" y="386174"/>
                  <a:pt x="899174" y="320134"/>
                </a:cubicBezTo>
                <a:cubicBezTo>
                  <a:pt x="944471" y="254094"/>
                  <a:pt x="928807" y="177471"/>
                  <a:pt x="919494" y="142334"/>
                </a:cubicBezTo>
                <a:cubicBezTo>
                  <a:pt x="910181" y="107197"/>
                  <a:pt x="843294" y="109314"/>
                  <a:pt x="843294" y="109314"/>
                </a:cubicBezTo>
                <a:cubicBezTo>
                  <a:pt x="787414" y="85607"/>
                  <a:pt x="687507" y="-3293"/>
                  <a:pt x="584214" y="94"/>
                </a:cubicBezTo>
                <a:cubicBezTo>
                  <a:pt x="480921" y="3481"/>
                  <a:pt x="306507" y="60631"/>
                  <a:pt x="223534" y="129634"/>
                </a:cubicBezTo>
                <a:cubicBezTo>
                  <a:pt x="140561" y="198637"/>
                  <a:pt x="106694" y="347651"/>
                  <a:pt x="86374" y="414114"/>
                </a:cubicBezTo>
                <a:cubicBezTo>
                  <a:pt x="66054" y="480577"/>
                  <a:pt x="120664" y="500897"/>
                  <a:pt x="101614" y="528414"/>
                </a:cubicBezTo>
                <a:cubicBezTo>
                  <a:pt x="82564" y="555931"/>
                  <a:pt x="-1256" y="613081"/>
                  <a:pt x="14" y="619854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フリーフォーム 23"/>
          <p:cNvSpPr/>
          <p:nvPr/>
        </p:nvSpPr>
        <p:spPr>
          <a:xfrm>
            <a:off x="6745320" y="2414520"/>
            <a:ext cx="741240" cy="1054080"/>
          </a:xfrm>
          <a:custGeom>
            <a:avLst/>
            <a:gdLst/>
            <a:ahLst/>
            <a:rect l="l" t="t" r="r" b="b"/>
            <a:pathLst>
              <a:path w="592055" h="912887">
                <a:moveTo>
                  <a:pt x="269310" y="3370"/>
                </a:moveTo>
                <a:cubicBezTo>
                  <a:pt x="226977" y="25807"/>
                  <a:pt x="133843" y="164660"/>
                  <a:pt x="88970" y="234510"/>
                </a:cubicBezTo>
                <a:cubicBezTo>
                  <a:pt x="44097" y="304360"/>
                  <a:pt x="-2047" y="353890"/>
                  <a:pt x="70" y="422470"/>
                </a:cubicBezTo>
                <a:cubicBezTo>
                  <a:pt x="2187" y="491050"/>
                  <a:pt x="58067" y="590110"/>
                  <a:pt x="101670" y="645990"/>
                </a:cubicBezTo>
                <a:cubicBezTo>
                  <a:pt x="145273" y="701870"/>
                  <a:pt x="232480" y="732773"/>
                  <a:pt x="261690" y="757750"/>
                </a:cubicBezTo>
                <a:cubicBezTo>
                  <a:pt x="290900" y="782727"/>
                  <a:pt x="281587" y="772567"/>
                  <a:pt x="276930" y="795850"/>
                </a:cubicBezTo>
                <a:cubicBezTo>
                  <a:pt x="272273" y="819133"/>
                  <a:pt x="234173" y="879670"/>
                  <a:pt x="233750" y="897450"/>
                </a:cubicBezTo>
                <a:cubicBezTo>
                  <a:pt x="233327" y="915230"/>
                  <a:pt x="262113" y="918617"/>
                  <a:pt x="274390" y="902530"/>
                </a:cubicBezTo>
                <a:cubicBezTo>
                  <a:pt x="286667" y="886443"/>
                  <a:pt x="291323" y="821673"/>
                  <a:pt x="307410" y="800930"/>
                </a:cubicBezTo>
                <a:cubicBezTo>
                  <a:pt x="323497" y="780187"/>
                  <a:pt x="332810" y="806010"/>
                  <a:pt x="370910" y="778070"/>
                </a:cubicBezTo>
                <a:cubicBezTo>
                  <a:pt x="409010" y="750130"/>
                  <a:pt x="499603" y="709913"/>
                  <a:pt x="536010" y="633290"/>
                </a:cubicBezTo>
                <a:cubicBezTo>
                  <a:pt x="572417" y="556667"/>
                  <a:pt x="601203" y="400033"/>
                  <a:pt x="589350" y="318330"/>
                </a:cubicBezTo>
                <a:cubicBezTo>
                  <a:pt x="577497" y="236627"/>
                  <a:pt x="505953" y="179477"/>
                  <a:pt x="464890" y="143070"/>
                </a:cubicBezTo>
                <a:cubicBezTo>
                  <a:pt x="423827" y="106663"/>
                  <a:pt x="379377" y="122750"/>
                  <a:pt x="342970" y="99890"/>
                </a:cubicBezTo>
                <a:cubicBezTo>
                  <a:pt x="306563" y="77030"/>
                  <a:pt x="311643" y="-19067"/>
                  <a:pt x="269310" y="3370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フリーフォーム 24"/>
          <p:cNvSpPr/>
          <p:nvPr/>
        </p:nvSpPr>
        <p:spPr>
          <a:xfrm>
            <a:off x="8607600" y="2449440"/>
            <a:ext cx="920520" cy="1077840"/>
          </a:xfrm>
          <a:custGeom>
            <a:avLst/>
            <a:gdLst/>
            <a:ahLst/>
            <a:rect l="l" t="t" r="r" b="b"/>
            <a:pathLst>
              <a:path w="733951" h="933164">
                <a:moveTo>
                  <a:pt x="530748" y="1419"/>
                </a:moveTo>
                <a:cubicBezTo>
                  <a:pt x="523551" y="9039"/>
                  <a:pt x="566308" y="71692"/>
                  <a:pt x="553608" y="85239"/>
                </a:cubicBezTo>
                <a:cubicBezTo>
                  <a:pt x="540908" y="98786"/>
                  <a:pt x="512968" y="71692"/>
                  <a:pt x="454548" y="82699"/>
                </a:cubicBezTo>
                <a:cubicBezTo>
                  <a:pt x="396128" y="93706"/>
                  <a:pt x="275055" y="103442"/>
                  <a:pt x="203088" y="151279"/>
                </a:cubicBezTo>
                <a:cubicBezTo>
                  <a:pt x="131121" y="199116"/>
                  <a:pt x="54921" y="288016"/>
                  <a:pt x="22748" y="369719"/>
                </a:cubicBezTo>
                <a:cubicBezTo>
                  <a:pt x="-9425" y="451422"/>
                  <a:pt x="-1382" y="561489"/>
                  <a:pt x="10048" y="641499"/>
                </a:cubicBezTo>
                <a:cubicBezTo>
                  <a:pt x="21478" y="721509"/>
                  <a:pt x="77358" y="801519"/>
                  <a:pt x="91328" y="849779"/>
                </a:cubicBezTo>
                <a:cubicBezTo>
                  <a:pt x="105298" y="898039"/>
                  <a:pt x="67198" y="922169"/>
                  <a:pt x="93868" y="931059"/>
                </a:cubicBezTo>
                <a:cubicBezTo>
                  <a:pt x="120538" y="939949"/>
                  <a:pt x="186155" y="918782"/>
                  <a:pt x="251348" y="903119"/>
                </a:cubicBezTo>
                <a:cubicBezTo>
                  <a:pt x="316541" y="887456"/>
                  <a:pt x="405865" y="900156"/>
                  <a:pt x="485028" y="837079"/>
                </a:cubicBezTo>
                <a:cubicBezTo>
                  <a:pt x="564191" y="774002"/>
                  <a:pt x="696271" y="633456"/>
                  <a:pt x="726328" y="524659"/>
                </a:cubicBezTo>
                <a:cubicBezTo>
                  <a:pt x="756385" y="415862"/>
                  <a:pt x="689498" y="252456"/>
                  <a:pt x="665368" y="184299"/>
                </a:cubicBezTo>
                <a:cubicBezTo>
                  <a:pt x="641238" y="116142"/>
                  <a:pt x="592978" y="139849"/>
                  <a:pt x="581548" y="115719"/>
                </a:cubicBezTo>
                <a:cubicBezTo>
                  <a:pt x="570118" y="91589"/>
                  <a:pt x="601445" y="60686"/>
                  <a:pt x="596788" y="39519"/>
                </a:cubicBezTo>
                <a:cubicBezTo>
                  <a:pt x="592131" y="18352"/>
                  <a:pt x="537945" y="-6201"/>
                  <a:pt x="530748" y="1419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フリーフォーム 25"/>
          <p:cNvSpPr/>
          <p:nvPr/>
        </p:nvSpPr>
        <p:spPr>
          <a:xfrm>
            <a:off x="4091040" y="1609560"/>
            <a:ext cx="936720" cy="1241640"/>
          </a:xfrm>
          <a:custGeom>
            <a:avLst/>
            <a:gdLst/>
            <a:ahLst/>
            <a:rect l="l" t="t" r="r" b="b"/>
            <a:pathLst>
              <a:path w="648606" h="931866">
                <a:moveTo>
                  <a:pt x="395643" y="3162"/>
                </a:moveTo>
                <a:cubicBezTo>
                  <a:pt x="355003" y="17555"/>
                  <a:pt x="268220" y="81055"/>
                  <a:pt x="202603" y="150482"/>
                </a:cubicBezTo>
                <a:cubicBezTo>
                  <a:pt x="136986" y="219909"/>
                  <a:pt x="17606" y="324895"/>
                  <a:pt x="1943" y="419722"/>
                </a:cubicBezTo>
                <a:cubicBezTo>
                  <a:pt x="-13720" y="514549"/>
                  <a:pt x="69253" y="654672"/>
                  <a:pt x="108623" y="719442"/>
                </a:cubicBezTo>
                <a:cubicBezTo>
                  <a:pt x="147993" y="784212"/>
                  <a:pt x="214033" y="775322"/>
                  <a:pt x="238163" y="808342"/>
                </a:cubicBezTo>
                <a:cubicBezTo>
                  <a:pt x="262293" y="841362"/>
                  <a:pt x="242820" y="898935"/>
                  <a:pt x="253403" y="917562"/>
                </a:cubicBezTo>
                <a:cubicBezTo>
                  <a:pt x="263986" y="936189"/>
                  <a:pt x="298276" y="936188"/>
                  <a:pt x="301663" y="920102"/>
                </a:cubicBezTo>
                <a:cubicBezTo>
                  <a:pt x="305050" y="904016"/>
                  <a:pt x="274570" y="839245"/>
                  <a:pt x="273723" y="821042"/>
                </a:cubicBezTo>
                <a:cubicBezTo>
                  <a:pt x="272876" y="802839"/>
                  <a:pt x="285576" y="813845"/>
                  <a:pt x="296583" y="810882"/>
                </a:cubicBezTo>
                <a:cubicBezTo>
                  <a:pt x="307590" y="807919"/>
                  <a:pt x="317750" y="811729"/>
                  <a:pt x="339763" y="803262"/>
                </a:cubicBezTo>
                <a:cubicBezTo>
                  <a:pt x="361776" y="794795"/>
                  <a:pt x="385906" y="792255"/>
                  <a:pt x="428663" y="760082"/>
                </a:cubicBezTo>
                <a:cubicBezTo>
                  <a:pt x="471420" y="727909"/>
                  <a:pt x="559896" y="671605"/>
                  <a:pt x="596303" y="610222"/>
                </a:cubicBezTo>
                <a:cubicBezTo>
                  <a:pt x="632710" y="548839"/>
                  <a:pt x="654723" y="457399"/>
                  <a:pt x="647103" y="391782"/>
                </a:cubicBezTo>
                <a:cubicBezTo>
                  <a:pt x="639483" y="326165"/>
                  <a:pt x="584026" y="271132"/>
                  <a:pt x="550583" y="216522"/>
                </a:cubicBezTo>
                <a:cubicBezTo>
                  <a:pt x="517140" y="161912"/>
                  <a:pt x="469303" y="102222"/>
                  <a:pt x="446443" y="64122"/>
                </a:cubicBezTo>
                <a:cubicBezTo>
                  <a:pt x="423583" y="26022"/>
                  <a:pt x="436283" y="-11231"/>
                  <a:pt x="395643" y="3162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フリーフォーム 26"/>
          <p:cNvSpPr/>
          <p:nvPr/>
        </p:nvSpPr>
        <p:spPr>
          <a:xfrm>
            <a:off x="5076720" y="2568600"/>
            <a:ext cx="857520" cy="1079640"/>
          </a:xfrm>
          <a:custGeom>
            <a:avLst/>
            <a:gdLst/>
            <a:ahLst/>
            <a:rect l="l" t="t" r="r" b="b"/>
            <a:pathLst>
              <a:path w="684005" h="933819">
                <a:moveTo>
                  <a:pt x="66040" y="17548"/>
                </a:moveTo>
                <a:cubicBezTo>
                  <a:pt x="40217" y="63691"/>
                  <a:pt x="0" y="222018"/>
                  <a:pt x="0" y="322348"/>
                </a:cubicBezTo>
                <a:cubicBezTo>
                  <a:pt x="0" y="422678"/>
                  <a:pt x="34713" y="545868"/>
                  <a:pt x="66040" y="619528"/>
                </a:cubicBezTo>
                <a:cubicBezTo>
                  <a:pt x="97367" y="693188"/>
                  <a:pt x="135043" y="724938"/>
                  <a:pt x="187960" y="764308"/>
                </a:cubicBezTo>
                <a:cubicBezTo>
                  <a:pt x="240877" y="803678"/>
                  <a:pt x="328930" y="839238"/>
                  <a:pt x="383540" y="855748"/>
                </a:cubicBezTo>
                <a:cubicBezTo>
                  <a:pt x="438150" y="872258"/>
                  <a:pt x="490643" y="859558"/>
                  <a:pt x="515620" y="863368"/>
                </a:cubicBezTo>
                <a:cubicBezTo>
                  <a:pt x="540597" y="867178"/>
                  <a:pt x="523663" y="867601"/>
                  <a:pt x="533400" y="878608"/>
                </a:cubicBezTo>
                <a:cubicBezTo>
                  <a:pt x="543137" y="889615"/>
                  <a:pt x="560917" y="921365"/>
                  <a:pt x="574040" y="929408"/>
                </a:cubicBezTo>
                <a:cubicBezTo>
                  <a:pt x="587163" y="937451"/>
                  <a:pt x="611717" y="933218"/>
                  <a:pt x="612140" y="926868"/>
                </a:cubicBezTo>
                <a:cubicBezTo>
                  <a:pt x="612563" y="920518"/>
                  <a:pt x="584200" y="903161"/>
                  <a:pt x="576580" y="891308"/>
                </a:cubicBezTo>
                <a:cubicBezTo>
                  <a:pt x="568960" y="879455"/>
                  <a:pt x="567267" y="864215"/>
                  <a:pt x="566420" y="855748"/>
                </a:cubicBezTo>
                <a:cubicBezTo>
                  <a:pt x="565573" y="847281"/>
                  <a:pt x="564727" y="850245"/>
                  <a:pt x="571500" y="840508"/>
                </a:cubicBezTo>
                <a:cubicBezTo>
                  <a:pt x="578273" y="830771"/>
                  <a:pt x="588433" y="849821"/>
                  <a:pt x="607060" y="797328"/>
                </a:cubicBezTo>
                <a:cubicBezTo>
                  <a:pt x="625687" y="744835"/>
                  <a:pt x="691727" y="614871"/>
                  <a:pt x="683260" y="525548"/>
                </a:cubicBezTo>
                <a:cubicBezTo>
                  <a:pt x="674793" y="436225"/>
                  <a:pt x="615527" y="330815"/>
                  <a:pt x="556260" y="261388"/>
                </a:cubicBezTo>
                <a:cubicBezTo>
                  <a:pt x="496993" y="191961"/>
                  <a:pt x="394547" y="144971"/>
                  <a:pt x="327660" y="108988"/>
                </a:cubicBezTo>
                <a:cubicBezTo>
                  <a:pt x="260773" y="73005"/>
                  <a:pt x="198120" y="61998"/>
                  <a:pt x="154940" y="45488"/>
                </a:cubicBezTo>
                <a:cubicBezTo>
                  <a:pt x="111760" y="28978"/>
                  <a:pt x="91863" y="-28595"/>
                  <a:pt x="66040" y="17548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フリーフォーム 27"/>
          <p:cNvSpPr/>
          <p:nvPr/>
        </p:nvSpPr>
        <p:spPr>
          <a:xfrm>
            <a:off x="5423040" y="3583080"/>
            <a:ext cx="1733400" cy="1193760"/>
          </a:xfrm>
          <a:custGeom>
            <a:avLst/>
            <a:gdLst/>
            <a:ahLst/>
            <a:rect l="l" t="t" r="r" b="b"/>
            <a:pathLst>
              <a:path w="1307143" h="974774">
                <a:moveTo>
                  <a:pt x="526796" y="329893"/>
                </a:moveTo>
                <a:cubicBezTo>
                  <a:pt x="484124" y="375613"/>
                  <a:pt x="149860" y="477213"/>
                  <a:pt x="63500" y="524965"/>
                </a:cubicBezTo>
                <a:cubicBezTo>
                  <a:pt x="-22860" y="572717"/>
                  <a:pt x="1524" y="597101"/>
                  <a:pt x="8636" y="616405"/>
                </a:cubicBezTo>
                <a:cubicBezTo>
                  <a:pt x="15748" y="635709"/>
                  <a:pt x="100076" y="623517"/>
                  <a:pt x="106172" y="640789"/>
                </a:cubicBezTo>
                <a:cubicBezTo>
                  <a:pt x="112268" y="658061"/>
                  <a:pt x="6604" y="711909"/>
                  <a:pt x="45212" y="720037"/>
                </a:cubicBezTo>
                <a:cubicBezTo>
                  <a:pt x="83820" y="728165"/>
                  <a:pt x="232156" y="740357"/>
                  <a:pt x="337820" y="689557"/>
                </a:cubicBezTo>
                <a:cubicBezTo>
                  <a:pt x="443484" y="638757"/>
                  <a:pt x="627380" y="411173"/>
                  <a:pt x="679196" y="415237"/>
                </a:cubicBezTo>
                <a:cubicBezTo>
                  <a:pt x="731012" y="419301"/>
                  <a:pt x="647700" y="622501"/>
                  <a:pt x="648716" y="713941"/>
                </a:cubicBezTo>
                <a:cubicBezTo>
                  <a:pt x="649732" y="805381"/>
                  <a:pt x="667004" y="928317"/>
                  <a:pt x="685292" y="963877"/>
                </a:cubicBezTo>
                <a:cubicBezTo>
                  <a:pt x="703580" y="999437"/>
                  <a:pt x="734060" y="937461"/>
                  <a:pt x="758444" y="927301"/>
                </a:cubicBezTo>
                <a:cubicBezTo>
                  <a:pt x="782828" y="917141"/>
                  <a:pt x="805180" y="928317"/>
                  <a:pt x="831596" y="902917"/>
                </a:cubicBezTo>
                <a:cubicBezTo>
                  <a:pt x="858012" y="877517"/>
                  <a:pt x="908812" y="852117"/>
                  <a:pt x="916940" y="774901"/>
                </a:cubicBezTo>
                <a:cubicBezTo>
                  <a:pt x="925068" y="697685"/>
                  <a:pt x="858012" y="486357"/>
                  <a:pt x="880364" y="439621"/>
                </a:cubicBezTo>
                <a:cubicBezTo>
                  <a:pt x="902716" y="392885"/>
                  <a:pt x="995172" y="498549"/>
                  <a:pt x="1051052" y="494485"/>
                </a:cubicBezTo>
                <a:cubicBezTo>
                  <a:pt x="1106932" y="490421"/>
                  <a:pt x="1215644" y="415237"/>
                  <a:pt x="1215644" y="415237"/>
                </a:cubicBezTo>
                <a:cubicBezTo>
                  <a:pt x="1258316" y="394917"/>
                  <a:pt x="1309116" y="382725"/>
                  <a:pt x="1307084" y="372565"/>
                </a:cubicBezTo>
                <a:cubicBezTo>
                  <a:pt x="1305052" y="362405"/>
                  <a:pt x="1250188" y="373581"/>
                  <a:pt x="1203452" y="354277"/>
                </a:cubicBezTo>
                <a:cubicBezTo>
                  <a:pt x="1156716" y="334973"/>
                  <a:pt x="1068324" y="267917"/>
                  <a:pt x="1026668" y="256741"/>
                </a:cubicBezTo>
                <a:cubicBezTo>
                  <a:pt x="985012" y="245565"/>
                  <a:pt x="980948" y="282141"/>
                  <a:pt x="953516" y="287221"/>
                </a:cubicBezTo>
                <a:cubicBezTo>
                  <a:pt x="926084" y="292301"/>
                  <a:pt x="885444" y="279093"/>
                  <a:pt x="862076" y="287221"/>
                </a:cubicBezTo>
                <a:cubicBezTo>
                  <a:pt x="838708" y="295349"/>
                  <a:pt x="821436" y="362405"/>
                  <a:pt x="813308" y="335989"/>
                </a:cubicBezTo>
                <a:cubicBezTo>
                  <a:pt x="805180" y="309573"/>
                  <a:pt x="821436" y="184605"/>
                  <a:pt x="813308" y="128725"/>
                </a:cubicBezTo>
                <a:cubicBezTo>
                  <a:pt x="805180" y="72845"/>
                  <a:pt x="783844" y="-8435"/>
                  <a:pt x="764540" y="709"/>
                </a:cubicBezTo>
                <a:cubicBezTo>
                  <a:pt x="745236" y="9853"/>
                  <a:pt x="734060" y="164285"/>
                  <a:pt x="697484" y="183589"/>
                </a:cubicBezTo>
                <a:cubicBezTo>
                  <a:pt x="660908" y="202893"/>
                  <a:pt x="591820" y="134821"/>
                  <a:pt x="545084" y="116533"/>
                </a:cubicBezTo>
                <a:cubicBezTo>
                  <a:pt x="498348" y="98245"/>
                  <a:pt x="459740" y="75893"/>
                  <a:pt x="417068" y="73861"/>
                </a:cubicBezTo>
                <a:cubicBezTo>
                  <a:pt x="374396" y="71829"/>
                  <a:pt x="296164" y="87069"/>
                  <a:pt x="289052" y="104341"/>
                </a:cubicBezTo>
                <a:cubicBezTo>
                  <a:pt x="281940" y="121613"/>
                  <a:pt x="392684" y="172413"/>
                  <a:pt x="374396" y="177493"/>
                </a:cubicBezTo>
                <a:cubicBezTo>
                  <a:pt x="356108" y="182573"/>
                  <a:pt x="188468" y="122629"/>
                  <a:pt x="179324" y="134821"/>
                </a:cubicBezTo>
                <a:cubicBezTo>
                  <a:pt x="170180" y="147013"/>
                  <a:pt x="260604" y="223213"/>
                  <a:pt x="319532" y="250645"/>
                </a:cubicBezTo>
                <a:cubicBezTo>
                  <a:pt x="378460" y="278077"/>
                  <a:pt x="569468" y="284173"/>
                  <a:pt x="526796" y="329893"/>
                </a:cubicBezTo>
                <a:close/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2700000"/>
          </a:gra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正方形/長方形 9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フリーフォーム 21"/>
          <p:cNvSpPr/>
          <p:nvPr/>
        </p:nvSpPr>
        <p:spPr>
          <a:xfrm>
            <a:off x="281160" y="282600"/>
            <a:ext cx="1180800" cy="100980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フリーフォーム 22"/>
          <p:cNvSpPr/>
          <p:nvPr/>
        </p:nvSpPr>
        <p:spPr>
          <a:xfrm>
            <a:off x="1608120" y="298440"/>
            <a:ext cx="1461960" cy="193212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フリーフォーム 23"/>
          <p:cNvSpPr/>
          <p:nvPr/>
        </p:nvSpPr>
        <p:spPr>
          <a:xfrm>
            <a:off x="3071880" y="677880"/>
            <a:ext cx="1542960" cy="186516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フリーフォーム 24"/>
          <p:cNvSpPr/>
          <p:nvPr/>
        </p:nvSpPr>
        <p:spPr>
          <a:xfrm>
            <a:off x="1003320" y="2806560"/>
            <a:ext cx="2838600" cy="1677960"/>
          </a:xfrm>
          <a:custGeom>
            <a:avLst/>
            <a:gdLst/>
            <a:ahLst/>
            <a:rect l="l" t="t" r="r" b="b"/>
            <a:pathLst>
              <a:path w="5243308" h="3355942">
                <a:moveTo>
                  <a:pt x="2264438" y="999241"/>
                </a:moveTo>
                <a:cubicBezTo>
                  <a:pt x="2028768" y="961534"/>
                  <a:pt x="1254198" y="760428"/>
                  <a:pt x="888124" y="678729"/>
                </a:cubicBezTo>
                <a:cubicBezTo>
                  <a:pt x="522050" y="597030"/>
                  <a:pt x="153514" y="510723"/>
                  <a:pt x="67992" y="509047"/>
                </a:cubicBezTo>
                <a:cubicBezTo>
                  <a:pt x="-17530" y="507371"/>
                  <a:pt x="-17006" y="543402"/>
                  <a:pt x="39712" y="546754"/>
                </a:cubicBezTo>
                <a:cubicBezTo>
                  <a:pt x="96430" y="550106"/>
                  <a:pt x="1048380" y="772997"/>
                  <a:pt x="1048380" y="772997"/>
                </a:cubicBezTo>
                <a:cubicBezTo>
                  <a:pt x="1412883" y="854696"/>
                  <a:pt x="2000487" y="952107"/>
                  <a:pt x="2226730" y="1036948"/>
                </a:cubicBezTo>
                <a:cubicBezTo>
                  <a:pt x="2452973" y="1121789"/>
                  <a:pt x="2455907" y="1195999"/>
                  <a:pt x="2405840" y="1282045"/>
                </a:cubicBezTo>
                <a:cubicBezTo>
                  <a:pt x="2355773" y="1368091"/>
                  <a:pt x="2228302" y="1486293"/>
                  <a:pt x="2170170" y="1583703"/>
                </a:cubicBezTo>
                <a:cubicBezTo>
                  <a:pt x="2112038" y="1681113"/>
                  <a:pt x="2096326" y="1721963"/>
                  <a:pt x="2057048" y="1866507"/>
                </a:cubicBezTo>
                <a:cubicBezTo>
                  <a:pt x="2017770" y="2011051"/>
                  <a:pt x="1891451" y="2381839"/>
                  <a:pt x="1934500" y="2450969"/>
                </a:cubicBezTo>
                <a:cubicBezTo>
                  <a:pt x="2023269" y="2454059"/>
                  <a:pt x="2072759" y="2333133"/>
                  <a:pt x="2132462" y="2281286"/>
                </a:cubicBezTo>
                <a:cubicBezTo>
                  <a:pt x="2192165" y="2229439"/>
                  <a:pt x="2236157" y="2215298"/>
                  <a:pt x="2292718" y="2139884"/>
                </a:cubicBezTo>
                <a:cubicBezTo>
                  <a:pt x="2349279" y="2064470"/>
                  <a:pt x="2424798" y="1853991"/>
                  <a:pt x="2471827" y="1828800"/>
                </a:cubicBezTo>
                <a:cubicBezTo>
                  <a:pt x="2498536" y="1869649"/>
                  <a:pt x="2416838" y="2231010"/>
                  <a:pt x="2452974" y="2384981"/>
                </a:cubicBezTo>
                <a:cubicBezTo>
                  <a:pt x="2489110" y="2538952"/>
                  <a:pt x="2619514" y="2590799"/>
                  <a:pt x="2688644" y="2752626"/>
                </a:cubicBezTo>
                <a:cubicBezTo>
                  <a:pt x="2757774" y="2914453"/>
                  <a:pt x="2826000" y="3301934"/>
                  <a:pt x="2867753" y="3355942"/>
                </a:cubicBezTo>
                <a:cubicBezTo>
                  <a:pt x="2920936" y="3316605"/>
                  <a:pt x="2930598" y="2879889"/>
                  <a:pt x="2962021" y="2733773"/>
                </a:cubicBezTo>
                <a:cubicBezTo>
                  <a:pt x="2993444" y="2587658"/>
                  <a:pt x="3061002" y="2604940"/>
                  <a:pt x="3056289" y="2479249"/>
                </a:cubicBezTo>
                <a:cubicBezTo>
                  <a:pt x="3051576" y="2353558"/>
                  <a:pt x="2900747" y="1984341"/>
                  <a:pt x="2933741" y="1979628"/>
                </a:cubicBezTo>
                <a:cubicBezTo>
                  <a:pt x="2987055" y="2025715"/>
                  <a:pt x="3104994" y="2317423"/>
                  <a:pt x="3254252" y="2450969"/>
                </a:cubicBezTo>
                <a:cubicBezTo>
                  <a:pt x="3403510" y="2584515"/>
                  <a:pt x="3691027" y="2670928"/>
                  <a:pt x="3829287" y="2780907"/>
                </a:cubicBezTo>
                <a:cubicBezTo>
                  <a:pt x="3967547" y="2890886"/>
                  <a:pt x="4035675" y="3031738"/>
                  <a:pt x="4083811" y="3110845"/>
                </a:cubicBezTo>
                <a:cubicBezTo>
                  <a:pt x="4116707" y="3048982"/>
                  <a:pt x="4112091" y="2883030"/>
                  <a:pt x="4083811" y="2752626"/>
                </a:cubicBezTo>
                <a:cubicBezTo>
                  <a:pt x="4055531" y="2622222"/>
                  <a:pt x="3987971" y="2461966"/>
                  <a:pt x="3914128" y="2328420"/>
                </a:cubicBezTo>
                <a:cubicBezTo>
                  <a:pt x="3840285" y="2194874"/>
                  <a:pt x="3725592" y="2061327"/>
                  <a:pt x="3640751" y="1951348"/>
                </a:cubicBezTo>
                <a:cubicBezTo>
                  <a:pt x="3555910" y="1841369"/>
                  <a:pt x="3388898" y="1705976"/>
                  <a:pt x="3405081" y="1668544"/>
                </a:cubicBezTo>
                <a:cubicBezTo>
                  <a:pt x="3436504" y="1665402"/>
                  <a:pt x="3621897" y="1904214"/>
                  <a:pt x="3829287" y="1932494"/>
                </a:cubicBezTo>
                <a:cubicBezTo>
                  <a:pt x="4036677" y="1960774"/>
                  <a:pt x="4413749" y="1850795"/>
                  <a:pt x="4649419" y="1838226"/>
                </a:cubicBezTo>
                <a:cubicBezTo>
                  <a:pt x="4885089" y="1825657"/>
                  <a:pt x="5135901" y="1868392"/>
                  <a:pt x="5243308" y="1857080"/>
                </a:cubicBezTo>
                <a:cubicBezTo>
                  <a:pt x="5204030" y="1784808"/>
                  <a:pt x="4616425" y="1520857"/>
                  <a:pt x="4413749" y="1404593"/>
                </a:cubicBezTo>
                <a:cubicBezTo>
                  <a:pt x="4211073" y="1288329"/>
                  <a:pt x="4182792" y="1220770"/>
                  <a:pt x="4027250" y="1159496"/>
                </a:cubicBezTo>
                <a:cubicBezTo>
                  <a:pt x="3871708" y="1098222"/>
                  <a:pt x="3546404" y="1066741"/>
                  <a:pt x="3480495" y="1036948"/>
                </a:cubicBezTo>
                <a:cubicBezTo>
                  <a:pt x="3507931" y="970960"/>
                  <a:pt x="3796294" y="936396"/>
                  <a:pt x="3951836" y="763571"/>
                </a:cubicBezTo>
                <a:cubicBezTo>
                  <a:pt x="4107378" y="590746"/>
                  <a:pt x="4398745" y="100513"/>
                  <a:pt x="4413749" y="0"/>
                </a:cubicBezTo>
                <a:cubicBezTo>
                  <a:pt x="4343028" y="17597"/>
                  <a:pt x="4066529" y="256095"/>
                  <a:pt x="3904702" y="320511"/>
                </a:cubicBezTo>
                <a:cubicBezTo>
                  <a:pt x="3742875" y="384927"/>
                  <a:pt x="3593617" y="312655"/>
                  <a:pt x="3442788" y="386498"/>
                </a:cubicBezTo>
                <a:cubicBezTo>
                  <a:pt x="3291959" y="460341"/>
                  <a:pt x="3067287" y="707854"/>
                  <a:pt x="2999728" y="763571"/>
                </a:cubicBezTo>
                <a:cubicBezTo>
                  <a:pt x="2962649" y="689747"/>
                  <a:pt x="3032723" y="598602"/>
                  <a:pt x="3037436" y="480767"/>
                </a:cubicBezTo>
                <a:cubicBezTo>
                  <a:pt x="3042149" y="362932"/>
                  <a:pt x="3062849" y="134331"/>
                  <a:pt x="3028009" y="56560"/>
                </a:cubicBezTo>
                <a:cubicBezTo>
                  <a:pt x="2949354" y="89279"/>
                  <a:pt x="2704355" y="334651"/>
                  <a:pt x="2622656" y="471340"/>
                </a:cubicBezTo>
                <a:cubicBezTo>
                  <a:pt x="2540957" y="608029"/>
                  <a:pt x="2558043" y="803124"/>
                  <a:pt x="2537815" y="876692"/>
                </a:cubicBezTo>
                <a:cubicBezTo>
                  <a:pt x="2494727" y="843580"/>
                  <a:pt x="2452974" y="741575"/>
                  <a:pt x="2386986" y="707010"/>
                </a:cubicBezTo>
                <a:cubicBezTo>
                  <a:pt x="2320998" y="672445"/>
                  <a:pt x="2199844" y="659169"/>
                  <a:pt x="2141889" y="669303"/>
                </a:cubicBezTo>
                <a:cubicBezTo>
                  <a:pt x="2158229" y="709917"/>
                  <a:pt x="2278578" y="854697"/>
                  <a:pt x="2302145" y="904973"/>
                </a:cubicBezTo>
                <a:cubicBezTo>
                  <a:pt x="2325712" y="955249"/>
                  <a:pt x="2500108" y="1036948"/>
                  <a:pt x="2264438" y="99924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フリーフォーム 25"/>
          <p:cNvSpPr/>
          <p:nvPr/>
        </p:nvSpPr>
        <p:spPr>
          <a:xfrm>
            <a:off x="281160" y="1592280"/>
            <a:ext cx="1698480" cy="164952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フリーフォーム 27"/>
          <p:cNvSpPr/>
          <p:nvPr/>
        </p:nvSpPr>
        <p:spPr>
          <a:xfrm rot="7200000">
            <a:off x="3997440" y="41400"/>
            <a:ext cx="1689120" cy="169380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1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フリーフォーム 28"/>
          <p:cNvSpPr/>
          <p:nvPr/>
        </p:nvSpPr>
        <p:spPr>
          <a:xfrm rot="7200000">
            <a:off x="5461560" y="268920"/>
            <a:ext cx="2092320" cy="324000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1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フリーフォーム 29"/>
          <p:cNvSpPr/>
          <p:nvPr/>
        </p:nvSpPr>
        <p:spPr>
          <a:xfrm rot="7200000">
            <a:off x="6879600" y="677880"/>
            <a:ext cx="2206800" cy="313020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1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フリーフォーム 30"/>
          <p:cNvSpPr/>
          <p:nvPr/>
        </p:nvSpPr>
        <p:spPr>
          <a:xfrm rot="7200000">
            <a:off x="-297000" y="3457440"/>
            <a:ext cx="4060800" cy="2816280"/>
          </a:xfrm>
          <a:custGeom>
            <a:avLst/>
            <a:gdLst/>
            <a:ahLst/>
            <a:rect l="l" t="t" r="r" b="b"/>
            <a:pathLst>
              <a:path w="5243308" h="3355942">
                <a:moveTo>
                  <a:pt x="2264438" y="999241"/>
                </a:moveTo>
                <a:cubicBezTo>
                  <a:pt x="2028768" y="961534"/>
                  <a:pt x="1254198" y="760428"/>
                  <a:pt x="888124" y="678729"/>
                </a:cubicBezTo>
                <a:cubicBezTo>
                  <a:pt x="522050" y="597030"/>
                  <a:pt x="153514" y="510723"/>
                  <a:pt x="67992" y="509047"/>
                </a:cubicBezTo>
                <a:cubicBezTo>
                  <a:pt x="-17530" y="507371"/>
                  <a:pt x="-17006" y="543402"/>
                  <a:pt x="39712" y="546754"/>
                </a:cubicBezTo>
                <a:cubicBezTo>
                  <a:pt x="96430" y="550106"/>
                  <a:pt x="1048380" y="772997"/>
                  <a:pt x="1048380" y="772997"/>
                </a:cubicBezTo>
                <a:cubicBezTo>
                  <a:pt x="1412883" y="854696"/>
                  <a:pt x="2000487" y="952107"/>
                  <a:pt x="2226730" y="1036948"/>
                </a:cubicBezTo>
                <a:cubicBezTo>
                  <a:pt x="2452973" y="1121789"/>
                  <a:pt x="2455907" y="1195999"/>
                  <a:pt x="2405840" y="1282045"/>
                </a:cubicBezTo>
                <a:cubicBezTo>
                  <a:pt x="2355773" y="1368091"/>
                  <a:pt x="2228302" y="1486293"/>
                  <a:pt x="2170170" y="1583703"/>
                </a:cubicBezTo>
                <a:cubicBezTo>
                  <a:pt x="2112038" y="1681113"/>
                  <a:pt x="2096326" y="1721963"/>
                  <a:pt x="2057048" y="1866507"/>
                </a:cubicBezTo>
                <a:cubicBezTo>
                  <a:pt x="2017770" y="2011051"/>
                  <a:pt x="1891451" y="2381839"/>
                  <a:pt x="1934500" y="2450969"/>
                </a:cubicBezTo>
                <a:cubicBezTo>
                  <a:pt x="2023269" y="2454059"/>
                  <a:pt x="2072759" y="2333133"/>
                  <a:pt x="2132462" y="2281286"/>
                </a:cubicBezTo>
                <a:cubicBezTo>
                  <a:pt x="2192165" y="2229439"/>
                  <a:pt x="2236157" y="2215298"/>
                  <a:pt x="2292718" y="2139884"/>
                </a:cubicBezTo>
                <a:cubicBezTo>
                  <a:pt x="2349279" y="2064470"/>
                  <a:pt x="2424798" y="1853991"/>
                  <a:pt x="2471827" y="1828800"/>
                </a:cubicBezTo>
                <a:cubicBezTo>
                  <a:pt x="2498536" y="1869649"/>
                  <a:pt x="2416838" y="2231010"/>
                  <a:pt x="2452974" y="2384981"/>
                </a:cubicBezTo>
                <a:cubicBezTo>
                  <a:pt x="2489110" y="2538952"/>
                  <a:pt x="2619514" y="2590799"/>
                  <a:pt x="2688644" y="2752626"/>
                </a:cubicBezTo>
                <a:cubicBezTo>
                  <a:pt x="2757774" y="2914453"/>
                  <a:pt x="2826000" y="3301934"/>
                  <a:pt x="2867753" y="3355942"/>
                </a:cubicBezTo>
                <a:cubicBezTo>
                  <a:pt x="2920936" y="3316605"/>
                  <a:pt x="2930598" y="2879889"/>
                  <a:pt x="2962021" y="2733773"/>
                </a:cubicBezTo>
                <a:cubicBezTo>
                  <a:pt x="2993444" y="2587658"/>
                  <a:pt x="3061002" y="2604940"/>
                  <a:pt x="3056289" y="2479249"/>
                </a:cubicBezTo>
                <a:cubicBezTo>
                  <a:pt x="3051576" y="2353558"/>
                  <a:pt x="2900747" y="1984341"/>
                  <a:pt x="2933741" y="1979628"/>
                </a:cubicBezTo>
                <a:cubicBezTo>
                  <a:pt x="2987055" y="2025715"/>
                  <a:pt x="3104994" y="2317423"/>
                  <a:pt x="3254252" y="2450969"/>
                </a:cubicBezTo>
                <a:cubicBezTo>
                  <a:pt x="3403510" y="2584515"/>
                  <a:pt x="3691027" y="2670928"/>
                  <a:pt x="3829287" y="2780907"/>
                </a:cubicBezTo>
                <a:cubicBezTo>
                  <a:pt x="3967547" y="2890886"/>
                  <a:pt x="4035675" y="3031738"/>
                  <a:pt x="4083811" y="3110845"/>
                </a:cubicBezTo>
                <a:cubicBezTo>
                  <a:pt x="4116707" y="3048982"/>
                  <a:pt x="4112091" y="2883030"/>
                  <a:pt x="4083811" y="2752626"/>
                </a:cubicBezTo>
                <a:cubicBezTo>
                  <a:pt x="4055531" y="2622222"/>
                  <a:pt x="3987971" y="2461966"/>
                  <a:pt x="3914128" y="2328420"/>
                </a:cubicBezTo>
                <a:cubicBezTo>
                  <a:pt x="3840285" y="2194874"/>
                  <a:pt x="3725592" y="2061327"/>
                  <a:pt x="3640751" y="1951348"/>
                </a:cubicBezTo>
                <a:cubicBezTo>
                  <a:pt x="3555910" y="1841369"/>
                  <a:pt x="3388898" y="1705976"/>
                  <a:pt x="3405081" y="1668544"/>
                </a:cubicBezTo>
                <a:cubicBezTo>
                  <a:pt x="3436504" y="1665402"/>
                  <a:pt x="3621897" y="1904214"/>
                  <a:pt x="3829287" y="1932494"/>
                </a:cubicBezTo>
                <a:cubicBezTo>
                  <a:pt x="4036677" y="1960774"/>
                  <a:pt x="4413749" y="1850795"/>
                  <a:pt x="4649419" y="1838226"/>
                </a:cubicBezTo>
                <a:cubicBezTo>
                  <a:pt x="4885089" y="1825657"/>
                  <a:pt x="5135901" y="1868392"/>
                  <a:pt x="5243308" y="1857080"/>
                </a:cubicBezTo>
                <a:cubicBezTo>
                  <a:pt x="5204030" y="1784808"/>
                  <a:pt x="4616425" y="1520857"/>
                  <a:pt x="4413749" y="1404593"/>
                </a:cubicBezTo>
                <a:cubicBezTo>
                  <a:pt x="4211073" y="1288329"/>
                  <a:pt x="4182792" y="1220770"/>
                  <a:pt x="4027250" y="1159496"/>
                </a:cubicBezTo>
                <a:cubicBezTo>
                  <a:pt x="3871708" y="1098222"/>
                  <a:pt x="3546404" y="1066741"/>
                  <a:pt x="3480495" y="1036948"/>
                </a:cubicBezTo>
                <a:cubicBezTo>
                  <a:pt x="3507931" y="970960"/>
                  <a:pt x="3796294" y="936396"/>
                  <a:pt x="3951836" y="763571"/>
                </a:cubicBezTo>
                <a:cubicBezTo>
                  <a:pt x="4107378" y="590746"/>
                  <a:pt x="4398745" y="100513"/>
                  <a:pt x="4413749" y="0"/>
                </a:cubicBezTo>
                <a:cubicBezTo>
                  <a:pt x="4343028" y="17597"/>
                  <a:pt x="4066529" y="256095"/>
                  <a:pt x="3904702" y="320511"/>
                </a:cubicBezTo>
                <a:cubicBezTo>
                  <a:pt x="3742875" y="384927"/>
                  <a:pt x="3593617" y="312655"/>
                  <a:pt x="3442788" y="386498"/>
                </a:cubicBezTo>
                <a:cubicBezTo>
                  <a:pt x="3291959" y="460341"/>
                  <a:pt x="3067287" y="707854"/>
                  <a:pt x="2999728" y="763571"/>
                </a:cubicBezTo>
                <a:cubicBezTo>
                  <a:pt x="2962649" y="689747"/>
                  <a:pt x="3032723" y="598602"/>
                  <a:pt x="3037436" y="480767"/>
                </a:cubicBezTo>
                <a:cubicBezTo>
                  <a:pt x="3042149" y="362932"/>
                  <a:pt x="3062849" y="134331"/>
                  <a:pt x="3028009" y="56560"/>
                </a:cubicBezTo>
                <a:cubicBezTo>
                  <a:pt x="2949354" y="89279"/>
                  <a:pt x="2704355" y="334651"/>
                  <a:pt x="2622656" y="471340"/>
                </a:cubicBezTo>
                <a:cubicBezTo>
                  <a:pt x="2540957" y="608029"/>
                  <a:pt x="2558043" y="803124"/>
                  <a:pt x="2537815" y="876692"/>
                </a:cubicBezTo>
                <a:cubicBezTo>
                  <a:pt x="2494727" y="843580"/>
                  <a:pt x="2452974" y="741575"/>
                  <a:pt x="2386986" y="707010"/>
                </a:cubicBezTo>
                <a:cubicBezTo>
                  <a:pt x="2320998" y="672445"/>
                  <a:pt x="2199844" y="659169"/>
                  <a:pt x="2141889" y="669303"/>
                </a:cubicBezTo>
                <a:cubicBezTo>
                  <a:pt x="2158229" y="709917"/>
                  <a:pt x="2278578" y="854697"/>
                  <a:pt x="2302145" y="904973"/>
                </a:cubicBezTo>
                <a:cubicBezTo>
                  <a:pt x="2325712" y="955249"/>
                  <a:pt x="2500108" y="1036948"/>
                  <a:pt x="2264438" y="99924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1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フリーフォーム 31"/>
          <p:cNvSpPr/>
          <p:nvPr/>
        </p:nvSpPr>
        <p:spPr>
          <a:xfrm rot="17100000">
            <a:off x="3174840" y="1791720"/>
            <a:ext cx="2428920" cy="276840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72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フリーフォーム 32"/>
          <p:cNvSpPr/>
          <p:nvPr/>
        </p:nvSpPr>
        <p:spPr>
          <a:xfrm rot="16200000">
            <a:off x="2516040" y="2071800"/>
            <a:ext cx="782640" cy="78264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81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フリーフォーム 33"/>
          <p:cNvSpPr/>
          <p:nvPr/>
        </p:nvSpPr>
        <p:spPr>
          <a:xfrm rot="16200000">
            <a:off x="5740200" y="2857320"/>
            <a:ext cx="968400" cy="149868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81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フリーフォーム 34"/>
          <p:cNvSpPr/>
          <p:nvPr/>
        </p:nvSpPr>
        <p:spPr>
          <a:xfrm rot="16200000">
            <a:off x="2973240" y="5351400"/>
            <a:ext cx="1019520" cy="144792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81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フリーフォーム 35"/>
          <p:cNvSpPr/>
          <p:nvPr/>
        </p:nvSpPr>
        <p:spPr>
          <a:xfrm rot="16200000">
            <a:off x="3293280" y="4654800"/>
            <a:ext cx="1879560" cy="1303560"/>
          </a:xfrm>
          <a:custGeom>
            <a:avLst/>
            <a:gdLst/>
            <a:ahLst/>
            <a:rect l="l" t="t" r="r" b="b"/>
            <a:pathLst>
              <a:path w="5243308" h="3355942">
                <a:moveTo>
                  <a:pt x="2264438" y="999241"/>
                </a:moveTo>
                <a:cubicBezTo>
                  <a:pt x="2028768" y="961534"/>
                  <a:pt x="1254198" y="760428"/>
                  <a:pt x="888124" y="678729"/>
                </a:cubicBezTo>
                <a:cubicBezTo>
                  <a:pt x="522050" y="597030"/>
                  <a:pt x="153514" y="510723"/>
                  <a:pt x="67992" y="509047"/>
                </a:cubicBezTo>
                <a:cubicBezTo>
                  <a:pt x="-17530" y="507371"/>
                  <a:pt x="-17006" y="543402"/>
                  <a:pt x="39712" y="546754"/>
                </a:cubicBezTo>
                <a:cubicBezTo>
                  <a:pt x="96430" y="550106"/>
                  <a:pt x="1048380" y="772997"/>
                  <a:pt x="1048380" y="772997"/>
                </a:cubicBezTo>
                <a:cubicBezTo>
                  <a:pt x="1412883" y="854696"/>
                  <a:pt x="2000487" y="952107"/>
                  <a:pt x="2226730" y="1036948"/>
                </a:cubicBezTo>
                <a:cubicBezTo>
                  <a:pt x="2452973" y="1121789"/>
                  <a:pt x="2455907" y="1195999"/>
                  <a:pt x="2405840" y="1282045"/>
                </a:cubicBezTo>
                <a:cubicBezTo>
                  <a:pt x="2355773" y="1368091"/>
                  <a:pt x="2228302" y="1486293"/>
                  <a:pt x="2170170" y="1583703"/>
                </a:cubicBezTo>
                <a:cubicBezTo>
                  <a:pt x="2112038" y="1681113"/>
                  <a:pt x="2096326" y="1721963"/>
                  <a:pt x="2057048" y="1866507"/>
                </a:cubicBezTo>
                <a:cubicBezTo>
                  <a:pt x="2017770" y="2011051"/>
                  <a:pt x="1891451" y="2381839"/>
                  <a:pt x="1934500" y="2450969"/>
                </a:cubicBezTo>
                <a:cubicBezTo>
                  <a:pt x="2023269" y="2454059"/>
                  <a:pt x="2072759" y="2333133"/>
                  <a:pt x="2132462" y="2281286"/>
                </a:cubicBezTo>
                <a:cubicBezTo>
                  <a:pt x="2192165" y="2229439"/>
                  <a:pt x="2236157" y="2215298"/>
                  <a:pt x="2292718" y="2139884"/>
                </a:cubicBezTo>
                <a:cubicBezTo>
                  <a:pt x="2349279" y="2064470"/>
                  <a:pt x="2424798" y="1853991"/>
                  <a:pt x="2471827" y="1828800"/>
                </a:cubicBezTo>
                <a:cubicBezTo>
                  <a:pt x="2498536" y="1869649"/>
                  <a:pt x="2416838" y="2231010"/>
                  <a:pt x="2452974" y="2384981"/>
                </a:cubicBezTo>
                <a:cubicBezTo>
                  <a:pt x="2489110" y="2538952"/>
                  <a:pt x="2619514" y="2590799"/>
                  <a:pt x="2688644" y="2752626"/>
                </a:cubicBezTo>
                <a:cubicBezTo>
                  <a:pt x="2757774" y="2914453"/>
                  <a:pt x="2826000" y="3301934"/>
                  <a:pt x="2867753" y="3355942"/>
                </a:cubicBezTo>
                <a:cubicBezTo>
                  <a:pt x="2920936" y="3316605"/>
                  <a:pt x="2930598" y="2879889"/>
                  <a:pt x="2962021" y="2733773"/>
                </a:cubicBezTo>
                <a:cubicBezTo>
                  <a:pt x="2993444" y="2587658"/>
                  <a:pt x="3061002" y="2604940"/>
                  <a:pt x="3056289" y="2479249"/>
                </a:cubicBezTo>
                <a:cubicBezTo>
                  <a:pt x="3051576" y="2353558"/>
                  <a:pt x="2900747" y="1984341"/>
                  <a:pt x="2933741" y="1979628"/>
                </a:cubicBezTo>
                <a:cubicBezTo>
                  <a:pt x="2987055" y="2025715"/>
                  <a:pt x="3104994" y="2317423"/>
                  <a:pt x="3254252" y="2450969"/>
                </a:cubicBezTo>
                <a:cubicBezTo>
                  <a:pt x="3403510" y="2584515"/>
                  <a:pt x="3691027" y="2670928"/>
                  <a:pt x="3829287" y="2780907"/>
                </a:cubicBezTo>
                <a:cubicBezTo>
                  <a:pt x="3967547" y="2890886"/>
                  <a:pt x="4035675" y="3031738"/>
                  <a:pt x="4083811" y="3110845"/>
                </a:cubicBezTo>
                <a:cubicBezTo>
                  <a:pt x="4116707" y="3048982"/>
                  <a:pt x="4112091" y="2883030"/>
                  <a:pt x="4083811" y="2752626"/>
                </a:cubicBezTo>
                <a:cubicBezTo>
                  <a:pt x="4055531" y="2622222"/>
                  <a:pt x="3987971" y="2461966"/>
                  <a:pt x="3914128" y="2328420"/>
                </a:cubicBezTo>
                <a:cubicBezTo>
                  <a:pt x="3840285" y="2194874"/>
                  <a:pt x="3725592" y="2061327"/>
                  <a:pt x="3640751" y="1951348"/>
                </a:cubicBezTo>
                <a:cubicBezTo>
                  <a:pt x="3555910" y="1841369"/>
                  <a:pt x="3388898" y="1705976"/>
                  <a:pt x="3405081" y="1668544"/>
                </a:cubicBezTo>
                <a:cubicBezTo>
                  <a:pt x="3436504" y="1665402"/>
                  <a:pt x="3621897" y="1904214"/>
                  <a:pt x="3829287" y="1932494"/>
                </a:cubicBezTo>
                <a:cubicBezTo>
                  <a:pt x="4036677" y="1960774"/>
                  <a:pt x="4413749" y="1850795"/>
                  <a:pt x="4649419" y="1838226"/>
                </a:cubicBezTo>
                <a:cubicBezTo>
                  <a:pt x="4885089" y="1825657"/>
                  <a:pt x="5135901" y="1868392"/>
                  <a:pt x="5243308" y="1857080"/>
                </a:cubicBezTo>
                <a:cubicBezTo>
                  <a:pt x="5204030" y="1784808"/>
                  <a:pt x="4616425" y="1520857"/>
                  <a:pt x="4413749" y="1404593"/>
                </a:cubicBezTo>
                <a:cubicBezTo>
                  <a:pt x="4211073" y="1288329"/>
                  <a:pt x="4182792" y="1220770"/>
                  <a:pt x="4027250" y="1159496"/>
                </a:cubicBezTo>
                <a:cubicBezTo>
                  <a:pt x="3871708" y="1098222"/>
                  <a:pt x="3546404" y="1066741"/>
                  <a:pt x="3480495" y="1036948"/>
                </a:cubicBezTo>
                <a:cubicBezTo>
                  <a:pt x="3507931" y="970960"/>
                  <a:pt x="3796294" y="936396"/>
                  <a:pt x="3951836" y="763571"/>
                </a:cubicBezTo>
                <a:cubicBezTo>
                  <a:pt x="4107378" y="590746"/>
                  <a:pt x="4398745" y="100513"/>
                  <a:pt x="4413749" y="0"/>
                </a:cubicBezTo>
                <a:cubicBezTo>
                  <a:pt x="4343028" y="17597"/>
                  <a:pt x="4066529" y="256095"/>
                  <a:pt x="3904702" y="320511"/>
                </a:cubicBezTo>
                <a:cubicBezTo>
                  <a:pt x="3742875" y="384927"/>
                  <a:pt x="3593617" y="312655"/>
                  <a:pt x="3442788" y="386498"/>
                </a:cubicBezTo>
                <a:cubicBezTo>
                  <a:pt x="3291959" y="460341"/>
                  <a:pt x="3067287" y="707854"/>
                  <a:pt x="2999728" y="763571"/>
                </a:cubicBezTo>
                <a:cubicBezTo>
                  <a:pt x="2962649" y="689747"/>
                  <a:pt x="3032723" y="598602"/>
                  <a:pt x="3037436" y="480767"/>
                </a:cubicBezTo>
                <a:cubicBezTo>
                  <a:pt x="3042149" y="362932"/>
                  <a:pt x="3062849" y="134331"/>
                  <a:pt x="3028009" y="56560"/>
                </a:cubicBezTo>
                <a:cubicBezTo>
                  <a:pt x="2949354" y="89279"/>
                  <a:pt x="2704355" y="334651"/>
                  <a:pt x="2622656" y="471340"/>
                </a:cubicBezTo>
                <a:cubicBezTo>
                  <a:pt x="2540957" y="608029"/>
                  <a:pt x="2558043" y="803124"/>
                  <a:pt x="2537815" y="876692"/>
                </a:cubicBezTo>
                <a:cubicBezTo>
                  <a:pt x="2494727" y="843580"/>
                  <a:pt x="2452974" y="741575"/>
                  <a:pt x="2386986" y="707010"/>
                </a:cubicBezTo>
                <a:cubicBezTo>
                  <a:pt x="2320998" y="672445"/>
                  <a:pt x="2199844" y="659169"/>
                  <a:pt x="2141889" y="669303"/>
                </a:cubicBezTo>
                <a:cubicBezTo>
                  <a:pt x="2158229" y="709917"/>
                  <a:pt x="2278578" y="854697"/>
                  <a:pt x="2302145" y="904973"/>
                </a:cubicBezTo>
                <a:cubicBezTo>
                  <a:pt x="2325712" y="955249"/>
                  <a:pt x="2500108" y="1036948"/>
                  <a:pt x="2264438" y="99924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81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フリーフォーム 36"/>
          <p:cNvSpPr/>
          <p:nvPr/>
        </p:nvSpPr>
        <p:spPr>
          <a:xfrm rot="16200000">
            <a:off x="2506320" y="3519000"/>
            <a:ext cx="1124280" cy="127944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81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フリーフォーム 37"/>
          <p:cNvSpPr/>
          <p:nvPr/>
        </p:nvSpPr>
        <p:spPr>
          <a:xfrm rot="1800000">
            <a:off x="5923080" y="3800160"/>
            <a:ext cx="1885680" cy="183024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9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フリーフォーム 38"/>
          <p:cNvSpPr/>
          <p:nvPr/>
        </p:nvSpPr>
        <p:spPr>
          <a:xfrm flipH="1" rot="18000000">
            <a:off x="6509880" y="4824360"/>
            <a:ext cx="1423800" cy="209376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0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フリーフォーム 39"/>
          <p:cNvSpPr/>
          <p:nvPr/>
        </p:nvSpPr>
        <p:spPr>
          <a:xfrm flipH="1" rot="18000000">
            <a:off x="5336640" y="1786680"/>
            <a:ext cx="1501920" cy="202068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0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フリーフォーム 40"/>
          <p:cNvSpPr/>
          <p:nvPr/>
        </p:nvSpPr>
        <p:spPr>
          <a:xfrm flipV="1" rot="3600000">
            <a:off x="6129360" y="257040"/>
            <a:ext cx="1690560" cy="178596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63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フリーフォーム 41"/>
          <p:cNvSpPr/>
          <p:nvPr/>
        </p:nvSpPr>
        <p:spPr>
          <a:xfrm flipV="1" rot="3600000">
            <a:off x="7067160" y="-257040"/>
            <a:ext cx="2092320" cy="341928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63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フリーフォーム 42"/>
          <p:cNvSpPr/>
          <p:nvPr/>
        </p:nvSpPr>
        <p:spPr>
          <a:xfrm flipV="1" rot="13500000">
            <a:off x="6228720" y="2390040"/>
            <a:ext cx="2390760" cy="304632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62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フリーフォーム 43"/>
          <p:cNvSpPr/>
          <p:nvPr/>
        </p:nvSpPr>
        <p:spPr>
          <a:xfrm flipV="1" rot="3600000">
            <a:off x="4449240" y="3747600"/>
            <a:ext cx="2430720" cy="291960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63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フリーフォーム 44"/>
          <p:cNvSpPr/>
          <p:nvPr/>
        </p:nvSpPr>
        <p:spPr>
          <a:xfrm flipV="1" rot="12600000">
            <a:off x="5118840" y="2643840"/>
            <a:ext cx="847800" cy="76356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53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フリーフォーム 45"/>
          <p:cNvSpPr/>
          <p:nvPr/>
        </p:nvSpPr>
        <p:spPr>
          <a:xfrm flipV="1" rot="20700000">
            <a:off x="358920" y="3181680"/>
            <a:ext cx="1049040" cy="146052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8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フリーフォーム 46"/>
          <p:cNvSpPr/>
          <p:nvPr/>
        </p:nvSpPr>
        <p:spPr>
          <a:xfrm flipV="1" rot="12600000">
            <a:off x="7489440" y="3736440"/>
            <a:ext cx="1106640" cy="140976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53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フリーフォーム 47"/>
          <p:cNvSpPr/>
          <p:nvPr/>
        </p:nvSpPr>
        <p:spPr>
          <a:xfrm flipV="1" rot="12600000">
            <a:off x="4841640" y="4505760"/>
            <a:ext cx="1216080" cy="124776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53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フリーフォーム 48"/>
          <p:cNvSpPr/>
          <p:nvPr/>
        </p:nvSpPr>
        <p:spPr>
          <a:xfrm flipH="1" rot="19800000">
            <a:off x="7584120" y="4458240"/>
            <a:ext cx="1989000" cy="183168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9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正方形/長方形 9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フリーフォーム 21"/>
          <p:cNvSpPr/>
          <p:nvPr/>
        </p:nvSpPr>
        <p:spPr>
          <a:xfrm>
            <a:off x="281160" y="282600"/>
            <a:ext cx="1180800" cy="100980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フリーフォーム 22"/>
          <p:cNvSpPr/>
          <p:nvPr/>
        </p:nvSpPr>
        <p:spPr>
          <a:xfrm>
            <a:off x="1608120" y="298440"/>
            <a:ext cx="1461960" cy="193212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フリーフォーム 23"/>
          <p:cNvSpPr/>
          <p:nvPr/>
        </p:nvSpPr>
        <p:spPr>
          <a:xfrm>
            <a:off x="3071880" y="677880"/>
            <a:ext cx="1542960" cy="186516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フリーフォーム 24"/>
          <p:cNvSpPr/>
          <p:nvPr/>
        </p:nvSpPr>
        <p:spPr>
          <a:xfrm>
            <a:off x="1003320" y="2806560"/>
            <a:ext cx="2838600" cy="1677960"/>
          </a:xfrm>
          <a:custGeom>
            <a:avLst/>
            <a:gdLst/>
            <a:ahLst/>
            <a:rect l="l" t="t" r="r" b="b"/>
            <a:pathLst>
              <a:path w="5243308" h="3355942">
                <a:moveTo>
                  <a:pt x="2264438" y="999241"/>
                </a:moveTo>
                <a:cubicBezTo>
                  <a:pt x="2028768" y="961534"/>
                  <a:pt x="1254198" y="760428"/>
                  <a:pt x="888124" y="678729"/>
                </a:cubicBezTo>
                <a:cubicBezTo>
                  <a:pt x="522050" y="597030"/>
                  <a:pt x="153514" y="510723"/>
                  <a:pt x="67992" y="509047"/>
                </a:cubicBezTo>
                <a:cubicBezTo>
                  <a:pt x="-17530" y="507371"/>
                  <a:pt x="-17006" y="543402"/>
                  <a:pt x="39712" y="546754"/>
                </a:cubicBezTo>
                <a:cubicBezTo>
                  <a:pt x="96430" y="550106"/>
                  <a:pt x="1048380" y="772997"/>
                  <a:pt x="1048380" y="772997"/>
                </a:cubicBezTo>
                <a:cubicBezTo>
                  <a:pt x="1412883" y="854696"/>
                  <a:pt x="2000487" y="952107"/>
                  <a:pt x="2226730" y="1036948"/>
                </a:cubicBezTo>
                <a:cubicBezTo>
                  <a:pt x="2452973" y="1121789"/>
                  <a:pt x="2455907" y="1195999"/>
                  <a:pt x="2405840" y="1282045"/>
                </a:cubicBezTo>
                <a:cubicBezTo>
                  <a:pt x="2355773" y="1368091"/>
                  <a:pt x="2228302" y="1486293"/>
                  <a:pt x="2170170" y="1583703"/>
                </a:cubicBezTo>
                <a:cubicBezTo>
                  <a:pt x="2112038" y="1681113"/>
                  <a:pt x="2096326" y="1721963"/>
                  <a:pt x="2057048" y="1866507"/>
                </a:cubicBezTo>
                <a:cubicBezTo>
                  <a:pt x="2017770" y="2011051"/>
                  <a:pt x="1891451" y="2381839"/>
                  <a:pt x="1934500" y="2450969"/>
                </a:cubicBezTo>
                <a:cubicBezTo>
                  <a:pt x="2023269" y="2454059"/>
                  <a:pt x="2072759" y="2333133"/>
                  <a:pt x="2132462" y="2281286"/>
                </a:cubicBezTo>
                <a:cubicBezTo>
                  <a:pt x="2192165" y="2229439"/>
                  <a:pt x="2236157" y="2215298"/>
                  <a:pt x="2292718" y="2139884"/>
                </a:cubicBezTo>
                <a:cubicBezTo>
                  <a:pt x="2349279" y="2064470"/>
                  <a:pt x="2424798" y="1853991"/>
                  <a:pt x="2471827" y="1828800"/>
                </a:cubicBezTo>
                <a:cubicBezTo>
                  <a:pt x="2498536" y="1869649"/>
                  <a:pt x="2416838" y="2231010"/>
                  <a:pt x="2452974" y="2384981"/>
                </a:cubicBezTo>
                <a:cubicBezTo>
                  <a:pt x="2489110" y="2538952"/>
                  <a:pt x="2619514" y="2590799"/>
                  <a:pt x="2688644" y="2752626"/>
                </a:cubicBezTo>
                <a:cubicBezTo>
                  <a:pt x="2757774" y="2914453"/>
                  <a:pt x="2826000" y="3301934"/>
                  <a:pt x="2867753" y="3355942"/>
                </a:cubicBezTo>
                <a:cubicBezTo>
                  <a:pt x="2920936" y="3316605"/>
                  <a:pt x="2930598" y="2879889"/>
                  <a:pt x="2962021" y="2733773"/>
                </a:cubicBezTo>
                <a:cubicBezTo>
                  <a:pt x="2993444" y="2587658"/>
                  <a:pt x="3061002" y="2604940"/>
                  <a:pt x="3056289" y="2479249"/>
                </a:cubicBezTo>
                <a:cubicBezTo>
                  <a:pt x="3051576" y="2353558"/>
                  <a:pt x="2900747" y="1984341"/>
                  <a:pt x="2933741" y="1979628"/>
                </a:cubicBezTo>
                <a:cubicBezTo>
                  <a:pt x="2987055" y="2025715"/>
                  <a:pt x="3104994" y="2317423"/>
                  <a:pt x="3254252" y="2450969"/>
                </a:cubicBezTo>
                <a:cubicBezTo>
                  <a:pt x="3403510" y="2584515"/>
                  <a:pt x="3691027" y="2670928"/>
                  <a:pt x="3829287" y="2780907"/>
                </a:cubicBezTo>
                <a:cubicBezTo>
                  <a:pt x="3967547" y="2890886"/>
                  <a:pt x="4035675" y="3031738"/>
                  <a:pt x="4083811" y="3110845"/>
                </a:cubicBezTo>
                <a:cubicBezTo>
                  <a:pt x="4116707" y="3048982"/>
                  <a:pt x="4112091" y="2883030"/>
                  <a:pt x="4083811" y="2752626"/>
                </a:cubicBezTo>
                <a:cubicBezTo>
                  <a:pt x="4055531" y="2622222"/>
                  <a:pt x="3987971" y="2461966"/>
                  <a:pt x="3914128" y="2328420"/>
                </a:cubicBezTo>
                <a:cubicBezTo>
                  <a:pt x="3840285" y="2194874"/>
                  <a:pt x="3725592" y="2061327"/>
                  <a:pt x="3640751" y="1951348"/>
                </a:cubicBezTo>
                <a:cubicBezTo>
                  <a:pt x="3555910" y="1841369"/>
                  <a:pt x="3388898" y="1705976"/>
                  <a:pt x="3405081" y="1668544"/>
                </a:cubicBezTo>
                <a:cubicBezTo>
                  <a:pt x="3436504" y="1665402"/>
                  <a:pt x="3621897" y="1904214"/>
                  <a:pt x="3829287" y="1932494"/>
                </a:cubicBezTo>
                <a:cubicBezTo>
                  <a:pt x="4036677" y="1960774"/>
                  <a:pt x="4413749" y="1850795"/>
                  <a:pt x="4649419" y="1838226"/>
                </a:cubicBezTo>
                <a:cubicBezTo>
                  <a:pt x="4885089" y="1825657"/>
                  <a:pt x="5135901" y="1868392"/>
                  <a:pt x="5243308" y="1857080"/>
                </a:cubicBezTo>
                <a:cubicBezTo>
                  <a:pt x="5204030" y="1784808"/>
                  <a:pt x="4616425" y="1520857"/>
                  <a:pt x="4413749" y="1404593"/>
                </a:cubicBezTo>
                <a:cubicBezTo>
                  <a:pt x="4211073" y="1288329"/>
                  <a:pt x="4182792" y="1220770"/>
                  <a:pt x="4027250" y="1159496"/>
                </a:cubicBezTo>
                <a:cubicBezTo>
                  <a:pt x="3871708" y="1098222"/>
                  <a:pt x="3546404" y="1066741"/>
                  <a:pt x="3480495" y="1036948"/>
                </a:cubicBezTo>
                <a:cubicBezTo>
                  <a:pt x="3507931" y="970960"/>
                  <a:pt x="3796294" y="936396"/>
                  <a:pt x="3951836" y="763571"/>
                </a:cubicBezTo>
                <a:cubicBezTo>
                  <a:pt x="4107378" y="590746"/>
                  <a:pt x="4398745" y="100513"/>
                  <a:pt x="4413749" y="0"/>
                </a:cubicBezTo>
                <a:cubicBezTo>
                  <a:pt x="4343028" y="17597"/>
                  <a:pt x="4066529" y="256095"/>
                  <a:pt x="3904702" y="320511"/>
                </a:cubicBezTo>
                <a:cubicBezTo>
                  <a:pt x="3742875" y="384927"/>
                  <a:pt x="3593617" y="312655"/>
                  <a:pt x="3442788" y="386498"/>
                </a:cubicBezTo>
                <a:cubicBezTo>
                  <a:pt x="3291959" y="460341"/>
                  <a:pt x="3067287" y="707854"/>
                  <a:pt x="2999728" y="763571"/>
                </a:cubicBezTo>
                <a:cubicBezTo>
                  <a:pt x="2962649" y="689747"/>
                  <a:pt x="3032723" y="598602"/>
                  <a:pt x="3037436" y="480767"/>
                </a:cubicBezTo>
                <a:cubicBezTo>
                  <a:pt x="3042149" y="362932"/>
                  <a:pt x="3062849" y="134331"/>
                  <a:pt x="3028009" y="56560"/>
                </a:cubicBezTo>
                <a:cubicBezTo>
                  <a:pt x="2949354" y="89279"/>
                  <a:pt x="2704355" y="334651"/>
                  <a:pt x="2622656" y="471340"/>
                </a:cubicBezTo>
                <a:cubicBezTo>
                  <a:pt x="2540957" y="608029"/>
                  <a:pt x="2558043" y="803124"/>
                  <a:pt x="2537815" y="876692"/>
                </a:cubicBezTo>
                <a:cubicBezTo>
                  <a:pt x="2494727" y="843580"/>
                  <a:pt x="2452974" y="741575"/>
                  <a:pt x="2386986" y="707010"/>
                </a:cubicBezTo>
                <a:cubicBezTo>
                  <a:pt x="2320998" y="672445"/>
                  <a:pt x="2199844" y="659169"/>
                  <a:pt x="2141889" y="669303"/>
                </a:cubicBezTo>
                <a:cubicBezTo>
                  <a:pt x="2158229" y="709917"/>
                  <a:pt x="2278578" y="854697"/>
                  <a:pt x="2302145" y="904973"/>
                </a:cubicBezTo>
                <a:cubicBezTo>
                  <a:pt x="2325712" y="955249"/>
                  <a:pt x="2500108" y="1036948"/>
                  <a:pt x="2264438" y="9992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フリーフォーム 25"/>
          <p:cNvSpPr/>
          <p:nvPr/>
        </p:nvSpPr>
        <p:spPr>
          <a:xfrm>
            <a:off x="281160" y="1592280"/>
            <a:ext cx="1698480" cy="164952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フリーフォーム 27"/>
          <p:cNvSpPr/>
          <p:nvPr/>
        </p:nvSpPr>
        <p:spPr>
          <a:xfrm rot="7200000">
            <a:off x="3997440" y="41400"/>
            <a:ext cx="1689120" cy="169380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フリーフォーム 28"/>
          <p:cNvSpPr/>
          <p:nvPr/>
        </p:nvSpPr>
        <p:spPr>
          <a:xfrm rot="7200000">
            <a:off x="5461560" y="268920"/>
            <a:ext cx="2092320" cy="324000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フリーフォーム 29"/>
          <p:cNvSpPr/>
          <p:nvPr/>
        </p:nvSpPr>
        <p:spPr>
          <a:xfrm rot="7200000">
            <a:off x="6879600" y="677880"/>
            <a:ext cx="2206800" cy="313020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フリーフォーム 30"/>
          <p:cNvSpPr/>
          <p:nvPr/>
        </p:nvSpPr>
        <p:spPr>
          <a:xfrm rot="7200000">
            <a:off x="-297000" y="3457440"/>
            <a:ext cx="4060800" cy="2816280"/>
          </a:xfrm>
          <a:custGeom>
            <a:avLst/>
            <a:gdLst/>
            <a:ahLst/>
            <a:rect l="l" t="t" r="r" b="b"/>
            <a:pathLst>
              <a:path w="5243308" h="3355942">
                <a:moveTo>
                  <a:pt x="2264438" y="999241"/>
                </a:moveTo>
                <a:cubicBezTo>
                  <a:pt x="2028768" y="961534"/>
                  <a:pt x="1254198" y="760428"/>
                  <a:pt x="888124" y="678729"/>
                </a:cubicBezTo>
                <a:cubicBezTo>
                  <a:pt x="522050" y="597030"/>
                  <a:pt x="153514" y="510723"/>
                  <a:pt x="67992" y="509047"/>
                </a:cubicBezTo>
                <a:cubicBezTo>
                  <a:pt x="-17530" y="507371"/>
                  <a:pt x="-17006" y="543402"/>
                  <a:pt x="39712" y="546754"/>
                </a:cubicBezTo>
                <a:cubicBezTo>
                  <a:pt x="96430" y="550106"/>
                  <a:pt x="1048380" y="772997"/>
                  <a:pt x="1048380" y="772997"/>
                </a:cubicBezTo>
                <a:cubicBezTo>
                  <a:pt x="1412883" y="854696"/>
                  <a:pt x="2000487" y="952107"/>
                  <a:pt x="2226730" y="1036948"/>
                </a:cubicBezTo>
                <a:cubicBezTo>
                  <a:pt x="2452973" y="1121789"/>
                  <a:pt x="2455907" y="1195999"/>
                  <a:pt x="2405840" y="1282045"/>
                </a:cubicBezTo>
                <a:cubicBezTo>
                  <a:pt x="2355773" y="1368091"/>
                  <a:pt x="2228302" y="1486293"/>
                  <a:pt x="2170170" y="1583703"/>
                </a:cubicBezTo>
                <a:cubicBezTo>
                  <a:pt x="2112038" y="1681113"/>
                  <a:pt x="2096326" y="1721963"/>
                  <a:pt x="2057048" y="1866507"/>
                </a:cubicBezTo>
                <a:cubicBezTo>
                  <a:pt x="2017770" y="2011051"/>
                  <a:pt x="1891451" y="2381839"/>
                  <a:pt x="1934500" y="2450969"/>
                </a:cubicBezTo>
                <a:cubicBezTo>
                  <a:pt x="2023269" y="2454059"/>
                  <a:pt x="2072759" y="2333133"/>
                  <a:pt x="2132462" y="2281286"/>
                </a:cubicBezTo>
                <a:cubicBezTo>
                  <a:pt x="2192165" y="2229439"/>
                  <a:pt x="2236157" y="2215298"/>
                  <a:pt x="2292718" y="2139884"/>
                </a:cubicBezTo>
                <a:cubicBezTo>
                  <a:pt x="2349279" y="2064470"/>
                  <a:pt x="2424798" y="1853991"/>
                  <a:pt x="2471827" y="1828800"/>
                </a:cubicBezTo>
                <a:cubicBezTo>
                  <a:pt x="2498536" y="1869649"/>
                  <a:pt x="2416838" y="2231010"/>
                  <a:pt x="2452974" y="2384981"/>
                </a:cubicBezTo>
                <a:cubicBezTo>
                  <a:pt x="2489110" y="2538952"/>
                  <a:pt x="2619514" y="2590799"/>
                  <a:pt x="2688644" y="2752626"/>
                </a:cubicBezTo>
                <a:cubicBezTo>
                  <a:pt x="2757774" y="2914453"/>
                  <a:pt x="2826000" y="3301934"/>
                  <a:pt x="2867753" y="3355942"/>
                </a:cubicBezTo>
                <a:cubicBezTo>
                  <a:pt x="2920936" y="3316605"/>
                  <a:pt x="2930598" y="2879889"/>
                  <a:pt x="2962021" y="2733773"/>
                </a:cubicBezTo>
                <a:cubicBezTo>
                  <a:pt x="2993444" y="2587658"/>
                  <a:pt x="3061002" y="2604940"/>
                  <a:pt x="3056289" y="2479249"/>
                </a:cubicBezTo>
                <a:cubicBezTo>
                  <a:pt x="3051576" y="2353558"/>
                  <a:pt x="2900747" y="1984341"/>
                  <a:pt x="2933741" y="1979628"/>
                </a:cubicBezTo>
                <a:cubicBezTo>
                  <a:pt x="2987055" y="2025715"/>
                  <a:pt x="3104994" y="2317423"/>
                  <a:pt x="3254252" y="2450969"/>
                </a:cubicBezTo>
                <a:cubicBezTo>
                  <a:pt x="3403510" y="2584515"/>
                  <a:pt x="3691027" y="2670928"/>
                  <a:pt x="3829287" y="2780907"/>
                </a:cubicBezTo>
                <a:cubicBezTo>
                  <a:pt x="3967547" y="2890886"/>
                  <a:pt x="4035675" y="3031738"/>
                  <a:pt x="4083811" y="3110845"/>
                </a:cubicBezTo>
                <a:cubicBezTo>
                  <a:pt x="4116707" y="3048982"/>
                  <a:pt x="4112091" y="2883030"/>
                  <a:pt x="4083811" y="2752626"/>
                </a:cubicBezTo>
                <a:cubicBezTo>
                  <a:pt x="4055531" y="2622222"/>
                  <a:pt x="3987971" y="2461966"/>
                  <a:pt x="3914128" y="2328420"/>
                </a:cubicBezTo>
                <a:cubicBezTo>
                  <a:pt x="3840285" y="2194874"/>
                  <a:pt x="3725592" y="2061327"/>
                  <a:pt x="3640751" y="1951348"/>
                </a:cubicBezTo>
                <a:cubicBezTo>
                  <a:pt x="3555910" y="1841369"/>
                  <a:pt x="3388898" y="1705976"/>
                  <a:pt x="3405081" y="1668544"/>
                </a:cubicBezTo>
                <a:cubicBezTo>
                  <a:pt x="3436504" y="1665402"/>
                  <a:pt x="3621897" y="1904214"/>
                  <a:pt x="3829287" y="1932494"/>
                </a:cubicBezTo>
                <a:cubicBezTo>
                  <a:pt x="4036677" y="1960774"/>
                  <a:pt x="4413749" y="1850795"/>
                  <a:pt x="4649419" y="1838226"/>
                </a:cubicBezTo>
                <a:cubicBezTo>
                  <a:pt x="4885089" y="1825657"/>
                  <a:pt x="5135901" y="1868392"/>
                  <a:pt x="5243308" y="1857080"/>
                </a:cubicBezTo>
                <a:cubicBezTo>
                  <a:pt x="5204030" y="1784808"/>
                  <a:pt x="4616425" y="1520857"/>
                  <a:pt x="4413749" y="1404593"/>
                </a:cubicBezTo>
                <a:cubicBezTo>
                  <a:pt x="4211073" y="1288329"/>
                  <a:pt x="4182792" y="1220770"/>
                  <a:pt x="4027250" y="1159496"/>
                </a:cubicBezTo>
                <a:cubicBezTo>
                  <a:pt x="3871708" y="1098222"/>
                  <a:pt x="3546404" y="1066741"/>
                  <a:pt x="3480495" y="1036948"/>
                </a:cubicBezTo>
                <a:cubicBezTo>
                  <a:pt x="3507931" y="970960"/>
                  <a:pt x="3796294" y="936396"/>
                  <a:pt x="3951836" y="763571"/>
                </a:cubicBezTo>
                <a:cubicBezTo>
                  <a:pt x="4107378" y="590746"/>
                  <a:pt x="4398745" y="100513"/>
                  <a:pt x="4413749" y="0"/>
                </a:cubicBezTo>
                <a:cubicBezTo>
                  <a:pt x="4343028" y="17597"/>
                  <a:pt x="4066529" y="256095"/>
                  <a:pt x="3904702" y="320511"/>
                </a:cubicBezTo>
                <a:cubicBezTo>
                  <a:pt x="3742875" y="384927"/>
                  <a:pt x="3593617" y="312655"/>
                  <a:pt x="3442788" y="386498"/>
                </a:cubicBezTo>
                <a:cubicBezTo>
                  <a:pt x="3291959" y="460341"/>
                  <a:pt x="3067287" y="707854"/>
                  <a:pt x="2999728" y="763571"/>
                </a:cubicBezTo>
                <a:cubicBezTo>
                  <a:pt x="2962649" y="689747"/>
                  <a:pt x="3032723" y="598602"/>
                  <a:pt x="3037436" y="480767"/>
                </a:cubicBezTo>
                <a:cubicBezTo>
                  <a:pt x="3042149" y="362932"/>
                  <a:pt x="3062849" y="134331"/>
                  <a:pt x="3028009" y="56560"/>
                </a:cubicBezTo>
                <a:cubicBezTo>
                  <a:pt x="2949354" y="89279"/>
                  <a:pt x="2704355" y="334651"/>
                  <a:pt x="2622656" y="471340"/>
                </a:cubicBezTo>
                <a:cubicBezTo>
                  <a:pt x="2540957" y="608029"/>
                  <a:pt x="2558043" y="803124"/>
                  <a:pt x="2537815" y="876692"/>
                </a:cubicBezTo>
                <a:cubicBezTo>
                  <a:pt x="2494727" y="843580"/>
                  <a:pt x="2452974" y="741575"/>
                  <a:pt x="2386986" y="707010"/>
                </a:cubicBezTo>
                <a:cubicBezTo>
                  <a:pt x="2320998" y="672445"/>
                  <a:pt x="2199844" y="659169"/>
                  <a:pt x="2141889" y="669303"/>
                </a:cubicBezTo>
                <a:cubicBezTo>
                  <a:pt x="2158229" y="709917"/>
                  <a:pt x="2278578" y="854697"/>
                  <a:pt x="2302145" y="904973"/>
                </a:cubicBezTo>
                <a:cubicBezTo>
                  <a:pt x="2325712" y="955249"/>
                  <a:pt x="2500108" y="1036948"/>
                  <a:pt x="2264438" y="9992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フリーフォーム 31"/>
          <p:cNvSpPr/>
          <p:nvPr/>
        </p:nvSpPr>
        <p:spPr>
          <a:xfrm rot="17100000">
            <a:off x="3174840" y="1791720"/>
            <a:ext cx="2428920" cy="276840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フリーフォーム 32"/>
          <p:cNvSpPr/>
          <p:nvPr/>
        </p:nvSpPr>
        <p:spPr>
          <a:xfrm rot="16200000">
            <a:off x="2516040" y="2071800"/>
            <a:ext cx="782640" cy="78264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フリーフォーム 33"/>
          <p:cNvSpPr/>
          <p:nvPr/>
        </p:nvSpPr>
        <p:spPr>
          <a:xfrm rot="16200000">
            <a:off x="5740200" y="2857320"/>
            <a:ext cx="968400" cy="149868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フリーフォーム 34"/>
          <p:cNvSpPr/>
          <p:nvPr/>
        </p:nvSpPr>
        <p:spPr>
          <a:xfrm rot="16200000">
            <a:off x="2973240" y="5351400"/>
            <a:ext cx="1019520" cy="144792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フリーフォーム 35"/>
          <p:cNvSpPr/>
          <p:nvPr/>
        </p:nvSpPr>
        <p:spPr>
          <a:xfrm rot="16200000">
            <a:off x="3293280" y="4654800"/>
            <a:ext cx="1879560" cy="1303560"/>
          </a:xfrm>
          <a:custGeom>
            <a:avLst/>
            <a:gdLst/>
            <a:ahLst/>
            <a:rect l="l" t="t" r="r" b="b"/>
            <a:pathLst>
              <a:path w="5243308" h="3355942">
                <a:moveTo>
                  <a:pt x="2264438" y="999241"/>
                </a:moveTo>
                <a:cubicBezTo>
                  <a:pt x="2028768" y="961534"/>
                  <a:pt x="1254198" y="760428"/>
                  <a:pt x="888124" y="678729"/>
                </a:cubicBezTo>
                <a:cubicBezTo>
                  <a:pt x="522050" y="597030"/>
                  <a:pt x="153514" y="510723"/>
                  <a:pt x="67992" y="509047"/>
                </a:cubicBezTo>
                <a:cubicBezTo>
                  <a:pt x="-17530" y="507371"/>
                  <a:pt x="-17006" y="543402"/>
                  <a:pt x="39712" y="546754"/>
                </a:cubicBezTo>
                <a:cubicBezTo>
                  <a:pt x="96430" y="550106"/>
                  <a:pt x="1048380" y="772997"/>
                  <a:pt x="1048380" y="772997"/>
                </a:cubicBezTo>
                <a:cubicBezTo>
                  <a:pt x="1412883" y="854696"/>
                  <a:pt x="2000487" y="952107"/>
                  <a:pt x="2226730" y="1036948"/>
                </a:cubicBezTo>
                <a:cubicBezTo>
                  <a:pt x="2452973" y="1121789"/>
                  <a:pt x="2455907" y="1195999"/>
                  <a:pt x="2405840" y="1282045"/>
                </a:cubicBezTo>
                <a:cubicBezTo>
                  <a:pt x="2355773" y="1368091"/>
                  <a:pt x="2228302" y="1486293"/>
                  <a:pt x="2170170" y="1583703"/>
                </a:cubicBezTo>
                <a:cubicBezTo>
                  <a:pt x="2112038" y="1681113"/>
                  <a:pt x="2096326" y="1721963"/>
                  <a:pt x="2057048" y="1866507"/>
                </a:cubicBezTo>
                <a:cubicBezTo>
                  <a:pt x="2017770" y="2011051"/>
                  <a:pt x="1891451" y="2381839"/>
                  <a:pt x="1934500" y="2450969"/>
                </a:cubicBezTo>
                <a:cubicBezTo>
                  <a:pt x="2023269" y="2454059"/>
                  <a:pt x="2072759" y="2333133"/>
                  <a:pt x="2132462" y="2281286"/>
                </a:cubicBezTo>
                <a:cubicBezTo>
                  <a:pt x="2192165" y="2229439"/>
                  <a:pt x="2236157" y="2215298"/>
                  <a:pt x="2292718" y="2139884"/>
                </a:cubicBezTo>
                <a:cubicBezTo>
                  <a:pt x="2349279" y="2064470"/>
                  <a:pt x="2424798" y="1853991"/>
                  <a:pt x="2471827" y="1828800"/>
                </a:cubicBezTo>
                <a:cubicBezTo>
                  <a:pt x="2498536" y="1869649"/>
                  <a:pt x="2416838" y="2231010"/>
                  <a:pt x="2452974" y="2384981"/>
                </a:cubicBezTo>
                <a:cubicBezTo>
                  <a:pt x="2489110" y="2538952"/>
                  <a:pt x="2619514" y="2590799"/>
                  <a:pt x="2688644" y="2752626"/>
                </a:cubicBezTo>
                <a:cubicBezTo>
                  <a:pt x="2757774" y="2914453"/>
                  <a:pt x="2826000" y="3301934"/>
                  <a:pt x="2867753" y="3355942"/>
                </a:cubicBezTo>
                <a:cubicBezTo>
                  <a:pt x="2920936" y="3316605"/>
                  <a:pt x="2930598" y="2879889"/>
                  <a:pt x="2962021" y="2733773"/>
                </a:cubicBezTo>
                <a:cubicBezTo>
                  <a:pt x="2993444" y="2587658"/>
                  <a:pt x="3061002" y="2604940"/>
                  <a:pt x="3056289" y="2479249"/>
                </a:cubicBezTo>
                <a:cubicBezTo>
                  <a:pt x="3051576" y="2353558"/>
                  <a:pt x="2900747" y="1984341"/>
                  <a:pt x="2933741" y="1979628"/>
                </a:cubicBezTo>
                <a:cubicBezTo>
                  <a:pt x="2987055" y="2025715"/>
                  <a:pt x="3104994" y="2317423"/>
                  <a:pt x="3254252" y="2450969"/>
                </a:cubicBezTo>
                <a:cubicBezTo>
                  <a:pt x="3403510" y="2584515"/>
                  <a:pt x="3691027" y="2670928"/>
                  <a:pt x="3829287" y="2780907"/>
                </a:cubicBezTo>
                <a:cubicBezTo>
                  <a:pt x="3967547" y="2890886"/>
                  <a:pt x="4035675" y="3031738"/>
                  <a:pt x="4083811" y="3110845"/>
                </a:cubicBezTo>
                <a:cubicBezTo>
                  <a:pt x="4116707" y="3048982"/>
                  <a:pt x="4112091" y="2883030"/>
                  <a:pt x="4083811" y="2752626"/>
                </a:cubicBezTo>
                <a:cubicBezTo>
                  <a:pt x="4055531" y="2622222"/>
                  <a:pt x="3987971" y="2461966"/>
                  <a:pt x="3914128" y="2328420"/>
                </a:cubicBezTo>
                <a:cubicBezTo>
                  <a:pt x="3840285" y="2194874"/>
                  <a:pt x="3725592" y="2061327"/>
                  <a:pt x="3640751" y="1951348"/>
                </a:cubicBezTo>
                <a:cubicBezTo>
                  <a:pt x="3555910" y="1841369"/>
                  <a:pt x="3388898" y="1705976"/>
                  <a:pt x="3405081" y="1668544"/>
                </a:cubicBezTo>
                <a:cubicBezTo>
                  <a:pt x="3436504" y="1665402"/>
                  <a:pt x="3621897" y="1904214"/>
                  <a:pt x="3829287" y="1932494"/>
                </a:cubicBezTo>
                <a:cubicBezTo>
                  <a:pt x="4036677" y="1960774"/>
                  <a:pt x="4413749" y="1850795"/>
                  <a:pt x="4649419" y="1838226"/>
                </a:cubicBezTo>
                <a:cubicBezTo>
                  <a:pt x="4885089" y="1825657"/>
                  <a:pt x="5135901" y="1868392"/>
                  <a:pt x="5243308" y="1857080"/>
                </a:cubicBezTo>
                <a:cubicBezTo>
                  <a:pt x="5204030" y="1784808"/>
                  <a:pt x="4616425" y="1520857"/>
                  <a:pt x="4413749" y="1404593"/>
                </a:cubicBezTo>
                <a:cubicBezTo>
                  <a:pt x="4211073" y="1288329"/>
                  <a:pt x="4182792" y="1220770"/>
                  <a:pt x="4027250" y="1159496"/>
                </a:cubicBezTo>
                <a:cubicBezTo>
                  <a:pt x="3871708" y="1098222"/>
                  <a:pt x="3546404" y="1066741"/>
                  <a:pt x="3480495" y="1036948"/>
                </a:cubicBezTo>
                <a:cubicBezTo>
                  <a:pt x="3507931" y="970960"/>
                  <a:pt x="3796294" y="936396"/>
                  <a:pt x="3951836" y="763571"/>
                </a:cubicBezTo>
                <a:cubicBezTo>
                  <a:pt x="4107378" y="590746"/>
                  <a:pt x="4398745" y="100513"/>
                  <a:pt x="4413749" y="0"/>
                </a:cubicBezTo>
                <a:cubicBezTo>
                  <a:pt x="4343028" y="17597"/>
                  <a:pt x="4066529" y="256095"/>
                  <a:pt x="3904702" y="320511"/>
                </a:cubicBezTo>
                <a:cubicBezTo>
                  <a:pt x="3742875" y="384927"/>
                  <a:pt x="3593617" y="312655"/>
                  <a:pt x="3442788" y="386498"/>
                </a:cubicBezTo>
                <a:cubicBezTo>
                  <a:pt x="3291959" y="460341"/>
                  <a:pt x="3067287" y="707854"/>
                  <a:pt x="2999728" y="763571"/>
                </a:cubicBezTo>
                <a:cubicBezTo>
                  <a:pt x="2962649" y="689747"/>
                  <a:pt x="3032723" y="598602"/>
                  <a:pt x="3037436" y="480767"/>
                </a:cubicBezTo>
                <a:cubicBezTo>
                  <a:pt x="3042149" y="362932"/>
                  <a:pt x="3062849" y="134331"/>
                  <a:pt x="3028009" y="56560"/>
                </a:cubicBezTo>
                <a:cubicBezTo>
                  <a:pt x="2949354" y="89279"/>
                  <a:pt x="2704355" y="334651"/>
                  <a:pt x="2622656" y="471340"/>
                </a:cubicBezTo>
                <a:cubicBezTo>
                  <a:pt x="2540957" y="608029"/>
                  <a:pt x="2558043" y="803124"/>
                  <a:pt x="2537815" y="876692"/>
                </a:cubicBezTo>
                <a:cubicBezTo>
                  <a:pt x="2494727" y="843580"/>
                  <a:pt x="2452974" y="741575"/>
                  <a:pt x="2386986" y="707010"/>
                </a:cubicBezTo>
                <a:cubicBezTo>
                  <a:pt x="2320998" y="672445"/>
                  <a:pt x="2199844" y="659169"/>
                  <a:pt x="2141889" y="669303"/>
                </a:cubicBezTo>
                <a:cubicBezTo>
                  <a:pt x="2158229" y="709917"/>
                  <a:pt x="2278578" y="854697"/>
                  <a:pt x="2302145" y="904973"/>
                </a:cubicBezTo>
                <a:cubicBezTo>
                  <a:pt x="2325712" y="955249"/>
                  <a:pt x="2500108" y="1036948"/>
                  <a:pt x="2264438" y="9992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フリーフォーム 36"/>
          <p:cNvSpPr/>
          <p:nvPr/>
        </p:nvSpPr>
        <p:spPr>
          <a:xfrm rot="16200000">
            <a:off x="2506320" y="3519000"/>
            <a:ext cx="1124280" cy="127944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フリーフォーム 37"/>
          <p:cNvSpPr/>
          <p:nvPr/>
        </p:nvSpPr>
        <p:spPr>
          <a:xfrm rot="1800000">
            <a:off x="5923080" y="3800160"/>
            <a:ext cx="1885680" cy="183024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フリーフォーム 38"/>
          <p:cNvSpPr/>
          <p:nvPr/>
        </p:nvSpPr>
        <p:spPr>
          <a:xfrm flipH="1" rot="18000000">
            <a:off x="6509880" y="4824360"/>
            <a:ext cx="1423800" cy="209376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フリーフォーム 39"/>
          <p:cNvSpPr/>
          <p:nvPr/>
        </p:nvSpPr>
        <p:spPr>
          <a:xfrm flipH="1" rot="18000000">
            <a:off x="5336640" y="1786680"/>
            <a:ext cx="1501920" cy="202068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フリーフォーム 40"/>
          <p:cNvSpPr/>
          <p:nvPr/>
        </p:nvSpPr>
        <p:spPr>
          <a:xfrm flipV="1" rot="3600000">
            <a:off x="6129360" y="257040"/>
            <a:ext cx="1690560" cy="178596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フリーフォーム 41"/>
          <p:cNvSpPr/>
          <p:nvPr/>
        </p:nvSpPr>
        <p:spPr>
          <a:xfrm flipV="1" rot="3600000">
            <a:off x="7067160" y="-257040"/>
            <a:ext cx="2092320" cy="341928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フリーフォーム 42"/>
          <p:cNvSpPr/>
          <p:nvPr/>
        </p:nvSpPr>
        <p:spPr>
          <a:xfrm flipV="1" rot="13500000">
            <a:off x="6228720" y="2390040"/>
            <a:ext cx="2390760" cy="304632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フリーフォーム 43"/>
          <p:cNvSpPr/>
          <p:nvPr/>
        </p:nvSpPr>
        <p:spPr>
          <a:xfrm flipV="1" rot="3600000">
            <a:off x="4449240" y="3747600"/>
            <a:ext cx="2430720" cy="291960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フリーフォーム 44"/>
          <p:cNvSpPr/>
          <p:nvPr/>
        </p:nvSpPr>
        <p:spPr>
          <a:xfrm flipV="1" rot="12600000">
            <a:off x="5118840" y="2643840"/>
            <a:ext cx="847800" cy="763560"/>
          </a:xfrm>
          <a:custGeom>
            <a:avLst/>
            <a:gdLst/>
            <a:ahLst/>
            <a:rect l="l" t="t" r="r" b="b"/>
            <a:pathLst>
              <a:path w="5052058" h="4676625">
                <a:moveTo>
                  <a:pt x="3563392" y="3412521"/>
                </a:moveTo>
                <a:cubicBezTo>
                  <a:pt x="3500233" y="3507025"/>
                  <a:pt x="3428275" y="4028406"/>
                  <a:pt x="3290015" y="4204373"/>
                </a:cubicBezTo>
                <a:cubicBezTo>
                  <a:pt x="3151755" y="4380340"/>
                  <a:pt x="2790568" y="4497222"/>
                  <a:pt x="2733833" y="4468324"/>
                </a:cubicBezTo>
                <a:cubicBezTo>
                  <a:pt x="2711163" y="4456777"/>
                  <a:pt x="2754258" y="4191804"/>
                  <a:pt x="2799821" y="4081825"/>
                </a:cubicBezTo>
                <a:cubicBezTo>
                  <a:pt x="2845384" y="3971846"/>
                  <a:pt x="3028185" y="3812218"/>
                  <a:pt x="3007210" y="3808447"/>
                </a:cubicBezTo>
                <a:cubicBezTo>
                  <a:pt x="2986235" y="3804676"/>
                  <a:pt x="2504447" y="4149383"/>
                  <a:pt x="2262493" y="4242080"/>
                </a:cubicBezTo>
                <a:cubicBezTo>
                  <a:pt x="2020539" y="4334777"/>
                  <a:pt x="1781726" y="4292357"/>
                  <a:pt x="1555483" y="4364629"/>
                </a:cubicBezTo>
                <a:cubicBezTo>
                  <a:pt x="1329240" y="4436901"/>
                  <a:pt x="911789" y="4693833"/>
                  <a:pt x="905033" y="4675713"/>
                </a:cubicBezTo>
                <a:cubicBezTo>
                  <a:pt x="898277" y="4657593"/>
                  <a:pt x="1297816" y="4359915"/>
                  <a:pt x="1423507" y="4194946"/>
                </a:cubicBezTo>
                <a:cubicBezTo>
                  <a:pt x="1549198" y="4029977"/>
                  <a:pt x="1561767" y="3806876"/>
                  <a:pt x="1659177" y="3685899"/>
                </a:cubicBezTo>
                <a:cubicBezTo>
                  <a:pt x="1756587" y="3564922"/>
                  <a:pt x="2015304" y="3470562"/>
                  <a:pt x="2007969" y="3469082"/>
                </a:cubicBezTo>
                <a:cubicBezTo>
                  <a:pt x="1995364" y="3466538"/>
                  <a:pt x="1627754" y="3544497"/>
                  <a:pt x="1376373" y="3450229"/>
                </a:cubicBezTo>
                <a:cubicBezTo>
                  <a:pt x="1124992" y="3355961"/>
                  <a:pt x="729067" y="3033878"/>
                  <a:pt x="499681" y="2903474"/>
                </a:cubicBezTo>
                <a:cubicBezTo>
                  <a:pt x="270295" y="2773070"/>
                  <a:pt x="4774" y="2688700"/>
                  <a:pt x="60" y="2667804"/>
                </a:cubicBezTo>
                <a:cubicBezTo>
                  <a:pt x="-4654" y="2646908"/>
                  <a:pt x="267153" y="2718081"/>
                  <a:pt x="471400" y="2686658"/>
                </a:cubicBezTo>
                <a:cubicBezTo>
                  <a:pt x="675647" y="2655235"/>
                  <a:pt x="1004014" y="2504406"/>
                  <a:pt x="1225544" y="2479268"/>
                </a:cubicBezTo>
                <a:cubicBezTo>
                  <a:pt x="1447074" y="2454130"/>
                  <a:pt x="1800946" y="2562643"/>
                  <a:pt x="1800579" y="2535829"/>
                </a:cubicBezTo>
                <a:cubicBezTo>
                  <a:pt x="1799931" y="2488464"/>
                  <a:pt x="1393656" y="2359862"/>
                  <a:pt x="1253825" y="2196464"/>
                </a:cubicBezTo>
                <a:cubicBezTo>
                  <a:pt x="1113994" y="2033066"/>
                  <a:pt x="1084142" y="1692130"/>
                  <a:pt x="961594" y="1555441"/>
                </a:cubicBezTo>
                <a:cubicBezTo>
                  <a:pt x="839046" y="1418752"/>
                  <a:pt x="524819" y="1400737"/>
                  <a:pt x="518534" y="1376332"/>
                </a:cubicBezTo>
                <a:cubicBezTo>
                  <a:pt x="512249" y="1351927"/>
                  <a:pt x="669363" y="1310344"/>
                  <a:pt x="923887" y="1348051"/>
                </a:cubicBezTo>
                <a:cubicBezTo>
                  <a:pt x="1178411" y="1385758"/>
                  <a:pt x="1987989" y="1603151"/>
                  <a:pt x="2045676" y="1602575"/>
                </a:cubicBezTo>
                <a:cubicBezTo>
                  <a:pt x="2103363" y="1601999"/>
                  <a:pt x="1919986" y="1319771"/>
                  <a:pt x="1894848" y="1131235"/>
                </a:cubicBezTo>
                <a:cubicBezTo>
                  <a:pt x="1869710" y="942699"/>
                  <a:pt x="1923128" y="659895"/>
                  <a:pt x="1894848" y="471359"/>
                </a:cubicBezTo>
                <a:cubicBezTo>
                  <a:pt x="1866567" y="282823"/>
                  <a:pt x="1694004" y="3056"/>
                  <a:pt x="1725165" y="18"/>
                </a:cubicBezTo>
                <a:cubicBezTo>
                  <a:pt x="1756326" y="-3020"/>
                  <a:pt x="2042534" y="400657"/>
                  <a:pt x="2234212" y="575053"/>
                </a:cubicBezTo>
                <a:cubicBezTo>
                  <a:pt x="2425890" y="749449"/>
                  <a:pt x="2724406" y="862571"/>
                  <a:pt x="2875235" y="1046394"/>
                </a:cubicBezTo>
                <a:cubicBezTo>
                  <a:pt x="3026064" y="1230217"/>
                  <a:pt x="3119992" y="1674377"/>
                  <a:pt x="3139186" y="1677990"/>
                </a:cubicBezTo>
                <a:cubicBezTo>
                  <a:pt x="3158380" y="1681603"/>
                  <a:pt x="3142328" y="1333911"/>
                  <a:pt x="3158039" y="1159515"/>
                </a:cubicBezTo>
                <a:cubicBezTo>
                  <a:pt x="3173750" y="985119"/>
                  <a:pt x="3252307" y="813865"/>
                  <a:pt x="3233454" y="631614"/>
                </a:cubicBezTo>
                <a:cubicBezTo>
                  <a:pt x="3214601" y="449363"/>
                  <a:pt x="2995545" y="53136"/>
                  <a:pt x="3044918" y="66006"/>
                </a:cubicBezTo>
                <a:cubicBezTo>
                  <a:pt x="3094291" y="78876"/>
                  <a:pt x="3399287" y="459025"/>
                  <a:pt x="3529691" y="708835"/>
                </a:cubicBezTo>
                <a:cubicBezTo>
                  <a:pt x="3660095" y="958645"/>
                  <a:pt x="3780876" y="1287078"/>
                  <a:pt x="3827342" y="1564868"/>
                </a:cubicBezTo>
                <a:cubicBezTo>
                  <a:pt x="3873808" y="1842658"/>
                  <a:pt x="3758937" y="2324939"/>
                  <a:pt x="3808489" y="2375573"/>
                </a:cubicBezTo>
                <a:cubicBezTo>
                  <a:pt x="3858041" y="2426207"/>
                  <a:pt x="3954237" y="2040319"/>
                  <a:pt x="4124653" y="1868673"/>
                </a:cubicBezTo>
                <a:cubicBezTo>
                  <a:pt x="4295069" y="1697027"/>
                  <a:pt x="4742982" y="1555223"/>
                  <a:pt x="4770023" y="1574295"/>
                </a:cubicBezTo>
                <a:cubicBezTo>
                  <a:pt x="4797064" y="1593367"/>
                  <a:pt x="4594056" y="2023639"/>
                  <a:pt x="4515499" y="2196464"/>
                </a:cubicBezTo>
                <a:cubicBezTo>
                  <a:pt x="4436942" y="2369289"/>
                  <a:pt x="4440085" y="2433705"/>
                  <a:pt x="4298683" y="2611243"/>
                </a:cubicBezTo>
                <a:cubicBezTo>
                  <a:pt x="4157281" y="2788781"/>
                  <a:pt x="3651271" y="3128304"/>
                  <a:pt x="3667087" y="3261693"/>
                </a:cubicBezTo>
                <a:cubicBezTo>
                  <a:pt x="3682903" y="3395082"/>
                  <a:pt x="4286114" y="3561780"/>
                  <a:pt x="4515499" y="3685899"/>
                </a:cubicBezTo>
                <a:cubicBezTo>
                  <a:pt x="4744884" y="3810018"/>
                  <a:pt x="4995795" y="3966556"/>
                  <a:pt x="5043400" y="4006410"/>
                </a:cubicBezTo>
                <a:cubicBezTo>
                  <a:pt x="5091005" y="4046264"/>
                  <a:pt x="4928445" y="4146110"/>
                  <a:pt x="4892571" y="4138385"/>
                </a:cubicBezTo>
                <a:cubicBezTo>
                  <a:pt x="4856697" y="4130660"/>
                  <a:pt x="4818728" y="3974988"/>
                  <a:pt x="4675755" y="3883862"/>
                </a:cubicBezTo>
                <a:cubicBezTo>
                  <a:pt x="4532782" y="3792736"/>
                  <a:pt x="4218555" y="3670188"/>
                  <a:pt x="4034732" y="3591631"/>
                </a:cubicBezTo>
                <a:cubicBezTo>
                  <a:pt x="3850909" y="3513074"/>
                  <a:pt x="3626551" y="3318017"/>
                  <a:pt x="3563392" y="34125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フリーフォーム 45"/>
          <p:cNvSpPr/>
          <p:nvPr/>
        </p:nvSpPr>
        <p:spPr>
          <a:xfrm flipV="1" rot="20700000">
            <a:off x="358920" y="3181680"/>
            <a:ext cx="1049040" cy="1460520"/>
          </a:xfrm>
          <a:custGeom>
            <a:avLst/>
            <a:gdLst/>
            <a:ahLst/>
            <a:rect l="l" t="t" r="r" b="b"/>
            <a:pathLst>
              <a:path w="2833970" h="4052534">
                <a:moveTo>
                  <a:pt x="2132930" y="59654"/>
                </a:moveTo>
                <a:cubicBezTo>
                  <a:pt x="2097370" y="170398"/>
                  <a:pt x="2038442" y="530062"/>
                  <a:pt x="1992722" y="736310"/>
                </a:cubicBezTo>
                <a:cubicBezTo>
                  <a:pt x="1947002" y="942558"/>
                  <a:pt x="1908394" y="1108166"/>
                  <a:pt x="1858610" y="1297142"/>
                </a:cubicBezTo>
                <a:cubicBezTo>
                  <a:pt x="1808826" y="1486118"/>
                  <a:pt x="1761074" y="1815302"/>
                  <a:pt x="1694018" y="1870166"/>
                </a:cubicBezTo>
                <a:cubicBezTo>
                  <a:pt x="1630772" y="1850735"/>
                  <a:pt x="1528410" y="1687286"/>
                  <a:pt x="1456274" y="1626326"/>
                </a:cubicBezTo>
                <a:cubicBezTo>
                  <a:pt x="1384138" y="1565366"/>
                  <a:pt x="1317082" y="1545046"/>
                  <a:pt x="1261202" y="1504406"/>
                </a:cubicBezTo>
                <a:cubicBezTo>
                  <a:pt x="1205322" y="1463766"/>
                  <a:pt x="1150585" y="1389090"/>
                  <a:pt x="1120994" y="1382486"/>
                </a:cubicBezTo>
                <a:cubicBezTo>
                  <a:pt x="1112358" y="1413982"/>
                  <a:pt x="1133186" y="1527774"/>
                  <a:pt x="1163666" y="1601942"/>
                </a:cubicBezTo>
                <a:cubicBezTo>
                  <a:pt x="1194146" y="1676110"/>
                  <a:pt x="1310859" y="1785711"/>
                  <a:pt x="1303874" y="1827494"/>
                </a:cubicBezTo>
                <a:cubicBezTo>
                  <a:pt x="1272124" y="1827367"/>
                  <a:pt x="1165698" y="1691350"/>
                  <a:pt x="1041746" y="1681190"/>
                </a:cubicBezTo>
                <a:cubicBezTo>
                  <a:pt x="917794" y="1671030"/>
                  <a:pt x="698338" y="1739102"/>
                  <a:pt x="560162" y="1766534"/>
                </a:cubicBezTo>
                <a:cubicBezTo>
                  <a:pt x="421986" y="1793966"/>
                  <a:pt x="228946" y="1818350"/>
                  <a:pt x="212690" y="1845782"/>
                </a:cubicBezTo>
                <a:cubicBezTo>
                  <a:pt x="255489" y="1873214"/>
                  <a:pt x="367122" y="1882358"/>
                  <a:pt x="462626" y="1931126"/>
                </a:cubicBezTo>
                <a:cubicBezTo>
                  <a:pt x="558130" y="1979894"/>
                  <a:pt x="666842" y="2105878"/>
                  <a:pt x="785714" y="2138390"/>
                </a:cubicBezTo>
                <a:cubicBezTo>
                  <a:pt x="904586" y="2170902"/>
                  <a:pt x="1146775" y="2104989"/>
                  <a:pt x="1175858" y="2126198"/>
                </a:cubicBezTo>
                <a:cubicBezTo>
                  <a:pt x="1168746" y="2160742"/>
                  <a:pt x="861914" y="2248118"/>
                  <a:pt x="743042" y="2345654"/>
                </a:cubicBezTo>
                <a:cubicBezTo>
                  <a:pt x="624170" y="2443190"/>
                  <a:pt x="537810" y="2604734"/>
                  <a:pt x="462626" y="2711414"/>
                </a:cubicBezTo>
                <a:cubicBezTo>
                  <a:pt x="387442" y="2818094"/>
                  <a:pt x="368138" y="2919694"/>
                  <a:pt x="291938" y="2985734"/>
                </a:cubicBezTo>
                <a:cubicBezTo>
                  <a:pt x="215738" y="3051774"/>
                  <a:pt x="-40294" y="3100542"/>
                  <a:pt x="5426" y="3107654"/>
                </a:cubicBezTo>
                <a:cubicBezTo>
                  <a:pt x="51146" y="3114766"/>
                  <a:pt x="389474" y="3073110"/>
                  <a:pt x="566258" y="3028406"/>
                </a:cubicBezTo>
                <a:cubicBezTo>
                  <a:pt x="743042" y="2983702"/>
                  <a:pt x="942178" y="2920710"/>
                  <a:pt x="1066130" y="2839430"/>
                </a:cubicBezTo>
                <a:cubicBezTo>
                  <a:pt x="1190082" y="2758150"/>
                  <a:pt x="1246089" y="2570444"/>
                  <a:pt x="1309970" y="2540726"/>
                </a:cubicBezTo>
                <a:cubicBezTo>
                  <a:pt x="1316701" y="2591018"/>
                  <a:pt x="1172810" y="2834350"/>
                  <a:pt x="1163666" y="3004022"/>
                </a:cubicBezTo>
                <a:cubicBezTo>
                  <a:pt x="1154522" y="3173694"/>
                  <a:pt x="1241898" y="3415502"/>
                  <a:pt x="1255106" y="3558758"/>
                </a:cubicBezTo>
                <a:cubicBezTo>
                  <a:pt x="1268314" y="3702014"/>
                  <a:pt x="1245962" y="3781262"/>
                  <a:pt x="1242914" y="3863558"/>
                </a:cubicBezTo>
                <a:cubicBezTo>
                  <a:pt x="1239866" y="3945854"/>
                  <a:pt x="1221197" y="3980398"/>
                  <a:pt x="1236818" y="4052534"/>
                </a:cubicBezTo>
                <a:cubicBezTo>
                  <a:pt x="1273394" y="4002750"/>
                  <a:pt x="1374994" y="3714206"/>
                  <a:pt x="1462370" y="3564854"/>
                </a:cubicBezTo>
                <a:cubicBezTo>
                  <a:pt x="1549746" y="3415502"/>
                  <a:pt x="1713322" y="3315934"/>
                  <a:pt x="1761074" y="3156422"/>
                </a:cubicBezTo>
                <a:cubicBezTo>
                  <a:pt x="1808826" y="2996910"/>
                  <a:pt x="1727546" y="2660868"/>
                  <a:pt x="1748882" y="2607782"/>
                </a:cubicBezTo>
                <a:cubicBezTo>
                  <a:pt x="1802603" y="2628991"/>
                  <a:pt x="1882994" y="2891246"/>
                  <a:pt x="1980530" y="2997926"/>
                </a:cubicBezTo>
                <a:cubicBezTo>
                  <a:pt x="2078066" y="3104606"/>
                  <a:pt x="2217258" y="3148294"/>
                  <a:pt x="2334098" y="3247862"/>
                </a:cubicBezTo>
                <a:cubicBezTo>
                  <a:pt x="2450938" y="3347430"/>
                  <a:pt x="2625182" y="3563203"/>
                  <a:pt x="2681570" y="3595334"/>
                </a:cubicBezTo>
                <a:cubicBezTo>
                  <a:pt x="2696048" y="3545550"/>
                  <a:pt x="2575906" y="3268182"/>
                  <a:pt x="2535266" y="3132038"/>
                </a:cubicBezTo>
                <a:cubicBezTo>
                  <a:pt x="2494626" y="2995894"/>
                  <a:pt x="2488530" y="2892262"/>
                  <a:pt x="2437730" y="2778470"/>
                </a:cubicBezTo>
                <a:cubicBezTo>
                  <a:pt x="2386930" y="2664678"/>
                  <a:pt x="2294474" y="2526502"/>
                  <a:pt x="2230466" y="2449286"/>
                </a:cubicBezTo>
                <a:cubicBezTo>
                  <a:pt x="2166458" y="2372070"/>
                  <a:pt x="2017106" y="2321270"/>
                  <a:pt x="2053682" y="2315174"/>
                </a:cubicBezTo>
                <a:cubicBezTo>
                  <a:pt x="2090258" y="2309078"/>
                  <a:pt x="2319874" y="2393406"/>
                  <a:pt x="2449922" y="2412710"/>
                </a:cubicBezTo>
                <a:cubicBezTo>
                  <a:pt x="2579970" y="2432014"/>
                  <a:pt x="2771232" y="2442047"/>
                  <a:pt x="2833970" y="2430998"/>
                </a:cubicBezTo>
                <a:cubicBezTo>
                  <a:pt x="2816698" y="2376134"/>
                  <a:pt x="2458050" y="2160742"/>
                  <a:pt x="2346290" y="2083526"/>
                </a:cubicBezTo>
                <a:cubicBezTo>
                  <a:pt x="2234530" y="2006310"/>
                  <a:pt x="2229450" y="1989038"/>
                  <a:pt x="2163410" y="1967702"/>
                </a:cubicBezTo>
                <a:cubicBezTo>
                  <a:pt x="2097370" y="1946366"/>
                  <a:pt x="1962242" y="1974814"/>
                  <a:pt x="1950050" y="1955510"/>
                </a:cubicBezTo>
                <a:cubicBezTo>
                  <a:pt x="1937858" y="1936206"/>
                  <a:pt x="2064858" y="1901662"/>
                  <a:pt x="2090258" y="1851878"/>
                </a:cubicBezTo>
                <a:cubicBezTo>
                  <a:pt x="2115658" y="1802094"/>
                  <a:pt x="2151345" y="1712686"/>
                  <a:pt x="2102450" y="1656806"/>
                </a:cubicBezTo>
                <a:cubicBezTo>
                  <a:pt x="2051650" y="1661886"/>
                  <a:pt x="1840449" y="1863689"/>
                  <a:pt x="1785458" y="1882358"/>
                </a:cubicBezTo>
                <a:cubicBezTo>
                  <a:pt x="1764757" y="1841972"/>
                  <a:pt x="1807810" y="1805142"/>
                  <a:pt x="1852514" y="1620230"/>
                </a:cubicBezTo>
                <a:cubicBezTo>
                  <a:pt x="1897218" y="1435318"/>
                  <a:pt x="2005930" y="981166"/>
                  <a:pt x="2053682" y="772886"/>
                </a:cubicBezTo>
                <a:cubicBezTo>
                  <a:pt x="2101434" y="564606"/>
                  <a:pt x="2113626" y="487390"/>
                  <a:pt x="2139026" y="370550"/>
                </a:cubicBezTo>
                <a:cubicBezTo>
                  <a:pt x="2164426" y="253710"/>
                  <a:pt x="2207098" y="127726"/>
                  <a:pt x="2206082" y="71846"/>
                </a:cubicBezTo>
                <a:cubicBezTo>
                  <a:pt x="2205066" y="15966"/>
                  <a:pt x="2168490" y="-51090"/>
                  <a:pt x="2132930" y="59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フリーフォーム 46"/>
          <p:cNvSpPr/>
          <p:nvPr/>
        </p:nvSpPr>
        <p:spPr>
          <a:xfrm flipV="1" rot="12600000">
            <a:off x="7489440" y="3736440"/>
            <a:ext cx="1106640" cy="1409760"/>
          </a:xfrm>
          <a:custGeom>
            <a:avLst/>
            <a:gdLst/>
            <a:ahLst/>
            <a:rect l="l" t="t" r="r" b="b"/>
            <a:pathLst>
              <a:path w="2865120" h="3751726">
                <a:moveTo>
                  <a:pt x="1097280" y="0"/>
                </a:moveTo>
                <a:cubicBezTo>
                  <a:pt x="1060196" y="61976"/>
                  <a:pt x="914400" y="350520"/>
                  <a:pt x="853440" y="487680"/>
                </a:cubicBezTo>
                <a:cubicBezTo>
                  <a:pt x="792480" y="624840"/>
                  <a:pt x="732536" y="696976"/>
                  <a:pt x="731520" y="822960"/>
                </a:cubicBezTo>
                <a:cubicBezTo>
                  <a:pt x="730504" y="948944"/>
                  <a:pt x="849884" y="1220724"/>
                  <a:pt x="847344" y="1243584"/>
                </a:cubicBezTo>
                <a:cubicBezTo>
                  <a:pt x="781304" y="1218184"/>
                  <a:pt x="709168" y="1116584"/>
                  <a:pt x="609600" y="1066800"/>
                </a:cubicBezTo>
                <a:cubicBezTo>
                  <a:pt x="510032" y="1017016"/>
                  <a:pt x="351536" y="973328"/>
                  <a:pt x="249936" y="944880"/>
                </a:cubicBezTo>
                <a:cubicBezTo>
                  <a:pt x="148336" y="916432"/>
                  <a:pt x="66548" y="902716"/>
                  <a:pt x="0" y="896112"/>
                </a:cubicBezTo>
                <a:cubicBezTo>
                  <a:pt x="29972" y="947928"/>
                  <a:pt x="193040" y="1061720"/>
                  <a:pt x="262128" y="1164336"/>
                </a:cubicBezTo>
                <a:cubicBezTo>
                  <a:pt x="331216" y="1266952"/>
                  <a:pt x="359664" y="1432560"/>
                  <a:pt x="414528" y="1511808"/>
                </a:cubicBezTo>
                <a:cubicBezTo>
                  <a:pt x="469392" y="1591056"/>
                  <a:pt x="475488" y="1591564"/>
                  <a:pt x="591312" y="1639824"/>
                </a:cubicBezTo>
                <a:cubicBezTo>
                  <a:pt x="707136" y="1688084"/>
                  <a:pt x="1080008" y="1776984"/>
                  <a:pt x="1109472" y="1801368"/>
                </a:cubicBezTo>
                <a:cubicBezTo>
                  <a:pt x="1138936" y="1825752"/>
                  <a:pt x="1080008" y="1974596"/>
                  <a:pt x="1011936" y="2151888"/>
                </a:cubicBezTo>
                <a:cubicBezTo>
                  <a:pt x="943864" y="2329180"/>
                  <a:pt x="763016" y="2671064"/>
                  <a:pt x="701040" y="2865120"/>
                </a:cubicBezTo>
                <a:cubicBezTo>
                  <a:pt x="639064" y="3059176"/>
                  <a:pt x="640080" y="3172968"/>
                  <a:pt x="640080" y="3316224"/>
                </a:cubicBezTo>
                <a:cubicBezTo>
                  <a:pt x="640080" y="3459480"/>
                  <a:pt x="670560" y="3654552"/>
                  <a:pt x="701040" y="3724656"/>
                </a:cubicBezTo>
                <a:cubicBezTo>
                  <a:pt x="756920" y="3751580"/>
                  <a:pt x="786384" y="3763264"/>
                  <a:pt x="822960" y="3736848"/>
                </a:cubicBezTo>
                <a:cubicBezTo>
                  <a:pt x="823976" y="3629152"/>
                  <a:pt x="687747" y="3291078"/>
                  <a:pt x="707136" y="3078480"/>
                </a:cubicBezTo>
                <a:cubicBezTo>
                  <a:pt x="726525" y="2865882"/>
                  <a:pt x="861060" y="2649220"/>
                  <a:pt x="939292" y="2461260"/>
                </a:cubicBezTo>
                <a:cubicBezTo>
                  <a:pt x="1017524" y="2273300"/>
                  <a:pt x="1131993" y="2051812"/>
                  <a:pt x="1176528" y="1950720"/>
                </a:cubicBezTo>
                <a:cubicBezTo>
                  <a:pt x="1221063" y="1849628"/>
                  <a:pt x="1187704" y="1831848"/>
                  <a:pt x="1206500" y="1854708"/>
                </a:cubicBezTo>
                <a:cubicBezTo>
                  <a:pt x="1225296" y="1877568"/>
                  <a:pt x="1350179" y="2109470"/>
                  <a:pt x="1456944" y="2164080"/>
                </a:cubicBezTo>
                <a:cubicBezTo>
                  <a:pt x="1563709" y="2218690"/>
                  <a:pt x="1745234" y="2171531"/>
                  <a:pt x="1847088" y="2182368"/>
                </a:cubicBezTo>
                <a:cubicBezTo>
                  <a:pt x="1948942" y="2193205"/>
                  <a:pt x="2017776" y="2240280"/>
                  <a:pt x="2068068" y="2229104"/>
                </a:cubicBezTo>
                <a:cubicBezTo>
                  <a:pt x="2072640" y="2189988"/>
                  <a:pt x="2024126" y="1999149"/>
                  <a:pt x="1981200" y="1932432"/>
                </a:cubicBezTo>
                <a:cubicBezTo>
                  <a:pt x="1938274" y="1865715"/>
                  <a:pt x="1885696" y="1865376"/>
                  <a:pt x="1810512" y="1828800"/>
                </a:cubicBezTo>
                <a:cubicBezTo>
                  <a:pt x="1735328" y="1792224"/>
                  <a:pt x="1528064" y="1741932"/>
                  <a:pt x="1530096" y="1712976"/>
                </a:cubicBezTo>
                <a:cubicBezTo>
                  <a:pt x="1532128" y="1684020"/>
                  <a:pt x="1775968" y="1715008"/>
                  <a:pt x="1944624" y="1670304"/>
                </a:cubicBezTo>
                <a:cubicBezTo>
                  <a:pt x="2113280" y="1625600"/>
                  <a:pt x="2388616" y="1497584"/>
                  <a:pt x="2542032" y="1444752"/>
                </a:cubicBezTo>
                <a:cubicBezTo>
                  <a:pt x="2695448" y="1391920"/>
                  <a:pt x="2793492" y="1404112"/>
                  <a:pt x="2865120" y="1353312"/>
                </a:cubicBezTo>
                <a:cubicBezTo>
                  <a:pt x="2809748" y="1294892"/>
                  <a:pt x="2617216" y="1190752"/>
                  <a:pt x="2499360" y="1139952"/>
                </a:cubicBezTo>
                <a:cubicBezTo>
                  <a:pt x="2381504" y="1089152"/>
                  <a:pt x="2291080" y="1047496"/>
                  <a:pt x="2157984" y="1048512"/>
                </a:cubicBezTo>
                <a:cubicBezTo>
                  <a:pt x="2024888" y="1049528"/>
                  <a:pt x="1733296" y="1169924"/>
                  <a:pt x="1700784" y="1146048"/>
                </a:cubicBezTo>
                <a:cubicBezTo>
                  <a:pt x="1739392" y="1106932"/>
                  <a:pt x="2009648" y="978408"/>
                  <a:pt x="2115312" y="859536"/>
                </a:cubicBezTo>
                <a:cubicBezTo>
                  <a:pt x="2220976" y="740664"/>
                  <a:pt x="2249424" y="525272"/>
                  <a:pt x="2334768" y="432816"/>
                </a:cubicBezTo>
                <a:cubicBezTo>
                  <a:pt x="2420112" y="340360"/>
                  <a:pt x="2583688" y="358648"/>
                  <a:pt x="2627376" y="304800"/>
                </a:cubicBezTo>
                <a:cubicBezTo>
                  <a:pt x="2589784" y="286512"/>
                  <a:pt x="2283968" y="280416"/>
                  <a:pt x="2109216" y="323088"/>
                </a:cubicBezTo>
                <a:cubicBezTo>
                  <a:pt x="1934464" y="365760"/>
                  <a:pt x="1698752" y="453136"/>
                  <a:pt x="1578864" y="560832"/>
                </a:cubicBezTo>
                <a:cubicBezTo>
                  <a:pt x="1458976" y="668528"/>
                  <a:pt x="1421384" y="937768"/>
                  <a:pt x="1389888" y="969264"/>
                </a:cubicBezTo>
                <a:cubicBezTo>
                  <a:pt x="1355852" y="934720"/>
                  <a:pt x="1419352" y="668528"/>
                  <a:pt x="1389888" y="536448"/>
                </a:cubicBezTo>
                <a:cubicBezTo>
                  <a:pt x="1360424" y="404368"/>
                  <a:pt x="1260856" y="264160"/>
                  <a:pt x="1213104" y="176784"/>
                </a:cubicBezTo>
                <a:cubicBezTo>
                  <a:pt x="1165352" y="89408"/>
                  <a:pt x="1139444" y="29464"/>
                  <a:pt x="109728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フリーフォーム 47"/>
          <p:cNvSpPr/>
          <p:nvPr/>
        </p:nvSpPr>
        <p:spPr>
          <a:xfrm flipV="1" rot="12600000">
            <a:off x="4841640" y="4505760"/>
            <a:ext cx="1216080" cy="124776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フリーフォーム 48"/>
          <p:cNvSpPr/>
          <p:nvPr/>
        </p:nvSpPr>
        <p:spPr>
          <a:xfrm flipH="1" rot="19800000">
            <a:off x="7584120" y="4458240"/>
            <a:ext cx="1989000" cy="1831680"/>
          </a:xfrm>
          <a:custGeom>
            <a:avLst/>
            <a:gdLst/>
            <a:ahLst/>
            <a:rect l="l" t="t" r="r" b="b"/>
            <a:pathLst>
              <a:path w="4126992" h="4340352">
                <a:moveTo>
                  <a:pt x="1155192" y="2896616"/>
                </a:moveTo>
                <a:cubicBezTo>
                  <a:pt x="1080008" y="2974848"/>
                  <a:pt x="841756" y="3137577"/>
                  <a:pt x="701040" y="3255264"/>
                </a:cubicBezTo>
                <a:cubicBezTo>
                  <a:pt x="560324" y="3372951"/>
                  <a:pt x="402336" y="3528568"/>
                  <a:pt x="310896" y="3602736"/>
                </a:cubicBezTo>
                <a:cubicBezTo>
                  <a:pt x="219456" y="3676904"/>
                  <a:pt x="165608" y="3673856"/>
                  <a:pt x="152400" y="3700272"/>
                </a:cubicBezTo>
                <a:cubicBezTo>
                  <a:pt x="139192" y="3726688"/>
                  <a:pt x="198120" y="3766312"/>
                  <a:pt x="231648" y="3761232"/>
                </a:cubicBezTo>
                <a:cubicBezTo>
                  <a:pt x="265176" y="3756152"/>
                  <a:pt x="265176" y="3752088"/>
                  <a:pt x="353568" y="3669792"/>
                </a:cubicBezTo>
                <a:cubicBezTo>
                  <a:pt x="441960" y="3587496"/>
                  <a:pt x="608584" y="3390392"/>
                  <a:pt x="762000" y="3267456"/>
                </a:cubicBezTo>
                <a:cubicBezTo>
                  <a:pt x="915416" y="3144520"/>
                  <a:pt x="1192784" y="2924048"/>
                  <a:pt x="1274064" y="2932176"/>
                </a:cubicBezTo>
                <a:cubicBezTo>
                  <a:pt x="1284224" y="3026664"/>
                  <a:pt x="1219200" y="3241040"/>
                  <a:pt x="1280160" y="3407664"/>
                </a:cubicBezTo>
                <a:cubicBezTo>
                  <a:pt x="1341120" y="3574288"/>
                  <a:pt x="1541272" y="3776472"/>
                  <a:pt x="1639824" y="3931920"/>
                </a:cubicBezTo>
                <a:cubicBezTo>
                  <a:pt x="1738376" y="4087368"/>
                  <a:pt x="1819656" y="4287520"/>
                  <a:pt x="1871472" y="4340352"/>
                </a:cubicBezTo>
                <a:cubicBezTo>
                  <a:pt x="1908048" y="4291584"/>
                  <a:pt x="1865376" y="4091432"/>
                  <a:pt x="1859280" y="3974592"/>
                </a:cubicBezTo>
                <a:cubicBezTo>
                  <a:pt x="1853184" y="3857752"/>
                  <a:pt x="1871472" y="3748024"/>
                  <a:pt x="1834896" y="3639312"/>
                </a:cubicBezTo>
                <a:cubicBezTo>
                  <a:pt x="1798320" y="3530600"/>
                  <a:pt x="1569720" y="3313176"/>
                  <a:pt x="1639824" y="3322320"/>
                </a:cubicBezTo>
                <a:cubicBezTo>
                  <a:pt x="1709928" y="3331464"/>
                  <a:pt x="2039112" y="3599688"/>
                  <a:pt x="2255520" y="3694176"/>
                </a:cubicBezTo>
                <a:cubicBezTo>
                  <a:pt x="2471928" y="3788664"/>
                  <a:pt x="2757424" y="3835400"/>
                  <a:pt x="2938272" y="3889248"/>
                </a:cubicBezTo>
                <a:cubicBezTo>
                  <a:pt x="3119120" y="3943096"/>
                  <a:pt x="3275584" y="4022344"/>
                  <a:pt x="3340608" y="4017264"/>
                </a:cubicBezTo>
                <a:cubicBezTo>
                  <a:pt x="3329432" y="3981704"/>
                  <a:pt x="2987040" y="3788664"/>
                  <a:pt x="2871216" y="3675888"/>
                </a:cubicBezTo>
                <a:cubicBezTo>
                  <a:pt x="2755392" y="3563112"/>
                  <a:pt x="2763520" y="3438144"/>
                  <a:pt x="2645664" y="3340608"/>
                </a:cubicBezTo>
                <a:cubicBezTo>
                  <a:pt x="2527808" y="3243072"/>
                  <a:pt x="2150872" y="3126232"/>
                  <a:pt x="2164080" y="3090672"/>
                </a:cubicBezTo>
                <a:cubicBezTo>
                  <a:pt x="2177288" y="3055112"/>
                  <a:pt x="2547112" y="3163824"/>
                  <a:pt x="2724912" y="3127248"/>
                </a:cubicBezTo>
                <a:cubicBezTo>
                  <a:pt x="2902712" y="3090672"/>
                  <a:pt x="3052064" y="2952496"/>
                  <a:pt x="3230880" y="2871216"/>
                </a:cubicBezTo>
                <a:cubicBezTo>
                  <a:pt x="3409696" y="2789936"/>
                  <a:pt x="3648456" y="2719832"/>
                  <a:pt x="3797808" y="2639568"/>
                </a:cubicBezTo>
                <a:cubicBezTo>
                  <a:pt x="3947160" y="2559304"/>
                  <a:pt x="4124960" y="2415032"/>
                  <a:pt x="4126992" y="2389632"/>
                </a:cubicBezTo>
                <a:cubicBezTo>
                  <a:pt x="4057904" y="2389632"/>
                  <a:pt x="3976624" y="2502408"/>
                  <a:pt x="3810000" y="2487168"/>
                </a:cubicBezTo>
                <a:cubicBezTo>
                  <a:pt x="3643376" y="2471928"/>
                  <a:pt x="3361944" y="2308352"/>
                  <a:pt x="3127248" y="2298192"/>
                </a:cubicBezTo>
                <a:cubicBezTo>
                  <a:pt x="2892552" y="2288032"/>
                  <a:pt x="2443480" y="2443480"/>
                  <a:pt x="2401824" y="2426208"/>
                </a:cubicBezTo>
                <a:cubicBezTo>
                  <a:pt x="2451608" y="2363216"/>
                  <a:pt x="2734056" y="2295144"/>
                  <a:pt x="2877312" y="2194560"/>
                </a:cubicBezTo>
                <a:cubicBezTo>
                  <a:pt x="3020568" y="2093976"/>
                  <a:pt x="3132328" y="1985264"/>
                  <a:pt x="3261360" y="1822704"/>
                </a:cubicBezTo>
                <a:cubicBezTo>
                  <a:pt x="3390392" y="1660144"/>
                  <a:pt x="3520440" y="1375664"/>
                  <a:pt x="3651504" y="1219200"/>
                </a:cubicBezTo>
                <a:cubicBezTo>
                  <a:pt x="3782568" y="1062736"/>
                  <a:pt x="4020312" y="928624"/>
                  <a:pt x="4047744" y="883920"/>
                </a:cubicBezTo>
                <a:cubicBezTo>
                  <a:pt x="3953256" y="869696"/>
                  <a:pt x="3925824" y="904240"/>
                  <a:pt x="3816096" y="950976"/>
                </a:cubicBezTo>
                <a:cubicBezTo>
                  <a:pt x="3706368" y="997712"/>
                  <a:pt x="3611880" y="1098296"/>
                  <a:pt x="3389376" y="1164336"/>
                </a:cubicBezTo>
                <a:cubicBezTo>
                  <a:pt x="3166872" y="1230376"/>
                  <a:pt x="2707640" y="1228344"/>
                  <a:pt x="2481072" y="1347216"/>
                </a:cubicBezTo>
                <a:cubicBezTo>
                  <a:pt x="2254504" y="1466088"/>
                  <a:pt x="2134616" y="1770888"/>
                  <a:pt x="2029968" y="1877568"/>
                </a:cubicBezTo>
                <a:cubicBezTo>
                  <a:pt x="1925320" y="1984248"/>
                  <a:pt x="1934464" y="1981200"/>
                  <a:pt x="1853184" y="1987296"/>
                </a:cubicBezTo>
                <a:cubicBezTo>
                  <a:pt x="1858264" y="1947672"/>
                  <a:pt x="1994408" y="1837944"/>
                  <a:pt x="2060448" y="1639824"/>
                </a:cubicBezTo>
                <a:cubicBezTo>
                  <a:pt x="2126488" y="1441704"/>
                  <a:pt x="2226056" y="1008888"/>
                  <a:pt x="2249424" y="798576"/>
                </a:cubicBezTo>
                <a:cubicBezTo>
                  <a:pt x="2272792" y="588264"/>
                  <a:pt x="2193544" y="511048"/>
                  <a:pt x="2200656" y="377952"/>
                </a:cubicBezTo>
                <a:cubicBezTo>
                  <a:pt x="2207768" y="244856"/>
                  <a:pt x="2284984" y="94488"/>
                  <a:pt x="2292096" y="0"/>
                </a:cubicBezTo>
                <a:cubicBezTo>
                  <a:pt x="2253488" y="12192"/>
                  <a:pt x="2102104" y="281432"/>
                  <a:pt x="1969008" y="451104"/>
                </a:cubicBezTo>
                <a:cubicBezTo>
                  <a:pt x="1835912" y="620776"/>
                  <a:pt x="1609344" y="857504"/>
                  <a:pt x="1493520" y="1018032"/>
                </a:cubicBezTo>
                <a:cubicBezTo>
                  <a:pt x="1377696" y="1178560"/>
                  <a:pt x="1308608" y="1271016"/>
                  <a:pt x="1274064" y="1414272"/>
                </a:cubicBezTo>
                <a:cubicBezTo>
                  <a:pt x="1239520" y="1557528"/>
                  <a:pt x="1322832" y="1827784"/>
                  <a:pt x="1286256" y="1877568"/>
                </a:cubicBezTo>
                <a:cubicBezTo>
                  <a:pt x="1254760" y="1871472"/>
                  <a:pt x="1181608" y="1530096"/>
                  <a:pt x="1085088" y="1377696"/>
                </a:cubicBezTo>
                <a:cubicBezTo>
                  <a:pt x="988568" y="1225296"/>
                  <a:pt x="777240" y="1104392"/>
                  <a:pt x="707136" y="963168"/>
                </a:cubicBezTo>
                <a:cubicBezTo>
                  <a:pt x="637032" y="821944"/>
                  <a:pt x="682752" y="550672"/>
                  <a:pt x="664464" y="530352"/>
                </a:cubicBezTo>
                <a:cubicBezTo>
                  <a:pt x="646176" y="510032"/>
                  <a:pt x="597408" y="677672"/>
                  <a:pt x="597408" y="841248"/>
                </a:cubicBezTo>
                <a:cubicBezTo>
                  <a:pt x="597408" y="1004824"/>
                  <a:pt x="649224" y="1332992"/>
                  <a:pt x="664464" y="1511808"/>
                </a:cubicBezTo>
                <a:cubicBezTo>
                  <a:pt x="679704" y="1690624"/>
                  <a:pt x="653288" y="1778000"/>
                  <a:pt x="688848" y="1914144"/>
                </a:cubicBezTo>
                <a:cubicBezTo>
                  <a:pt x="724408" y="2050288"/>
                  <a:pt x="905256" y="2295144"/>
                  <a:pt x="877824" y="2328672"/>
                </a:cubicBezTo>
                <a:cubicBezTo>
                  <a:pt x="850392" y="2362200"/>
                  <a:pt x="670560" y="2179320"/>
                  <a:pt x="524256" y="2115312"/>
                </a:cubicBezTo>
                <a:cubicBezTo>
                  <a:pt x="377952" y="2051304"/>
                  <a:pt x="94488" y="1926336"/>
                  <a:pt x="0" y="1944624"/>
                </a:cubicBezTo>
                <a:cubicBezTo>
                  <a:pt x="47752" y="2023872"/>
                  <a:pt x="322072" y="2315464"/>
                  <a:pt x="475488" y="2438400"/>
                </a:cubicBezTo>
                <a:cubicBezTo>
                  <a:pt x="628904" y="2561336"/>
                  <a:pt x="807720" y="2624328"/>
                  <a:pt x="920496" y="2682240"/>
                </a:cubicBezTo>
                <a:cubicBezTo>
                  <a:pt x="1033272" y="2740152"/>
                  <a:pt x="1113536" y="2753360"/>
                  <a:pt x="1152144" y="2785872"/>
                </a:cubicBezTo>
                <a:cubicBezTo>
                  <a:pt x="1175512" y="2828544"/>
                  <a:pt x="1230376" y="2818384"/>
                  <a:pt x="1155192" y="28966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正方形/長方形 21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フリーフォーム 22"/>
          <p:cNvSpPr/>
          <p:nvPr/>
        </p:nvSpPr>
        <p:spPr>
          <a:xfrm>
            <a:off x="3193920" y="192240"/>
            <a:ext cx="2527560" cy="272556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フリーフォーム 23"/>
          <p:cNvSpPr/>
          <p:nvPr/>
        </p:nvSpPr>
        <p:spPr>
          <a:xfrm>
            <a:off x="330120" y="942840"/>
            <a:ext cx="2244960" cy="186228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フリーフォーム 24"/>
          <p:cNvSpPr/>
          <p:nvPr/>
        </p:nvSpPr>
        <p:spPr>
          <a:xfrm>
            <a:off x="4449600" y="2138400"/>
            <a:ext cx="1943280" cy="213516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フリーフォーム 25"/>
          <p:cNvSpPr/>
          <p:nvPr/>
        </p:nvSpPr>
        <p:spPr>
          <a:xfrm>
            <a:off x="378000" y="2727360"/>
            <a:ext cx="2379600" cy="229716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フリーフォーム 26"/>
          <p:cNvSpPr/>
          <p:nvPr/>
        </p:nvSpPr>
        <p:spPr>
          <a:xfrm>
            <a:off x="2203560" y="2251080"/>
            <a:ext cx="1955520" cy="200664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27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フリーフォーム 27"/>
          <p:cNvSpPr/>
          <p:nvPr/>
        </p:nvSpPr>
        <p:spPr>
          <a:xfrm rot="6300000">
            <a:off x="5533920" y="1809360"/>
            <a:ext cx="2332080" cy="295416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0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フリーフォーム 28"/>
          <p:cNvSpPr/>
          <p:nvPr/>
        </p:nvSpPr>
        <p:spPr>
          <a:xfrm rot="6300000">
            <a:off x="2727360" y="2550240"/>
            <a:ext cx="2071800" cy="201636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0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フリーフォーム 29"/>
          <p:cNvSpPr/>
          <p:nvPr/>
        </p:nvSpPr>
        <p:spPr>
          <a:xfrm rot="6300000">
            <a:off x="6751800" y="3792960"/>
            <a:ext cx="1793880" cy="231300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0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フリーフォーム 30"/>
          <p:cNvSpPr/>
          <p:nvPr/>
        </p:nvSpPr>
        <p:spPr>
          <a:xfrm rot="6300000">
            <a:off x="2756880" y="3263760"/>
            <a:ext cx="2195640" cy="248760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0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フリーフォーム 31"/>
          <p:cNvSpPr/>
          <p:nvPr/>
        </p:nvSpPr>
        <p:spPr>
          <a:xfrm rot="6300000">
            <a:off x="4525560" y="3897000"/>
            <a:ext cx="1805040" cy="217332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0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フリーフォーム 41"/>
          <p:cNvSpPr/>
          <p:nvPr/>
        </p:nvSpPr>
        <p:spPr>
          <a:xfrm rot="5400000">
            <a:off x="3112560" y="-125280"/>
            <a:ext cx="2332080" cy="295452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9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フリーフォーム 42"/>
          <p:cNvSpPr/>
          <p:nvPr/>
        </p:nvSpPr>
        <p:spPr>
          <a:xfrm rot="5400000">
            <a:off x="319320" y="586440"/>
            <a:ext cx="2071440" cy="201924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9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フリーフォーム 43"/>
          <p:cNvSpPr/>
          <p:nvPr/>
        </p:nvSpPr>
        <p:spPr>
          <a:xfrm rot="5400000">
            <a:off x="4350960" y="1839600"/>
            <a:ext cx="1793880" cy="231444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9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フリーフォーム 44"/>
          <p:cNvSpPr/>
          <p:nvPr/>
        </p:nvSpPr>
        <p:spPr>
          <a:xfrm rot="5400000">
            <a:off x="330840" y="2391480"/>
            <a:ext cx="2195640" cy="248904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9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フリーフォーム 45"/>
          <p:cNvSpPr/>
          <p:nvPr/>
        </p:nvSpPr>
        <p:spPr>
          <a:xfrm rot="5400000">
            <a:off x="2125440" y="1941480"/>
            <a:ext cx="1803240" cy="217188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9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フリーフォーム 46"/>
          <p:cNvSpPr/>
          <p:nvPr/>
        </p:nvSpPr>
        <p:spPr>
          <a:xfrm rot="11700000">
            <a:off x="5378040" y="1636560"/>
            <a:ext cx="2525760" cy="272736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6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フリーフォーム 47"/>
          <p:cNvSpPr/>
          <p:nvPr/>
        </p:nvSpPr>
        <p:spPr>
          <a:xfrm rot="11700000">
            <a:off x="2481120" y="2391840"/>
            <a:ext cx="2244960" cy="186372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6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フリーフォーム 48"/>
          <p:cNvSpPr/>
          <p:nvPr/>
        </p:nvSpPr>
        <p:spPr>
          <a:xfrm rot="11700000">
            <a:off x="750960" y="2343960"/>
            <a:ext cx="2381040" cy="229716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60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フリーフォーム 49"/>
          <p:cNvSpPr/>
          <p:nvPr/>
        </p:nvSpPr>
        <p:spPr>
          <a:xfrm rot="5569200">
            <a:off x="5355000" y="1040400"/>
            <a:ext cx="2332080" cy="295596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7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フリーフォーム 50"/>
          <p:cNvSpPr/>
          <p:nvPr/>
        </p:nvSpPr>
        <p:spPr>
          <a:xfrm rot="5569200">
            <a:off x="5304240" y="-48240"/>
            <a:ext cx="2071440" cy="201924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7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フリーフォーム 51"/>
          <p:cNvSpPr/>
          <p:nvPr/>
        </p:nvSpPr>
        <p:spPr>
          <a:xfrm rot="5569200">
            <a:off x="7418160" y="4298760"/>
            <a:ext cx="1793880" cy="231480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7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フリーフォーム 52"/>
          <p:cNvSpPr/>
          <p:nvPr/>
        </p:nvSpPr>
        <p:spPr>
          <a:xfrm rot="5569200">
            <a:off x="5358240" y="1720080"/>
            <a:ext cx="2195640" cy="248580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7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フリーフォーム 53"/>
          <p:cNvSpPr/>
          <p:nvPr/>
        </p:nvSpPr>
        <p:spPr>
          <a:xfrm rot="5569200">
            <a:off x="7167240" y="1254240"/>
            <a:ext cx="1803240" cy="217476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87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フリーフォーム 54"/>
          <p:cNvSpPr/>
          <p:nvPr/>
        </p:nvSpPr>
        <p:spPr>
          <a:xfrm rot="11869200">
            <a:off x="3398400" y="4128840"/>
            <a:ext cx="2527200" cy="272556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4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フリーフォーム 55"/>
          <p:cNvSpPr/>
          <p:nvPr/>
        </p:nvSpPr>
        <p:spPr>
          <a:xfrm rot="11869200">
            <a:off x="7530840" y="1712160"/>
            <a:ext cx="2243160" cy="186372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4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フリーフォーム 56"/>
          <p:cNvSpPr/>
          <p:nvPr/>
        </p:nvSpPr>
        <p:spPr>
          <a:xfrm rot="11869200">
            <a:off x="777240" y="4258440"/>
            <a:ext cx="1942920" cy="213516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4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フリーフォーム 57"/>
          <p:cNvSpPr/>
          <p:nvPr/>
        </p:nvSpPr>
        <p:spPr>
          <a:xfrm rot="11869200">
            <a:off x="5451480" y="4179960"/>
            <a:ext cx="2378160" cy="229536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4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フリーフォーム 58"/>
          <p:cNvSpPr/>
          <p:nvPr/>
        </p:nvSpPr>
        <p:spPr>
          <a:xfrm rot="11869200">
            <a:off x="6366960" y="4344480"/>
            <a:ext cx="1954440" cy="200520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4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フリーフォーム 59"/>
          <p:cNvSpPr/>
          <p:nvPr/>
        </p:nvSpPr>
        <p:spPr>
          <a:xfrm rot="10969200">
            <a:off x="6603480" y="171000"/>
            <a:ext cx="2525760" cy="272736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33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フリーフォーム 60"/>
          <p:cNvSpPr/>
          <p:nvPr/>
        </p:nvSpPr>
        <p:spPr>
          <a:xfrm rot="10969200">
            <a:off x="2393640" y="261720"/>
            <a:ext cx="2244600" cy="186192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33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フリーフォーム 61"/>
          <p:cNvSpPr/>
          <p:nvPr/>
        </p:nvSpPr>
        <p:spPr>
          <a:xfrm rot="10969200">
            <a:off x="3912840" y="3147480"/>
            <a:ext cx="1942920" cy="213696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33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フリーフォーム 62"/>
          <p:cNvSpPr/>
          <p:nvPr/>
        </p:nvSpPr>
        <p:spPr>
          <a:xfrm rot="10969200">
            <a:off x="347040" y="192240"/>
            <a:ext cx="2377800" cy="229536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33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フリーフォーム 63"/>
          <p:cNvSpPr/>
          <p:nvPr/>
        </p:nvSpPr>
        <p:spPr>
          <a:xfrm rot="10969200">
            <a:off x="6939000" y="1110960"/>
            <a:ext cx="1954080" cy="200664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33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フリーフォーム 64"/>
          <p:cNvSpPr/>
          <p:nvPr/>
        </p:nvSpPr>
        <p:spPr>
          <a:xfrm rot="17269200">
            <a:off x="7467480" y="-41760"/>
            <a:ext cx="2333880" cy="295308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70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フリーフォーム 65"/>
          <p:cNvSpPr/>
          <p:nvPr/>
        </p:nvSpPr>
        <p:spPr>
          <a:xfrm rot="17269200">
            <a:off x="4181400" y="2277360"/>
            <a:ext cx="2071800" cy="201780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70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フリーフォーム 66"/>
          <p:cNvSpPr/>
          <p:nvPr/>
        </p:nvSpPr>
        <p:spPr>
          <a:xfrm rot="17269200">
            <a:off x="7536600" y="2089440"/>
            <a:ext cx="2195640" cy="248940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7032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フリーフォーム 67"/>
          <p:cNvSpPr/>
          <p:nvPr/>
        </p:nvSpPr>
        <p:spPr>
          <a:xfrm rot="6490800">
            <a:off x="245520" y="2669760"/>
            <a:ext cx="2070000" cy="201924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78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フリーフォーム 68"/>
          <p:cNvSpPr/>
          <p:nvPr/>
        </p:nvSpPr>
        <p:spPr>
          <a:xfrm rot="6490800">
            <a:off x="4351680" y="3855240"/>
            <a:ext cx="1793880" cy="231300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78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フリーフォーム 69"/>
          <p:cNvSpPr/>
          <p:nvPr/>
        </p:nvSpPr>
        <p:spPr>
          <a:xfrm rot="6490800">
            <a:off x="298800" y="4437720"/>
            <a:ext cx="2195640" cy="248940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78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フリーフォーム 70"/>
          <p:cNvSpPr/>
          <p:nvPr/>
        </p:nvSpPr>
        <p:spPr>
          <a:xfrm rot="6490800">
            <a:off x="2108160" y="3973680"/>
            <a:ext cx="1805040" cy="217296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78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フリーフォーム 71"/>
          <p:cNvSpPr/>
          <p:nvPr/>
        </p:nvSpPr>
        <p:spPr>
          <a:xfrm rot="12790800">
            <a:off x="5265000" y="3728520"/>
            <a:ext cx="2529000" cy="272736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15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フリーフォーム 72"/>
          <p:cNvSpPr/>
          <p:nvPr/>
        </p:nvSpPr>
        <p:spPr>
          <a:xfrm rot="12790800">
            <a:off x="2471040" y="4431600"/>
            <a:ext cx="2244600" cy="186372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15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フリーフォーム 73"/>
          <p:cNvSpPr/>
          <p:nvPr/>
        </p:nvSpPr>
        <p:spPr>
          <a:xfrm rot="12790800">
            <a:off x="1592280" y="3684240"/>
            <a:ext cx="1944720" cy="213516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15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フリーフォーム 74"/>
          <p:cNvSpPr/>
          <p:nvPr/>
        </p:nvSpPr>
        <p:spPr>
          <a:xfrm rot="12790800">
            <a:off x="4765680" y="2327400"/>
            <a:ext cx="2378160" cy="229536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15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フリーフォーム 75"/>
          <p:cNvSpPr/>
          <p:nvPr/>
        </p:nvSpPr>
        <p:spPr>
          <a:xfrm rot="12790800">
            <a:off x="6467040" y="691560"/>
            <a:ext cx="1954440" cy="200484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15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フリーフォーム 76"/>
          <p:cNvSpPr/>
          <p:nvPr/>
        </p:nvSpPr>
        <p:spPr>
          <a:xfrm rot="11890800">
            <a:off x="61560" y="2469600"/>
            <a:ext cx="2244600" cy="186372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4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フリーフォーム 77"/>
          <p:cNvSpPr/>
          <p:nvPr/>
        </p:nvSpPr>
        <p:spPr>
          <a:xfrm rot="11890800">
            <a:off x="4106160" y="3735000"/>
            <a:ext cx="1942920" cy="213516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4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フリーフォーム 78"/>
          <p:cNvSpPr/>
          <p:nvPr/>
        </p:nvSpPr>
        <p:spPr>
          <a:xfrm rot="11890800">
            <a:off x="6980040" y="893880"/>
            <a:ext cx="2381040" cy="229536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4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フリーフォーム 79"/>
          <p:cNvSpPr/>
          <p:nvPr/>
        </p:nvSpPr>
        <p:spPr>
          <a:xfrm rot="11890800">
            <a:off x="1879200" y="3830040"/>
            <a:ext cx="1955880" cy="200484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4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フリーフォーム 80"/>
          <p:cNvSpPr/>
          <p:nvPr/>
        </p:nvSpPr>
        <p:spPr>
          <a:xfrm rot="18190800">
            <a:off x="5303520" y="3328560"/>
            <a:ext cx="2332080" cy="295416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61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フリーフォーム 81"/>
          <p:cNvSpPr/>
          <p:nvPr/>
        </p:nvSpPr>
        <p:spPr>
          <a:xfrm rot="18190800">
            <a:off x="2650320" y="1309680"/>
            <a:ext cx="2071800" cy="201924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61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フリーフォーム 82"/>
          <p:cNvSpPr/>
          <p:nvPr/>
        </p:nvSpPr>
        <p:spPr>
          <a:xfrm rot="18190800">
            <a:off x="2681640" y="3075480"/>
            <a:ext cx="2195640" cy="248580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6108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フリーフォーム 83"/>
          <p:cNvSpPr/>
          <p:nvPr/>
        </p:nvSpPr>
        <p:spPr>
          <a:xfrm rot="12060600">
            <a:off x="5087880" y="2960640"/>
            <a:ext cx="2525760" cy="2727360"/>
          </a:xfrm>
          <a:custGeom>
            <a:avLst/>
            <a:gdLst/>
            <a:ahLst/>
            <a:rect l="l" t="t" r="r" b="b"/>
            <a:pathLst>
              <a:path w="2505996" h="2929331">
                <a:moveTo>
                  <a:pt x="83999" y="2859295"/>
                </a:moveTo>
                <a:cubicBezTo>
                  <a:pt x="209766" y="2709854"/>
                  <a:pt x="618139" y="2098774"/>
                  <a:pt x="829723" y="1856118"/>
                </a:cubicBezTo>
                <a:cubicBezTo>
                  <a:pt x="1041308" y="1613462"/>
                  <a:pt x="1116768" y="1499532"/>
                  <a:pt x="1353506" y="1403357"/>
                </a:cubicBezTo>
                <a:cubicBezTo>
                  <a:pt x="1590244" y="1307182"/>
                  <a:pt x="2060760" y="1299784"/>
                  <a:pt x="2250150" y="1279070"/>
                </a:cubicBezTo>
                <a:cubicBezTo>
                  <a:pt x="2439540" y="1258356"/>
                  <a:pt x="2452857" y="1319019"/>
                  <a:pt x="2489847" y="1279070"/>
                </a:cubicBezTo>
                <a:cubicBezTo>
                  <a:pt x="2526837" y="1239121"/>
                  <a:pt x="2491327" y="1092639"/>
                  <a:pt x="2472092" y="1039373"/>
                </a:cubicBezTo>
                <a:cubicBezTo>
                  <a:pt x="2452857" y="986107"/>
                  <a:pt x="2383316" y="1000903"/>
                  <a:pt x="2374438" y="959474"/>
                </a:cubicBezTo>
                <a:cubicBezTo>
                  <a:pt x="2365560" y="918045"/>
                  <a:pt x="2451377" y="838146"/>
                  <a:pt x="2418826" y="790798"/>
                </a:cubicBezTo>
                <a:cubicBezTo>
                  <a:pt x="2386275" y="743450"/>
                  <a:pt x="2213160" y="716817"/>
                  <a:pt x="2179129" y="675388"/>
                </a:cubicBezTo>
                <a:cubicBezTo>
                  <a:pt x="2145098" y="633959"/>
                  <a:pt x="2236834" y="599928"/>
                  <a:pt x="2214640" y="542223"/>
                </a:cubicBezTo>
                <a:cubicBezTo>
                  <a:pt x="2192446" y="484518"/>
                  <a:pt x="2102189" y="367629"/>
                  <a:pt x="2045964" y="329159"/>
                </a:cubicBezTo>
                <a:cubicBezTo>
                  <a:pt x="1989739" y="290689"/>
                  <a:pt x="1918717" y="340996"/>
                  <a:pt x="1877288" y="311404"/>
                </a:cubicBezTo>
                <a:cubicBezTo>
                  <a:pt x="1835859" y="281812"/>
                  <a:pt x="1849175" y="188596"/>
                  <a:pt x="1797389" y="151606"/>
                </a:cubicBezTo>
                <a:cubicBezTo>
                  <a:pt x="1745603" y="114616"/>
                  <a:pt x="1642030" y="92421"/>
                  <a:pt x="1566570" y="89462"/>
                </a:cubicBezTo>
                <a:cubicBezTo>
                  <a:pt x="1491110" y="86503"/>
                  <a:pt x="1418609" y="148647"/>
                  <a:pt x="1344628" y="133851"/>
                </a:cubicBezTo>
                <a:cubicBezTo>
                  <a:pt x="1270647" y="119055"/>
                  <a:pt x="1181871" y="3644"/>
                  <a:pt x="1122686" y="685"/>
                </a:cubicBezTo>
                <a:cubicBezTo>
                  <a:pt x="1063502" y="-2274"/>
                  <a:pt x="971766" y="-794"/>
                  <a:pt x="989521" y="116095"/>
                </a:cubicBezTo>
                <a:cubicBezTo>
                  <a:pt x="1007276" y="232984"/>
                  <a:pt x="1190748" y="530386"/>
                  <a:pt x="1229218" y="702021"/>
                </a:cubicBezTo>
                <a:cubicBezTo>
                  <a:pt x="1267688" y="873656"/>
                  <a:pt x="1245494" y="1021618"/>
                  <a:pt x="1220341" y="1145905"/>
                </a:cubicBezTo>
                <a:cubicBezTo>
                  <a:pt x="1195188" y="1270192"/>
                  <a:pt x="1181871" y="1305703"/>
                  <a:pt x="1078298" y="1447746"/>
                </a:cubicBezTo>
                <a:cubicBezTo>
                  <a:pt x="974725" y="1589789"/>
                  <a:pt x="766100" y="1780658"/>
                  <a:pt x="598904" y="1998161"/>
                </a:cubicBezTo>
                <a:cubicBezTo>
                  <a:pt x="431708" y="2215664"/>
                  <a:pt x="160938" y="2612200"/>
                  <a:pt x="75121" y="2752763"/>
                </a:cubicBezTo>
                <a:cubicBezTo>
                  <a:pt x="-10696" y="2893326"/>
                  <a:pt x="-41768" y="3008736"/>
                  <a:pt x="83999" y="285929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24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フリーフォーム 84"/>
          <p:cNvSpPr/>
          <p:nvPr/>
        </p:nvSpPr>
        <p:spPr>
          <a:xfrm rot="12060600">
            <a:off x="5095440" y="3620880"/>
            <a:ext cx="2378160" cy="229536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24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フリーフォーム 85"/>
          <p:cNvSpPr/>
          <p:nvPr/>
        </p:nvSpPr>
        <p:spPr>
          <a:xfrm rot="12060600">
            <a:off x="6919200" y="3144600"/>
            <a:ext cx="1955880" cy="200484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1224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フリーフォーム 86"/>
          <p:cNvSpPr/>
          <p:nvPr/>
        </p:nvSpPr>
        <p:spPr>
          <a:xfrm rot="18360600">
            <a:off x="7445880" y="3440520"/>
            <a:ext cx="2071800" cy="201924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594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フリーフォーム 87"/>
          <p:cNvSpPr/>
          <p:nvPr/>
        </p:nvSpPr>
        <p:spPr>
          <a:xfrm rot="17461200">
            <a:off x="2618280" y="93960"/>
            <a:ext cx="1793880" cy="2313000"/>
          </a:xfrm>
          <a:custGeom>
            <a:avLst/>
            <a:gdLst/>
            <a:ahLst/>
            <a:rect l="l" t="t" r="r" b="b"/>
            <a:pathLst>
              <a:path w="2074544" h="2469452">
                <a:moveTo>
                  <a:pt x="352237" y="2434850"/>
                </a:moveTo>
                <a:cubicBezTo>
                  <a:pt x="350757" y="2365308"/>
                  <a:pt x="355197" y="2144846"/>
                  <a:pt x="414381" y="1973211"/>
                </a:cubicBezTo>
                <a:cubicBezTo>
                  <a:pt x="473565" y="1801576"/>
                  <a:pt x="655558" y="1530807"/>
                  <a:pt x="707344" y="1405040"/>
                </a:cubicBezTo>
                <a:cubicBezTo>
                  <a:pt x="759130" y="1279273"/>
                  <a:pt x="759130" y="1308865"/>
                  <a:pt x="725099" y="1218609"/>
                </a:cubicBezTo>
                <a:cubicBezTo>
                  <a:pt x="691068" y="1128353"/>
                  <a:pt x="611170" y="999626"/>
                  <a:pt x="503158" y="863502"/>
                </a:cubicBezTo>
                <a:cubicBezTo>
                  <a:pt x="395146" y="727378"/>
                  <a:pt x="155448" y="520233"/>
                  <a:pt x="77029" y="401864"/>
                </a:cubicBezTo>
                <a:cubicBezTo>
                  <a:pt x="-1390" y="283495"/>
                  <a:pt x="-26543" y="212473"/>
                  <a:pt x="32641" y="153289"/>
                </a:cubicBezTo>
                <a:cubicBezTo>
                  <a:pt x="91825" y="94105"/>
                  <a:pt x="343359" y="60074"/>
                  <a:pt x="432136" y="46757"/>
                </a:cubicBezTo>
                <a:cubicBezTo>
                  <a:pt x="520913" y="33440"/>
                  <a:pt x="488361" y="76349"/>
                  <a:pt x="565301" y="73390"/>
                </a:cubicBezTo>
                <a:cubicBezTo>
                  <a:pt x="642241" y="70431"/>
                  <a:pt x="810917" y="39358"/>
                  <a:pt x="893775" y="29001"/>
                </a:cubicBezTo>
                <a:cubicBezTo>
                  <a:pt x="976633" y="18644"/>
                  <a:pt x="964797" y="-18346"/>
                  <a:pt x="1062451" y="11246"/>
                </a:cubicBezTo>
                <a:cubicBezTo>
                  <a:pt x="1160105" y="40838"/>
                  <a:pt x="1359853" y="171044"/>
                  <a:pt x="1479701" y="206555"/>
                </a:cubicBezTo>
                <a:cubicBezTo>
                  <a:pt x="1599550" y="242066"/>
                  <a:pt x="1723837" y="163646"/>
                  <a:pt x="1781542" y="224310"/>
                </a:cubicBezTo>
                <a:cubicBezTo>
                  <a:pt x="1839247" y="284974"/>
                  <a:pt x="1790419" y="503957"/>
                  <a:pt x="1825930" y="570539"/>
                </a:cubicBezTo>
                <a:cubicBezTo>
                  <a:pt x="1861441" y="637121"/>
                  <a:pt x="1953177" y="554263"/>
                  <a:pt x="1994606" y="623805"/>
                </a:cubicBezTo>
                <a:cubicBezTo>
                  <a:pt x="2036035" y="693347"/>
                  <a:pt x="2075985" y="847227"/>
                  <a:pt x="2074505" y="987790"/>
                </a:cubicBezTo>
                <a:cubicBezTo>
                  <a:pt x="2073025" y="1128353"/>
                  <a:pt x="2000524" y="1351775"/>
                  <a:pt x="1985728" y="1467184"/>
                </a:cubicBezTo>
                <a:cubicBezTo>
                  <a:pt x="1970932" y="1582593"/>
                  <a:pt x="2006443" y="1640298"/>
                  <a:pt x="1985728" y="1680248"/>
                </a:cubicBezTo>
                <a:cubicBezTo>
                  <a:pt x="1965014" y="1720197"/>
                  <a:pt x="2006443" y="1748310"/>
                  <a:pt x="1861441" y="1706881"/>
                </a:cubicBezTo>
                <a:cubicBezTo>
                  <a:pt x="1716439" y="1665452"/>
                  <a:pt x="1285872" y="1481980"/>
                  <a:pt x="1115717" y="1431673"/>
                </a:cubicBezTo>
                <a:cubicBezTo>
                  <a:pt x="945562" y="1381366"/>
                  <a:pt x="908571" y="1381366"/>
                  <a:pt x="840509" y="1405040"/>
                </a:cubicBezTo>
                <a:cubicBezTo>
                  <a:pt x="772447" y="1428714"/>
                  <a:pt x="772447" y="1467184"/>
                  <a:pt x="707344" y="1573716"/>
                </a:cubicBezTo>
                <a:cubicBezTo>
                  <a:pt x="642241" y="1680248"/>
                  <a:pt x="497240" y="1908109"/>
                  <a:pt x="449892" y="2044233"/>
                </a:cubicBezTo>
                <a:cubicBezTo>
                  <a:pt x="402544" y="2180357"/>
                  <a:pt x="438055" y="2322400"/>
                  <a:pt x="423259" y="2390462"/>
                </a:cubicBezTo>
                <a:cubicBezTo>
                  <a:pt x="408463" y="2458524"/>
                  <a:pt x="353717" y="2504392"/>
                  <a:pt x="352237" y="24348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684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フリーフォーム 88"/>
          <p:cNvSpPr/>
          <p:nvPr/>
        </p:nvSpPr>
        <p:spPr>
          <a:xfrm rot="17461200">
            <a:off x="6842880" y="2834280"/>
            <a:ext cx="1805040" cy="2171520"/>
          </a:xfrm>
          <a:custGeom>
            <a:avLst/>
            <a:gdLst/>
            <a:ahLst/>
            <a:rect l="l" t="t" r="r" b="b"/>
            <a:pathLst>
              <a:path w="1376105" h="1529234">
                <a:moveTo>
                  <a:pt x="887617" y="747239"/>
                </a:moveTo>
                <a:cubicBezTo>
                  <a:pt x="886347" y="691359"/>
                  <a:pt x="878727" y="563089"/>
                  <a:pt x="895237" y="472919"/>
                </a:cubicBezTo>
                <a:cubicBezTo>
                  <a:pt x="911747" y="382749"/>
                  <a:pt x="975247" y="269719"/>
                  <a:pt x="986677" y="206219"/>
                </a:cubicBezTo>
                <a:cubicBezTo>
                  <a:pt x="998107" y="142719"/>
                  <a:pt x="977787" y="119859"/>
                  <a:pt x="963817" y="91919"/>
                </a:cubicBezTo>
                <a:cubicBezTo>
                  <a:pt x="949847" y="63979"/>
                  <a:pt x="943497" y="47469"/>
                  <a:pt x="902857" y="38579"/>
                </a:cubicBezTo>
                <a:cubicBezTo>
                  <a:pt x="862217" y="29689"/>
                  <a:pt x="774587" y="44929"/>
                  <a:pt x="719977" y="38579"/>
                </a:cubicBezTo>
                <a:cubicBezTo>
                  <a:pt x="665367" y="32229"/>
                  <a:pt x="613297" y="-4601"/>
                  <a:pt x="575197" y="479"/>
                </a:cubicBezTo>
                <a:cubicBezTo>
                  <a:pt x="537097" y="5559"/>
                  <a:pt x="515507" y="48739"/>
                  <a:pt x="491377" y="69059"/>
                </a:cubicBezTo>
                <a:cubicBezTo>
                  <a:pt x="467247" y="89379"/>
                  <a:pt x="420257" y="70329"/>
                  <a:pt x="430417" y="122399"/>
                </a:cubicBezTo>
                <a:cubicBezTo>
                  <a:pt x="440577" y="174469"/>
                  <a:pt x="557417" y="364969"/>
                  <a:pt x="552337" y="381479"/>
                </a:cubicBezTo>
                <a:cubicBezTo>
                  <a:pt x="547257" y="397989"/>
                  <a:pt x="427877" y="251939"/>
                  <a:pt x="399937" y="221459"/>
                </a:cubicBezTo>
                <a:cubicBezTo>
                  <a:pt x="371997" y="190979"/>
                  <a:pt x="396127" y="194789"/>
                  <a:pt x="384697" y="198599"/>
                </a:cubicBezTo>
                <a:cubicBezTo>
                  <a:pt x="373267" y="202409"/>
                  <a:pt x="359297" y="231619"/>
                  <a:pt x="331357" y="244319"/>
                </a:cubicBezTo>
                <a:cubicBezTo>
                  <a:pt x="303417" y="257019"/>
                  <a:pt x="242457" y="258289"/>
                  <a:pt x="217057" y="274799"/>
                </a:cubicBezTo>
                <a:cubicBezTo>
                  <a:pt x="191657" y="291309"/>
                  <a:pt x="196737" y="305279"/>
                  <a:pt x="178957" y="343379"/>
                </a:cubicBezTo>
                <a:cubicBezTo>
                  <a:pt x="161177" y="381479"/>
                  <a:pt x="117997" y="466569"/>
                  <a:pt x="110377" y="503399"/>
                </a:cubicBezTo>
                <a:cubicBezTo>
                  <a:pt x="102757" y="540229"/>
                  <a:pt x="145937" y="536419"/>
                  <a:pt x="133237" y="564359"/>
                </a:cubicBezTo>
                <a:cubicBezTo>
                  <a:pt x="120537" y="592299"/>
                  <a:pt x="49417" y="640559"/>
                  <a:pt x="34177" y="671039"/>
                </a:cubicBezTo>
                <a:cubicBezTo>
                  <a:pt x="18937" y="701519"/>
                  <a:pt x="45607" y="721839"/>
                  <a:pt x="41797" y="747239"/>
                </a:cubicBezTo>
                <a:cubicBezTo>
                  <a:pt x="37987" y="772639"/>
                  <a:pt x="4967" y="803119"/>
                  <a:pt x="11317" y="823439"/>
                </a:cubicBezTo>
                <a:cubicBezTo>
                  <a:pt x="17667" y="843759"/>
                  <a:pt x="81167" y="851379"/>
                  <a:pt x="79897" y="869159"/>
                </a:cubicBezTo>
                <a:cubicBezTo>
                  <a:pt x="78627" y="886939"/>
                  <a:pt x="10047" y="900909"/>
                  <a:pt x="3697" y="930119"/>
                </a:cubicBezTo>
                <a:cubicBezTo>
                  <a:pt x="-2653" y="959329"/>
                  <a:pt x="-6463" y="1030449"/>
                  <a:pt x="41797" y="1044419"/>
                </a:cubicBezTo>
                <a:cubicBezTo>
                  <a:pt x="90057" y="1058389"/>
                  <a:pt x="191657" y="1036799"/>
                  <a:pt x="293257" y="1013939"/>
                </a:cubicBezTo>
                <a:cubicBezTo>
                  <a:pt x="394857" y="991079"/>
                  <a:pt x="558687" y="932659"/>
                  <a:pt x="651397" y="907259"/>
                </a:cubicBezTo>
                <a:cubicBezTo>
                  <a:pt x="744107" y="881859"/>
                  <a:pt x="786017" y="836139"/>
                  <a:pt x="849517" y="861539"/>
                </a:cubicBezTo>
                <a:cubicBezTo>
                  <a:pt x="913017" y="886939"/>
                  <a:pt x="965087" y="973299"/>
                  <a:pt x="1032397" y="1059659"/>
                </a:cubicBezTo>
                <a:cubicBezTo>
                  <a:pt x="1099707" y="1146019"/>
                  <a:pt x="1206387" y="1302229"/>
                  <a:pt x="1253377" y="1379699"/>
                </a:cubicBezTo>
                <a:cubicBezTo>
                  <a:pt x="1300367" y="1457169"/>
                  <a:pt x="1294017" y="1507969"/>
                  <a:pt x="1314337" y="1524479"/>
                </a:cubicBezTo>
                <a:cubicBezTo>
                  <a:pt x="1334657" y="1540989"/>
                  <a:pt x="1382917" y="1511779"/>
                  <a:pt x="1375297" y="1478759"/>
                </a:cubicBezTo>
                <a:cubicBezTo>
                  <a:pt x="1367677" y="1445739"/>
                  <a:pt x="1268617" y="1326359"/>
                  <a:pt x="1268617" y="1326359"/>
                </a:cubicBezTo>
                <a:cubicBezTo>
                  <a:pt x="1230517" y="1271749"/>
                  <a:pt x="1193687" y="1214599"/>
                  <a:pt x="1146697" y="1151099"/>
                </a:cubicBezTo>
                <a:cubicBezTo>
                  <a:pt x="1099707" y="1087599"/>
                  <a:pt x="1027317" y="1002509"/>
                  <a:pt x="986677" y="945359"/>
                </a:cubicBezTo>
                <a:cubicBezTo>
                  <a:pt x="946037" y="888209"/>
                  <a:pt x="919367" y="839949"/>
                  <a:pt x="902857" y="808199"/>
                </a:cubicBezTo>
                <a:cubicBezTo>
                  <a:pt x="886347" y="776449"/>
                  <a:pt x="888887" y="803119"/>
                  <a:pt x="887617" y="747239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684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フリーフォーム 89"/>
          <p:cNvSpPr/>
          <p:nvPr/>
        </p:nvSpPr>
        <p:spPr>
          <a:xfrm rot="2160600">
            <a:off x="3924000" y="4160880"/>
            <a:ext cx="2244600" cy="1863720"/>
          </a:xfrm>
          <a:custGeom>
            <a:avLst/>
            <a:gdLst/>
            <a:ahLst/>
            <a:rect l="l" t="t" r="r" b="b"/>
            <a:pathLst>
              <a:path w="1919227" h="1726373">
                <a:moveTo>
                  <a:pt x="351346" y="1636883"/>
                </a:moveTo>
                <a:cubicBezTo>
                  <a:pt x="391295" y="1586576"/>
                  <a:pt x="586604" y="1506677"/>
                  <a:pt x="662064" y="1414941"/>
                </a:cubicBezTo>
                <a:cubicBezTo>
                  <a:pt x="737524" y="1323205"/>
                  <a:pt x="790791" y="1169325"/>
                  <a:pt x="804107" y="1086467"/>
                </a:cubicBezTo>
                <a:cubicBezTo>
                  <a:pt x="817424" y="1003609"/>
                  <a:pt x="820383" y="997690"/>
                  <a:pt x="741963" y="917791"/>
                </a:cubicBezTo>
                <a:cubicBezTo>
                  <a:pt x="663544" y="837892"/>
                  <a:pt x="456398" y="703248"/>
                  <a:pt x="333590" y="607073"/>
                </a:cubicBezTo>
                <a:cubicBezTo>
                  <a:pt x="210782" y="510898"/>
                  <a:pt x="36188" y="422122"/>
                  <a:pt x="5116" y="340743"/>
                </a:cubicBezTo>
                <a:cubicBezTo>
                  <a:pt x="-25956" y="259364"/>
                  <a:pt x="92413" y="152832"/>
                  <a:pt x="147159" y="118801"/>
                </a:cubicBezTo>
                <a:cubicBezTo>
                  <a:pt x="201905" y="84770"/>
                  <a:pt x="250732" y="155792"/>
                  <a:pt x="333590" y="136557"/>
                </a:cubicBezTo>
                <a:cubicBezTo>
                  <a:pt x="416448" y="117322"/>
                  <a:pt x="551094" y="19667"/>
                  <a:pt x="644309" y="3391"/>
                </a:cubicBezTo>
                <a:cubicBezTo>
                  <a:pt x="737524" y="-12885"/>
                  <a:pt x="787831" y="34463"/>
                  <a:pt x="892883" y="38902"/>
                </a:cubicBezTo>
                <a:cubicBezTo>
                  <a:pt x="997935" y="43341"/>
                  <a:pt x="1172530" y="-23241"/>
                  <a:pt x="1274623" y="30025"/>
                </a:cubicBezTo>
                <a:cubicBezTo>
                  <a:pt x="1376716" y="83291"/>
                  <a:pt x="1419626" y="266762"/>
                  <a:pt x="1505443" y="358498"/>
                </a:cubicBezTo>
                <a:cubicBezTo>
                  <a:pt x="1591260" y="450234"/>
                  <a:pt x="1742181" y="482786"/>
                  <a:pt x="1789528" y="580440"/>
                </a:cubicBezTo>
                <a:cubicBezTo>
                  <a:pt x="1836875" y="678094"/>
                  <a:pt x="1768813" y="851209"/>
                  <a:pt x="1789528" y="944425"/>
                </a:cubicBezTo>
                <a:cubicBezTo>
                  <a:pt x="1810243" y="1037641"/>
                  <a:pt x="1903458" y="1068712"/>
                  <a:pt x="1913815" y="1139733"/>
                </a:cubicBezTo>
                <a:cubicBezTo>
                  <a:pt x="1924172" y="1210754"/>
                  <a:pt x="1927132" y="1358716"/>
                  <a:pt x="1851672" y="1370553"/>
                </a:cubicBezTo>
                <a:cubicBezTo>
                  <a:pt x="1776212" y="1382390"/>
                  <a:pt x="1600138" y="1250705"/>
                  <a:pt x="1461054" y="1210755"/>
                </a:cubicBezTo>
                <a:cubicBezTo>
                  <a:pt x="1321970" y="1170805"/>
                  <a:pt x="1113346" y="1132336"/>
                  <a:pt x="1017171" y="1130856"/>
                </a:cubicBezTo>
                <a:cubicBezTo>
                  <a:pt x="920996" y="1129376"/>
                  <a:pt x="928394" y="1148611"/>
                  <a:pt x="884006" y="1201877"/>
                </a:cubicBezTo>
                <a:cubicBezTo>
                  <a:pt x="839618" y="1255143"/>
                  <a:pt x="827781" y="1364635"/>
                  <a:pt x="750841" y="1450452"/>
                </a:cubicBezTo>
                <a:cubicBezTo>
                  <a:pt x="673901" y="1536269"/>
                  <a:pt x="488949" y="1682751"/>
                  <a:pt x="422367" y="1716782"/>
                </a:cubicBezTo>
                <a:cubicBezTo>
                  <a:pt x="355785" y="1750813"/>
                  <a:pt x="311397" y="1687190"/>
                  <a:pt x="351346" y="1636883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54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フリーフォーム 90"/>
          <p:cNvSpPr/>
          <p:nvPr/>
        </p:nvSpPr>
        <p:spPr>
          <a:xfrm rot="2160600">
            <a:off x="4843440" y="4264200"/>
            <a:ext cx="2378160" cy="2296800"/>
          </a:xfrm>
          <a:custGeom>
            <a:avLst/>
            <a:gdLst/>
            <a:ahLst/>
            <a:rect l="l" t="t" r="r" b="b"/>
            <a:pathLst>
              <a:path w="1674645" h="1751204">
                <a:moveTo>
                  <a:pt x="107962" y="31050"/>
                </a:moveTo>
                <a:cubicBezTo>
                  <a:pt x="152412" y="98360"/>
                  <a:pt x="405142" y="348550"/>
                  <a:pt x="504202" y="480630"/>
                </a:cubicBezTo>
                <a:cubicBezTo>
                  <a:pt x="603262" y="612710"/>
                  <a:pt x="670572" y="747330"/>
                  <a:pt x="702322" y="823530"/>
                </a:cubicBezTo>
                <a:cubicBezTo>
                  <a:pt x="734072" y="899730"/>
                  <a:pt x="753122" y="862900"/>
                  <a:pt x="694702" y="937830"/>
                </a:cubicBezTo>
                <a:cubicBezTo>
                  <a:pt x="636282" y="1012760"/>
                  <a:pt x="467372" y="1182940"/>
                  <a:pt x="351802" y="1273110"/>
                </a:cubicBezTo>
                <a:cubicBezTo>
                  <a:pt x="236232" y="1363280"/>
                  <a:pt x="-20308" y="1411540"/>
                  <a:pt x="1282" y="1478850"/>
                </a:cubicBezTo>
                <a:cubicBezTo>
                  <a:pt x="22872" y="1546160"/>
                  <a:pt x="360692" y="1633790"/>
                  <a:pt x="481342" y="1676970"/>
                </a:cubicBezTo>
                <a:cubicBezTo>
                  <a:pt x="601992" y="1720150"/>
                  <a:pt x="631202" y="1726500"/>
                  <a:pt x="725182" y="1737930"/>
                </a:cubicBezTo>
                <a:cubicBezTo>
                  <a:pt x="819162" y="1749360"/>
                  <a:pt x="984262" y="1756980"/>
                  <a:pt x="1045222" y="1745550"/>
                </a:cubicBezTo>
                <a:cubicBezTo>
                  <a:pt x="1106182" y="1734120"/>
                  <a:pt x="1083322" y="1690940"/>
                  <a:pt x="1090942" y="1669350"/>
                </a:cubicBezTo>
                <a:cubicBezTo>
                  <a:pt x="1098562" y="1647760"/>
                  <a:pt x="1078242" y="1610930"/>
                  <a:pt x="1090942" y="1616010"/>
                </a:cubicBezTo>
                <a:cubicBezTo>
                  <a:pt x="1103642" y="1621090"/>
                  <a:pt x="1125232" y="1701100"/>
                  <a:pt x="1167142" y="1699830"/>
                </a:cubicBezTo>
                <a:cubicBezTo>
                  <a:pt x="1209052" y="1698560"/>
                  <a:pt x="1303032" y="1635060"/>
                  <a:pt x="1342402" y="1608390"/>
                </a:cubicBezTo>
                <a:cubicBezTo>
                  <a:pt x="1381772" y="1581720"/>
                  <a:pt x="1390662" y="1571560"/>
                  <a:pt x="1403362" y="1539810"/>
                </a:cubicBezTo>
                <a:cubicBezTo>
                  <a:pt x="1416062" y="1508060"/>
                  <a:pt x="1395742" y="1443290"/>
                  <a:pt x="1418602" y="1417890"/>
                </a:cubicBezTo>
                <a:cubicBezTo>
                  <a:pt x="1441462" y="1392490"/>
                  <a:pt x="1504962" y="1395030"/>
                  <a:pt x="1540522" y="1387410"/>
                </a:cubicBezTo>
                <a:cubicBezTo>
                  <a:pt x="1576082" y="1379790"/>
                  <a:pt x="1610372" y="1389950"/>
                  <a:pt x="1631962" y="1372170"/>
                </a:cubicBezTo>
                <a:cubicBezTo>
                  <a:pt x="1653552" y="1354390"/>
                  <a:pt x="1663712" y="1316290"/>
                  <a:pt x="1670062" y="1280730"/>
                </a:cubicBezTo>
                <a:cubicBezTo>
                  <a:pt x="1676412" y="1245170"/>
                  <a:pt x="1670062" y="1158810"/>
                  <a:pt x="1670062" y="1158810"/>
                </a:cubicBezTo>
                <a:cubicBezTo>
                  <a:pt x="1670062" y="1120710"/>
                  <a:pt x="1671332" y="1082610"/>
                  <a:pt x="1670062" y="1052130"/>
                </a:cubicBezTo>
                <a:cubicBezTo>
                  <a:pt x="1668792" y="1021650"/>
                  <a:pt x="1685302" y="983550"/>
                  <a:pt x="1662442" y="975930"/>
                </a:cubicBezTo>
                <a:cubicBezTo>
                  <a:pt x="1639582" y="968310"/>
                  <a:pt x="1623072" y="1010220"/>
                  <a:pt x="1532902" y="1006410"/>
                </a:cubicBezTo>
                <a:cubicBezTo>
                  <a:pt x="1442732" y="1002600"/>
                  <a:pt x="1121422" y="953070"/>
                  <a:pt x="1121422" y="953070"/>
                </a:cubicBezTo>
                <a:cubicBezTo>
                  <a:pt x="1008392" y="937830"/>
                  <a:pt x="910602" y="927670"/>
                  <a:pt x="854722" y="914970"/>
                </a:cubicBezTo>
                <a:cubicBezTo>
                  <a:pt x="798842" y="902270"/>
                  <a:pt x="816622" y="917510"/>
                  <a:pt x="786142" y="876870"/>
                </a:cubicBezTo>
                <a:cubicBezTo>
                  <a:pt x="755662" y="836230"/>
                  <a:pt x="726452" y="761300"/>
                  <a:pt x="671842" y="671130"/>
                </a:cubicBezTo>
                <a:cubicBezTo>
                  <a:pt x="617232" y="580960"/>
                  <a:pt x="530872" y="434910"/>
                  <a:pt x="458482" y="335850"/>
                </a:cubicBezTo>
                <a:cubicBezTo>
                  <a:pt x="386092" y="236790"/>
                  <a:pt x="293382" y="135190"/>
                  <a:pt x="237502" y="76770"/>
                </a:cubicBezTo>
                <a:cubicBezTo>
                  <a:pt x="181622" y="18350"/>
                  <a:pt x="63512" y="-36260"/>
                  <a:pt x="107962" y="3105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ff00"/>
              </a:gs>
            </a:gsLst>
            <a:lin ang="54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正方形/長方形 13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フリーフォーム 135"/>
          <p:cNvSpPr/>
          <p:nvPr/>
        </p:nvSpPr>
        <p:spPr>
          <a:xfrm>
            <a:off x="5961240" y="4295880"/>
            <a:ext cx="3763800" cy="2354040"/>
          </a:xfrm>
          <a:custGeom>
            <a:avLst/>
            <a:gdLst/>
            <a:ahLst/>
            <a:rect l="l" t="t" r="r" b="b"/>
            <a:pathLst>
              <a:path w="5820309" h="3942257">
                <a:moveTo>
                  <a:pt x="5730394" y="1531663"/>
                </a:moveTo>
                <a:cubicBezTo>
                  <a:pt x="5668164" y="1516423"/>
                  <a:pt x="5537354" y="1546903"/>
                  <a:pt x="5372254" y="1554523"/>
                </a:cubicBezTo>
                <a:cubicBezTo>
                  <a:pt x="5207154" y="1562143"/>
                  <a:pt x="4856634" y="1577383"/>
                  <a:pt x="4739794" y="1577383"/>
                </a:cubicBezTo>
                <a:cubicBezTo>
                  <a:pt x="4622954" y="1577383"/>
                  <a:pt x="4696614" y="1597703"/>
                  <a:pt x="4671214" y="1554523"/>
                </a:cubicBezTo>
                <a:cubicBezTo>
                  <a:pt x="4645814" y="1511343"/>
                  <a:pt x="4620414" y="1374183"/>
                  <a:pt x="4587394" y="1318303"/>
                </a:cubicBezTo>
                <a:cubicBezTo>
                  <a:pt x="4554374" y="1262423"/>
                  <a:pt x="4503574" y="1228133"/>
                  <a:pt x="4473094" y="1219243"/>
                </a:cubicBezTo>
                <a:cubicBezTo>
                  <a:pt x="4442614" y="1210353"/>
                  <a:pt x="4450234" y="1268773"/>
                  <a:pt x="4404514" y="1264963"/>
                </a:cubicBezTo>
                <a:cubicBezTo>
                  <a:pt x="4358794" y="1261153"/>
                  <a:pt x="4261004" y="1254803"/>
                  <a:pt x="4198774" y="1196383"/>
                </a:cubicBezTo>
                <a:cubicBezTo>
                  <a:pt x="4136544" y="1137963"/>
                  <a:pt x="4088284" y="1000803"/>
                  <a:pt x="4031134" y="914443"/>
                </a:cubicBezTo>
                <a:cubicBezTo>
                  <a:pt x="3973984" y="828083"/>
                  <a:pt x="3891434" y="673143"/>
                  <a:pt x="3855874" y="678223"/>
                </a:cubicBezTo>
                <a:cubicBezTo>
                  <a:pt x="3820314" y="683303"/>
                  <a:pt x="3825394" y="859833"/>
                  <a:pt x="3817774" y="944923"/>
                </a:cubicBezTo>
                <a:cubicBezTo>
                  <a:pt x="3810154" y="1030013"/>
                  <a:pt x="3836824" y="1164633"/>
                  <a:pt x="3810154" y="1188763"/>
                </a:cubicBezTo>
                <a:cubicBezTo>
                  <a:pt x="3783484" y="1212893"/>
                  <a:pt x="3706014" y="1168443"/>
                  <a:pt x="3657754" y="1089703"/>
                </a:cubicBezTo>
                <a:cubicBezTo>
                  <a:pt x="3609494" y="1010963"/>
                  <a:pt x="3535834" y="806493"/>
                  <a:pt x="3520594" y="716323"/>
                </a:cubicBezTo>
                <a:cubicBezTo>
                  <a:pt x="3505354" y="626153"/>
                  <a:pt x="3613304" y="607103"/>
                  <a:pt x="3566314" y="548683"/>
                </a:cubicBezTo>
                <a:cubicBezTo>
                  <a:pt x="3519324" y="490263"/>
                  <a:pt x="3305964" y="410253"/>
                  <a:pt x="3238654" y="365803"/>
                </a:cubicBezTo>
                <a:cubicBezTo>
                  <a:pt x="3171344" y="321353"/>
                  <a:pt x="3191664" y="261663"/>
                  <a:pt x="3162454" y="281983"/>
                </a:cubicBezTo>
                <a:cubicBezTo>
                  <a:pt x="3133244" y="302303"/>
                  <a:pt x="3097684" y="434383"/>
                  <a:pt x="3063394" y="487723"/>
                </a:cubicBezTo>
                <a:cubicBezTo>
                  <a:pt x="3029104" y="541063"/>
                  <a:pt x="2959254" y="556303"/>
                  <a:pt x="2956714" y="602023"/>
                </a:cubicBezTo>
                <a:cubicBezTo>
                  <a:pt x="2954174" y="647743"/>
                  <a:pt x="3037994" y="675683"/>
                  <a:pt x="3048154" y="762043"/>
                </a:cubicBezTo>
                <a:cubicBezTo>
                  <a:pt x="3058314" y="848403"/>
                  <a:pt x="3045614" y="1069383"/>
                  <a:pt x="3017674" y="1120183"/>
                </a:cubicBezTo>
                <a:cubicBezTo>
                  <a:pt x="2989734" y="1170983"/>
                  <a:pt x="2937664" y="1154473"/>
                  <a:pt x="2880514" y="1066843"/>
                </a:cubicBezTo>
                <a:cubicBezTo>
                  <a:pt x="2823364" y="979213"/>
                  <a:pt x="2712874" y="716323"/>
                  <a:pt x="2674774" y="594403"/>
                </a:cubicBezTo>
                <a:cubicBezTo>
                  <a:pt x="2636674" y="472483"/>
                  <a:pt x="2663344" y="384853"/>
                  <a:pt x="2651914" y="335323"/>
                </a:cubicBezTo>
                <a:cubicBezTo>
                  <a:pt x="2640484" y="285793"/>
                  <a:pt x="2650644" y="353103"/>
                  <a:pt x="2606194" y="297223"/>
                </a:cubicBezTo>
                <a:cubicBezTo>
                  <a:pt x="2561744" y="241343"/>
                  <a:pt x="2443634" y="-3767"/>
                  <a:pt x="2385214" y="43"/>
                </a:cubicBezTo>
                <a:cubicBezTo>
                  <a:pt x="2326794" y="3853"/>
                  <a:pt x="2322984" y="288333"/>
                  <a:pt x="2255674" y="320083"/>
                </a:cubicBezTo>
                <a:cubicBezTo>
                  <a:pt x="2188364" y="351833"/>
                  <a:pt x="2061364" y="226103"/>
                  <a:pt x="1981354" y="190543"/>
                </a:cubicBezTo>
                <a:cubicBezTo>
                  <a:pt x="1901344" y="154983"/>
                  <a:pt x="1802284" y="104183"/>
                  <a:pt x="1775614" y="106723"/>
                </a:cubicBezTo>
                <a:cubicBezTo>
                  <a:pt x="1748944" y="109263"/>
                  <a:pt x="1844194" y="188003"/>
                  <a:pt x="1821334" y="205783"/>
                </a:cubicBezTo>
                <a:cubicBezTo>
                  <a:pt x="1798474" y="223563"/>
                  <a:pt x="1717194" y="213403"/>
                  <a:pt x="1638454" y="213403"/>
                </a:cubicBezTo>
                <a:cubicBezTo>
                  <a:pt x="1559714" y="213403"/>
                  <a:pt x="1351434" y="137203"/>
                  <a:pt x="1348894" y="205783"/>
                </a:cubicBezTo>
                <a:cubicBezTo>
                  <a:pt x="1346354" y="274363"/>
                  <a:pt x="1597814" y="548683"/>
                  <a:pt x="1623214" y="624883"/>
                </a:cubicBezTo>
                <a:cubicBezTo>
                  <a:pt x="1648614" y="701083"/>
                  <a:pt x="1500024" y="622343"/>
                  <a:pt x="1501294" y="662983"/>
                </a:cubicBezTo>
                <a:cubicBezTo>
                  <a:pt x="1502564" y="703623"/>
                  <a:pt x="1582574" y="806493"/>
                  <a:pt x="1630834" y="868723"/>
                </a:cubicBezTo>
                <a:cubicBezTo>
                  <a:pt x="1679094" y="930953"/>
                  <a:pt x="1784504" y="972863"/>
                  <a:pt x="1790854" y="1036363"/>
                </a:cubicBezTo>
                <a:cubicBezTo>
                  <a:pt x="1797204" y="1099863"/>
                  <a:pt x="1789584" y="1249723"/>
                  <a:pt x="1668934" y="1249723"/>
                </a:cubicBezTo>
                <a:cubicBezTo>
                  <a:pt x="1548284" y="1249723"/>
                  <a:pt x="1191414" y="1064303"/>
                  <a:pt x="1066954" y="1036363"/>
                </a:cubicBezTo>
                <a:cubicBezTo>
                  <a:pt x="942494" y="1008423"/>
                  <a:pt x="997104" y="1092243"/>
                  <a:pt x="922174" y="1082083"/>
                </a:cubicBezTo>
                <a:cubicBezTo>
                  <a:pt x="847244" y="1071923"/>
                  <a:pt x="673254" y="980483"/>
                  <a:pt x="617374" y="975403"/>
                </a:cubicBezTo>
                <a:cubicBezTo>
                  <a:pt x="561494" y="970323"/>
                  <a:pt x="611024" y="1008423"/>
                  <a:pt x="586894" y="1051603"/>
                </a:cubicBezTo>
                <a:cubicBezTo>
                  <a:pt x="562764" y="1094783"/>
                  <a:pt x="454814" y="1143043"/>
                  <a:pt x="472594" y="1234483"/>
                </a:cubicBezTo>
                <a:cubicBezTo>
                  <a:pt x="490374" y="1325923"/>
                  <a:pt x="689764" y="1504993"/>
                  <a:pt x="693574" y="1600243"/>
                </a:cubicBezTo>
                <a:cubicBezTo>
                  <a:pt x="697384" y="1695493"/>
                  <a:pt x="571654" y="1761533"/>
                  <a:pt x="495454" y="1805983"/>
                </a:cubicBezTo>
                <a:cubicBezTo>
                  <a:pt x="419254" y="1850433"/>
                  <a:pt x="270664" y="1831383"/>
                  <a:pt x="236374" y="1866943"/>
                </a:cubicBezTo>
                <a:cubicBezTo>
                  <a:pt x="202084" y="1902503"/>
                  <a:pt x="329084" y="1957113"/>
                  <a:pt x="289714" y="2019343"/>
                </a:cubicBezTo>
                <a:cubicBezTo>
                  <a:pt x="250344" y="2081573"/>
                  <a:pt x="6504" y="2189523"/>
                  <a:pt x="154" y="2240323"/>
                </a:cubicBezTo>
                <a:cubicBezTo>
                  <a:pt x="-6196" y="2291123"/>
                  <a:pt x="184304" y="2298743"/>
                  <a:pt x="251614" y="2324143"/>
                </a:cubicBezTo>
                <a:cubicBezTo>
                  <a:pt x="318924" y="2349543"/>
                  <a:pt x="379884" y="2367323"/>
                  <a:pt x="404014" y="2392723"/>
                </a:cubicBezTo>
                <a:cubicBezTo>
                  <a:pt x="428144" y="2418123"/>
                  <a:pt x="348134" y="2476543"/>
                  <a:pt x="396394" y="2476543"/>
                </a:cubicBezTo>
                <a:cubicBezTo>
                  <a:pt x="444654" y="2476543"/>
                  <a:pt x="674524" y="2345733"/>
                  <a:pt x="693574" y="2392723"/>
                </a:cubicBezTo>
                <a:cubicBezTo>
                  <a:pt x="712624" y="2439713"/>
                  <a:pt x="605944" y="2607353"/>
                  <a:pt x="510694" y="2758483"/>
                </a:cubicBezTo>
                <a:cubicBezTo>
                  <a:pt x="415444" y="2909613"/>
                  <a:pt x="80164" y="3242353"/>
                  <a:pt x="122074" y="3299503"/>
                </a:cubicBezTo>
                <a:cubicBezTo>
                  <a:pt x="163984" y="3356653"/>
                  <a:pt x="638964" y="3095033"/>
                  <a:pt x="762154" y="3101383"/>
                </a:cubicBezTo>
                <a:cubicBezTo>
                  <a:pt x="885344" y="3107733"/>
                  <a:pt x="792634" y="3371893"/>
                  <a:pt x="861214" y="3337603"/>
                </a:cubicBezTo>
                <a:cubicBezTo>
                  <a:pt x="929794" y="3303313"/>
                  <a:pt x="1040284" y="3028993"/>
                  <a:pt x="1173634" y="2895643"/>
                </a:cubicBezTo>
                <a:cubicBezTo>
                  <a:pt x="1306984" y="2762293"/>
                  <a:pt x="1553364" y="2601003"/>
                  <a:pt x="1661314" y="2537503"/>
                </a:cubicBezTo>
                <a:cubicBezTo>
                  <a:pt x="1769264" y="2474003"/>
                  <a:pt x="1851814" y="2405423"/>
                  <a:pt x="1821334" y="2514643"/>
                </a:cubicBezTo>
                <a:cubicBezTo>
                  <a:pt x="1790854" y="2623863"/>
                  <a:pt x="1554634" y="3034073"/>
                  <a:pt x="1478434" y="3192823"/>
                </a:cubicBezTo>
                <a:cubicBezTo>
                  <a:pt x="1402234" y="3351573"/>
                  <a:pt x="1378104" y="3421423"/>
                  <a:pt x="1364134" y="3467143"/>
                </a:cubicBezTo>
                <a:cubicBezTo>
                  <a:pt x="1350164" y="3512863"/>
                  <a:pt x="1406044" y="3388403"/>
                  <a:pt x="1394614" y="3467143"/>
                </a:cubicBezTo>
                <a:cubicBezTo>
                  <a:pt x="1383184" y="3545883"/>
                  <a:pt x="1266344" y="3906563"/>
                  <a:pt x="1295554" y="3939583"/>
                </a:cubicBezTo>
                <a:cubicBezTo>
                  <a:pt x="1324764" y="3972603"/>
                  <a:pt x="1487324" y="3689393"/>
                  <a:pt x="1569874" y="3665263"/>
                </a:cubicBezTo>
                <a:cubicBezTo>
                  <a:pt x="1652424" y="3641133"/>
                  <a:pt x="1719734" y="3755433"/>
                  <a:pt x="1790854" y="3794803"/>
                </a:cubicBezTo>
                <a:cubicBezTo>
                  <a:pt x="1861974" y="3834173"/>
                  <a:pt x="1916584" y="3911643"/>
                  <a:pt x="1996594" y="3901483"/>
                </a:cubicBezTo>
                <a:cubicBezTo>
                  <a:pt x="2076604" y="3891323"/>
                  <a:pt x="2168044" y="3754163"/>
                  <a:pt x="2270914" y="3733843"/>
                </a:cubicBezTo>
                <a:cubicBezTo>
                  <a:pt x="2373784" y="3713523"/>
                  <a:pt x="2524914" y="3862113"/>
                  <a:pt x="2613814" y="3779563"/>
                </a:cubicBezTo>
                <a:cubicBezTo>
                  <a:pt x="2702714" y="3697013"/>
                  <a:pt x="2772564" y="3373163"/>
                  <a:pt x="2804314" y="3238543"/>
                </a:cubicBezTo>
                <a:cubicBezTo>
                  <a:pt x="2836064" y="3103923"/>
                  <a:pt x="2801774" y="3079793"/>
                  <a:pt x="2804314" y="2971843"/>
                </a:cubicBezTo>
                <a:cubicBezTo>
                  <a:pt x="2806854" y="2863893"/>
                  <a:pt x="2792884" y="2694983"/>
                  <a:pt x="2819554" y="2590843"/>
                </a:cubicBezTo>
                <a:cubicBezTo>
                  <a:pt x="2846224" y="2486703"/>
                  <a:pt x="2949094" y="2313983"/>
                  <a:pt x="2964334" y="2347003"/>
                </a:cubicBezTo>
                <a:cubicBezTo>
                  <a:pt x="2979574" y="2380023"/>
                  <a:pt x="2905914" y="2647993"/>
                  <a:pt x="2910994" y="2788963"/>
                </a:cubicBezTo>
                <a:cubicBezTo>
                  <a:pt x="2916074" y="2929933"/>
                  <a:pt x="2955444" y="3164883"/>
                  <a:pt x="2994814" y="3192823"/>
                </a:cubicBezTo>
                <a:cubicBezTo>
                  <a:pt x="3034184" y="3220763"/>
                  <a:pt x="3106574" y="2966763"/>
                  <a:pt x="3147214" y="2956603"/>
                </a:cubicBezTo>
                <a:cubicBezTo>
                  <a:pt x="3187854" y="2946443"/>
                  <a:pt x="3204364" y="3177583"/>
                  <a:pt x="3238654" y="3131863"/>
                </a:cubicBezTo>
                <a:cubicBezTo>
                  <a:pt x="3272944" y="3086143"/>
                  <a:pt x="3303424" y="2796583"/>
                  <a:pt x="3352954" y="2682283"/>
                </a:cubicBezTo>
                <a:cubicBezTo>
                  <a:pt x="3402484" y="2567983"/>
                  <a:pt x="3492654" y="2462573"/>
                  <a:pt x="3535834" y="2446063"/>
                </a:cubicBezTo>
                <a:cubicBezTo>
                  <a:pt x="3579014" y="2429553"/>
                  <a:pt x="3563774" y="2613703"/>
                  <a:pt x="3612034" y="2583223"/>
                </a:cubicBezTo>
                <a:cubicBezTo>
                  <a:pt x="3660294" y="2552743"/>
                  <a:pt x="3744114" y="2363513"/>
                  <a:pt x="3825394" y="2263183"/>
                </a:cubicBezTo>
                <a:cubicBezTo>
                  <a:pt x="3906674" y="2162853"/>
                  <a:pt x="4026054" y="2020613"/>
                  <a:pt x="4099714" y="1981243"/>
                </a:cubicBezTo>
                <a:cubicBezTo>
                  <a:pt x="4173374" y="1941873"/>
                  <a:pt x="4161944" y="2071413"/>
                  <a:pt x="4267354" y="2026963"/>
                </a:cubicBezTo>
                <a:cubicBezTo>
                  <a:pt x="4372764" y="1982513"/>
                  <a:pt x="4648354" y="1775503"/>
                  <a:pt x="4732174" y="1714543"/>
                </a:cubicBezTo>
                <a:cubicBezTo>
                  <a:pt x="4815994" y="1653583"/>
                  <a:pt x="4747414" y="1672633"/>
                  <a:pt x="4770274" y="1661203"/>
                </a:cubicBezTo>
                <a:cubicBezTo>
                  <a:pt x="4793134" y="1649773"/>
                  <a:pt x="4706774" y="1648503"/>
                  <a:pt x="4869334" y="1645963"/>
                </a:cubicBezTo>
                <a:cubicBezTo>
                  <a:pt x="5031894" y="1643423"/>
                  <a:pt x="5602124" y="1658663"/>
                  <a:pt x="5745634" y="1645963"/>
                </a:cubicBezTo>
                <a:cubicBezTo>
                  <a:pt x="5889144" y="1633263"/>
                  <a:pt x="5792624" y="1546903"/>
                  <a:pt x="5730394" y="1531663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フリーフォーム 136"/>
          <p:cNvSpPr/>
          <p:nvPr/>
        </p:nvSpPr>
        <p:spPr>
          <a:xfrm>
            <a:off x="7354800" y="1512720"/>
            <a:ext cx="2460600" cy="3757680"/>
          </a:xfrm>
          <a:custGeom>
            <a:avLst/>
            <a:gdLst/>
            <a:ahLst/>
            <a:rect l="l" t="t" r="r" b="b"/>
            <a:pathLst>
              <a:path w="2850241" h="4720393">
                <a:moveTo>
                  <a:pt x="967906" y="4671628"/>
                </a:moveTo>
                <a:cubicBezTo>
                  <a:pt x="967906" y="4581458"/>
                  <a:pt x="1031406" y="4262688"/>
                  <a:pt x="1051726" y="4100128"/>
                </a:cubicBezTo>
                <a:cubicBezTo>
                  <a:pt x="1072046" y="3937568"/>
                  <a:pt x="1102526" y="3775008"/>
                  <a:pt x="1089826" y="3696268"/>
                </a:cubicBezTo>
                <a:cubicBezTo>
                  <a:pt x="1077126" y="3617528"/>
                  <a:pt x="1017436" y="3630228"/>
                  <a:pt x="975526" y="3627688"/>
                </a:cubicBezTo>
                <a:cubicBezTo>
                  <a:pt x="933616" y="3625148"/>
                  <a:pt x="875196" y="3669598"/>
                  <a:pt x="838366" y="3681028"/>
                </a:cubicBezTo>
                <a:cubicBezTo>
                  <a:pt x="801536" y="3692458"/>
                  <a:pt x="796456" y="3739448"/>
                  <a:pt x="754546" y="3696268"/>
                </a:cubicBezTo>
                <a:cubicBezTo>
                  <a:pt x="712636" y="3653088"/>
                  <a:pt x="627546" y="3484178"/>
                  <a:pt x="586906" y="3421948"/>
                </a:cubicBezTo>
                <a:cubicBezTo>
                  <a:pt x="546266" y="3359718"/>
                  <a:pt x="539916" y="3344478"/>
                  <a:pt x="510706" y="3322888"/>
                </a:cubicBezTo>
                <a:cubicBezTo>
                  <a:pt x="481496" y="3301298"/>
                  <a:pt x="412916" y="3349558"/>
                  <a:pt x="411646" y="3292408"/>
                </a:cubicBezTo>
                <a:cubicBezTo>
                  <a:pt x="410376" y="3235258"/>
                  <a:pt x="505626" y="3065078"/>
                  <a:pt x="503086" y="2979988"/>
                </a:cubicBezTo>
                <a:cubicBezTo>
                  <a:pt x="500546" y="2894898"/>
                  <a:pt x="456096" y="2864418"/>
                  <a:pt x="396406" y="2781868"/>
                </a:cubicBezTo>
                <a:cubicBezTo>
                  <a:pt x="336716" y="2699318"/>
                  <a:pt x="202096" y="2587558"/>
                  <a:pt x="144946" y="2484688"/>
                </a:cubicBezTo>
                <a:cubicBezTo>
                  <a:pt x="87796" y="2381818"/>
                  <a:pt x="19216" y="2215448"/>
                  <a:pt x="53506" y="2164648"/>
                </a:cubicBezTo>
                <a:cubicBezTo>
                  <a:pt x="87796" y="2113848"/>
                  <a:pt x="274486" y="2207828"/>
                  <a:pt x="350686" y="2179888"/>
                </a:cubicBezTo>
                <a:cubicBezTo>
                  <a:pt x="426886" y="2151948"/>
                  <a:pt x="542456" y="2087178"/>
                  <a:pt x="510706" y="1997008"/>
                </a:cubicBezTo>
                <a:cubicBezTo>
                  <a:pt x="478956" y="1906838"/>
                  <a:pt x="245276" y="1739198"/>
                  <a:pt x="160186" y="1638868"/>
                </a:cubicBezTo>
                <a:cubicBezTo>
                  <a:pt x="75096" y="1538538"/>
                  <a:pt x="5246" y="1452178"/>
                  <a:pt x="166" y="1395028"/>
                </a:cubicBezTo>
                <a:cubicBezTo>
                  <a:pt x="-4914" y="1337878"/>
                  <a:pt x="108116" y="1335338"/>
                  <a:pt x="129706" y="1295968"/>
                </a:cubicBezTo>
                <a:cubicBezTo>
                  <a:pt x="151296" y="1256598"/>
                  <a:pt x="130976" y="1221038"/>
                  <a:pt x="129706" y="1158808"/>
                </a:cubicBezTo>
                <a:cubicBezTo>
                  <a:pt x="128436" y="1096578"/>
                  <a:pt x="105576" y="983548"/>
                  <a:pt x="122086" y="922588"/>
                </a:cubicBezTo>
                <a:cubicBezTo>
                  <a:pt x="138596" y="861628"/>
                  <a:pt x="157646" y="780348"/>
                  <a:pt x="228766" y="793048"/>
                </a:cubicBezTo>
                <a:cubicBezTo>
                  <a:pt x="299886" y="805748"/>
                  <a:pt x="448476" y="986088"/>
                  <a:pt x="548806" y="998788"/>
                </a:cubicBezTo>
                <a:cubicBezTo>
                  <a:pt x="649136" y="1011488"/>
                  <a:pt x="781216" y="965768"/>
                  <a:pt x="830746" y="869248"/>
                </a:cubicBezTo>
                <a:cubicBezTo>
                  <a:pt x="880276" y="772728"/>
                  <a:pt x="826936" y="514918"/>
                  <a:pt x="845986" y="419668"/>
                </a:cubicBezTo>
                <a:cubicBezTo>
                  <a:pt x="865036" y="324418"/>
                  <a:pt x="917106" y="339658"/>
                  <a:pt x="945046" y="297748"/>
                </a:cubicBezTo>
                <a:cubicBezTo>
                  <a:pt x="972986" y="255838"/>
                  <a:pt x="966636" y="168208"/>
                  <a:pt x="1013626" y="168208"/>
                </a:cubicBezTo>
                <a:cubicBezTo>
                  <a:pt x="1060616" y="168208"/>
                  <a:pt x="1160946" y="285048"/>
                  <a:pt x="1226986" y="297748"/>
                </a:cubicBezTo>
                <a:cubicBezTo>
                  <a:pt x="1293026" y="310448"/>
                  <a:pt x="1361606" y="272348"/>
                  <a:pt x="1409866" y="244408"/>
                </a:cubicBezTo>
                <a:cubicBezTo>
                  <a:pt x="1458126" y="216468"/>
                  <a:pt x="1455586" y="170748"/>
                  <a:pt x="1516546" y="130108"/>
                </a:cubicBezTo>
                <a:cubicBezTo>
                  <a:pt x="1577506" y="89468"/>
                  <a:pt x="1729906" y="-8322"/>
                  <a:pt x="1775626" y="568"/>
                </a:cubicBezTo>
                <a:cubicBezTo>
                  <a:pt x="1821346" y="9458"/>
                  <a:pt x="1776896" y="152968"/>
                  <a:pt x="1790866" y="183448"/>
                </a:cubicBezTo>
                <a:cubicBezTo>
                  <a:pt x="1804836" y="213928"/>
                  <a:pt x="1842936" y="128838"/>
                  <a:pt x="1859446" y="183448"/>
                </a:cubicBezTo>
                <a:cubicBezTo>
                  <a:pt x="1875956" y="238058"/>
                  <a:pt x="1820076" y="447608"/>
                  <a:pt x="1889926" y="511108"/>
                </a:cubicBezTo>
                <a:cubicBezTo>
                  <a:pt x="1959776" y="574608"/>
                  <a:pt x="2220126" y="528888"/>
                  <a:pt x="2278546" y="564448"/>
                </a:cubicBezTo>
                <a:cubicBezTo>
                  <a:pt x="2336966" y="600008"/>
                  <a:pt x="2248066" y="671128"/>
                  <a:pt x="2240446" y="724468"/>
                </a:cubicBezTo>
                <a:cubicBezTo>
                  <a:pt x="2232826" y="777808"/>
                  <a:pt x="2237906" y="837498"/>
                  <a:pt x="2232826" y="884488"/>
                </a:cubicBezTo>
                <a:cubicBezTo>
                  <a:pt x="2227746" y="931478"/>
                  <a:pt x="2230286" y="964498"/>
                  <a:pt x="2209966" y="1006408"/>
                </a:cubicBezTo>
                <a:cubicBezTo>
                  <a:pt x="2189646" y="1048318"/>
                  <a:pt x="2132496" y="1080068"/>
                  <a:pt x="2110906" y="1135948"/>
                </a:cubicBezTo>
                <a:cubicBezTo>
                  <a:pt x="2089316" y="1191828"/>
                  <a:pt x="2098206" y="1294698"/>
                  <a:pt x="2080426" y="1341688"/>
                </a:cubicBezTo>
                <a:cubicBezTo>
                  <a:pt x="2062646" y="1388678"/>
                  <a:pt x="2006766" y="1392488"/>
                  <a:pt x="2004226" y="1417888"/>
                </a:cubicBezTo>
                <a:cubicBezTo>
                  <a:pt x="2001686" y="1443288"/>
                  <a:pt x="1978826" y="1461068"/>
                  <a:pt x="2065186" y="1494088"/>
                </a:cubicBezTo>
                <a:cubicBezTo>
                  <a:pt x="2151546" y="1527108"/>
                  <a:pt x="2391576" y="1603308"/>
                  <a:pt x="2522386" y="1616008"/>
                </a:cubicBezTo>
                <a:cubicBezTo>
                  <a:pt x="2653196" y="1628708"/>
                  <a:pt x="2842426" y="1534728"/>
                  <a:pt x="2850046" y="1570288"/>
                </a:cubicBezTo>
                <a:cubicBezTo>
                  <a:pt x="2857666" y="1605848"/>
                  <a:pt x="2640496" y="1734118"/>
                  <a:pt x="2568106" y="1829368"/>
                </a:cubicBezTo>
                <a:cubicBezTo>
                  <a:pt x="2495716" y="1924618"/>
                  <a:pt x="2527466" y="2071938"/>
                  <a:pt x="2415706" y="2141788"/>
                </a:cubicBezTo>
                <a:cubicBezTo>
                  <a:pt x="2303946" y="2211638"/>
                  <a:pt x="1995336" y="2202748"/>
                  <a:pt x="1897546" y="2248468"/>
                </a:cubicBezTo>
                <a:cubicBezTo>
                  <a:pt x="1799756" y="2294188"/>
                  <a:pt x="1770546" y="2364038"/>
                  <a:pt x="1828966" y="2416108"/>
                </a:cubicBezTo>
                <a:cubicBezTo>
                  <a:pt x="1887386" y="2468178"/>
                  <a:pt x="2272196" y="2475798"/>
                  <a:pt x="2248066" y="2560888"/>
                </a:cubicBezTo>
                <a:cubicBezTo>
                  <a:pt x="2223936" y="2645978"/>
                  <a:pt x="1797216" y="2841558"/>
                  <a:pt x="1684186" y="2926648"/>
                </a:cubicBezTo>
                <a:cubicBezTo>
                  <a:pt x="1571156" y="3011738"/>
                  <a:pt x="1567346" y="3033328"/>
                  <a:pt x="1569886" y="3071428"/>
                </a:cubicBezTo>
                <a:cubicBezTo>
                  <a:pt x="1572426" y="3109528"/>
                  <a:pt x="1718476" y="3098098"/>
                  <a:pt x="1699426" y="3155248"/>
                </a:cubicBezTo>
                <a:cubicBezTo>
                  <a:pt x="1680376" y="3212398"/>
                  <a:pt x="1508926" y="3343208"/>
                  <a:pt x="1455586" y="3414328"/>
                </a:cubicBezTo>
                <a:cubicBezTo>
                  <a:pt x="1402246" y="3485448"/>
                  <a:pt x="1408596" y="3518468"/>
                  <a:pt x="1379386" y="3581968"/>
                </a:cubicBezTo>
                <a:cubicBezTo>
                  <a:pt x="1350176" y="3645468"/>
                  <a:pt x="1318426" y="3739448"/>
                  <a:pt x="1280326" y="3795328"/>
                </a:cubicBezTo>
                <a:cubicBezTo>
                  <a:pt x="1242226" y="3851208"/>
                  <a:pt x="1182536" y="3839778"/>
                  <a:pt x="1150786" y="3917248"/>
                </a:cubicBezTo>
                <a:cubicBezTo>
                  <a:pt x="1119036" y="3994718"/>
                  <a:pt x="1106336" y="4139498"/>
                  <a:pt x="1089826" y="4260148"/>
                </a:cubicBezTo>
                <a:cubicBezTo>
                  <a:pt x="1073316" y="4380798"/>
                  <a:pt x="1072046" y="4570028"/>
                  <a:pt x="1051726" y="4641148"/>
                </a:cubicBezTo>
                <a:cubicBezTo>
                  <a:pt x="1031406" y="4712268"/>
                  <a:pt x="967906" y="4761798"/>
                  <a:pt x="967906" y="4671628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フリーフォーム 137"/>
          <p:cNvSpPr/>
          <p:nvPr/>
        </p:nvSpPr>
        <p:spPr>
          <a:xfrm>
            <a:off x="8062920" y="4765680"/>
            <a:ext cx="1662120" cy="1628640"/>
          </a:xfrm>
          <a:custGeom>
            <a:avLst/>
            <a:gdLst/>
            <a:ahLst/>
            <a:rect l="l" t="t" r="r" b="b"/>
            <a:pathLst>
              <a:path w="1534855" h="1629107">
                <a:moveTo>
                  <a:pt x="1031649" y="13471"/>
                </a:moveTo>
                <a:cubicBezTo>
                  <a:pt x="955449" y="36331"/>
                  <a:pt x="730236" y="133698"/>
                  <a:pt x="650649" y="155711"/>
                </a:cubicBezTo>
                <a:cubicBezTo>
                  <a:pt x="571062" y="177724"/>
                  <a:pt x="596462" y="131158"/>
                  <a:pt x="554129" y="145551"/>
                </a:cubicBezTo>
                <a:cubicBezTo>
                  <a:pt x="511796" y="159944"/>
                  <a:pt x="437289" y="207358"/>
                  <a:pt x="396649" y="242071"/>
                </a:cubicBezTo>
                <a:cubicBezTo>
                  <a:pt x="356009" y="276784"/>
                  <a:pt x="363629" y="308958"/>
                  <a:pt x="310289" y="353831"/>
                </a:cubicBezTo>
                <a:cubicBezTo>
                  <a:pt x="256949" y="398704"/>
                  <a:pt x="128256" y="462204"/>
                  <a:pt x="76609" y="511311"/>
                </a:cubicBezTo>
                <a:cubicBezTo>
                  <a:pt x="24962" y="560418"/>
                  <a:pt x="-3824" y="631538"/>
                  <a:pt x="409" y="648471"/>
                </a:cubicBezTo>
                <a:cubicBezTo>
                  <a:pt x="4642" y="665404"/>
                  <a:pt x="84229" y="606984"/>
                  <a:pt x="102009" y="612911"/>
                </a:cubicBezTo>
                <a:cubicBezTo>
                  <a:pt x="119789" y="618838"/>
                  <a:pt x="76609" y="678951"/>
                  <a:pt x="107089" y="684031"/>
                </a:cubicBezTo>
                <a:cubicBezTo>
                  <a:pt x="137569" y="689111"/>
                  <a:pt x="277269" y="609524"/>
                  <a:pt x="284889" y="643391"/>
                </a:cubicBezTo>
                <a:cubicBezTo>
                  <a:pt x="292509" y="677258"/>
                  <a:pt x="186676" y="826271"/>
                  <a:pt x="152809" y="887231"/>
                </a:cubicBezTo>
                <a:cubicBezTo>
                  <a:pt x="118942" y="948191"/>
                  <a:pt x="84229" y="985444"/>
                  <a:pt x="81689" y="1009151"/>
                </a:cubicBezTo>
                <a:cubicBezTo>
                  <a:pt x="79149" y="1032858"/>
                  <a:pt x="138416" y="987984"/>
                  <a:pt x="137569" y="1029471"/>
                </a:cubicBezTo>
                <a:cubicBezTo>
                  <a:pt x="136722" y="1070958"/>
                  <a:pt x="83382" y="1207271"/>
                  <a:pt x="76609" y="1258071"/>
                </a:cubicBezTo>
                <a:cubicBezTo>
                  <a:pt x="69836" y="1308871"/>
                  <a:pt x="84229" y="1302944"/>
                  <a:pt x="96929" y="1334271"/>
                </a:cubicBezTo>
                <a:cubicBezTo>
                  <a:pt x="109629" y="1365598"/>
                  <a:pt x="116402" y="1456191"/>
                  <a:pt x="152809" y="1446031"/>
                </a:cubicBezTo>
                <a:cubicBezTo>
                  <a:pt x="189216" y="1435871"/>
                  <a:pt x="279809" y="1285164"/>
                  <a:pt x="315369" y="1273311"/>
                </a:cubicBezTo>
                <a:cubicBezTo>
                  <a:pt x="350929" y="1261458"/>
                  <a:pt x="320449" y="1401158"/>
                  <a:pt x="366169" y="1374911"/>
                </a:cubicBezTo>
                <a:cubicBezTo>
                  <a:pt x="411889" y="1348664"/>
                  <a:pt x="543122" y="1161551"/>
                  <a:pt x="589689" y="1115831"/>
                </a:cubicBezTo>
                <a:cubicBezTo>
                  <a:pt x="636256" y="1070111"/>
                  <a:pt x="637102" y="1065878"/>
                  <a:pt x="645569" y="1100591"/>
                </a:cubicBezTo>
                <a:cubicBezTo>
                  <a:pt x="654036" y="1135304"/>
                  <a:pt x="641336" y="1275004"/>
                  <a:pt x="640489" y="1324111"/>
                </a:cubicBezTo>
                <a:cubicBezTo>
                  <a:pt x="639642" y="1373218"/>
                  <a:pt x="634562" y="1386764"/>
                  <a:pt x="640489" y="1395231"/>
                </a:cubicBezTo>
                <a:cubicBezTo>
                  <a:pt x="646416" y="1403698"/>
                  <a:pt x="663349" y="1357978"/>
                  <a:pt x="676049" y="1374911"/>
                </a:cubicBezTo>
                <a:cubicBezTo>
                  <a:pt x="688749" y="1391844"/>
                  <a:pt x="697216" y="1454498"/>
                  <a:pt x="716689" y="1496831"/>
                </a:cubicBezTo>
                <a:cubicBezTo>
                  <a:pt x="736162" y="1539164"/>
                  <a:pt x="765796" y="1633991"/>
                  <a:pt x="792889" y="1628911"/>
                </a:cubicBezTo>
                <a:cubicBezTo>
                  <a:pt x="819982" y="1623831"/>
                  <a:pt x="848769" y="1481591"/>
                  <a:pt x="879249" y="1466351"/>
                </a:cubicBezTo>
                <a:cubicBezTo>
                  <a:pt x="909729" y="1451111"/>
                  <a:pt x="948676" y="1558638"/>
                  <a:pt x="975769" y="1537471"/>
                </a:cubicBezTo>
                <a:cubicBezTo>
                  <a:pt x="1002862" y="1516304"/>
                  <a:pt x="1018949" y="1361364"/>
                  <a:pt x="1041809" y="1339351"/>
                </a:cubicBezTo>
                <a:cubicBezTo>
                  <a:pt x="1064669" y="1317338"/>
                  <a:pt x="1085836" y="1446031"/>
                  <a:pt x="1112929" y="1405391"/>
                </a:cubicBezTo>
                <a:cubicBezTo>
                  <a:pt x="1140022" y="1364751"/>
                  <a:pt x="1160342" y="1141231"/>
                  <a:pt x="1204369" y="1095511"/>
                </a:cubicBezTo>
                <a:cubicBezTo>
                  <a:pt x="1248396" y="1049791"/>
                  <a:pt x="1337296" y="1155624"/>
                  <a:pt x="1377089" y="1131071"/>
                </a:cubicBezTo>
                <a:cubicBezTo>
                  <a:pt x="1416882" y="1106518"/>
                  <a:pt x="1419422" y="978671"/>
                  <a:pt x="1443129" y="948191"/>
                </a:cubicBezTo>
                <a:cubicBezTo>
                  <a:pt x="1466836" y="917711"/>
                  <a:pt x="1515942" y="973591"/>
                  <a:pt x="1519329" y="948191"/>
                </a:cubicBezTo>
                <a:cubicBezTo>
                  <a:pt x="1522716" y="922791"/>
                  <a:pt x="1460909" y="826271"/>
                  <a:pt x="1463449" y="795791"/>
                </a:cubicBezTo>
                <a:cubicBezTo>
                  <a:pt x="1465989" y="765311"/>
                  <a:pt x="1530336" y="793251"/>
                  <a:pt x="1534569" y="765311"/>
                </a:cubicBezTo>
                <a:cubicBezTo>
                  <a:pt x="1538802" y="737371"/>
                  <a:pt x="1494776" y="673024"/>
                  <a:pt x="1488849" y="628151"/>
                </a:cubicBezTo>
                <a:cubicBezTo>
                  <a:pt x="1482922" y="583278"/>
                  <a:pt x="1525256" y="553644"/>
                  <a:pt x="1499009" y="496071"/>
                </a:cubicBezTo>
                <a:cubicBezTo>
                  <a:pt x="1472762" y="438498"/>
                  <a:pt x="1383016" y="345364"/>
                  <a:pt x="1331369" y="282711"/>
                </a:cubicBezTo>
                <a:cubicBezTo>
                  <a:pt x="1279722" y="220058"/>
                  <a:pt x="1226382" y="164178"/>
                  <a:pt x="1189129" y="120151"/>
                </a:cubicBezTo>
                <a:cubicBezTo>
                  <a:pt x="1151876" y="76124"/>
                  <a:pt x="1135789" y="37178"/>
                  <a:pt x="1107849" y="18551"/>
                </a:cubicBezTo>
                <a:cubicBezTo>
                  <a:pt x="1079909" y="-76"/>
                  <a:pt x="1107849" y="-9389"/>
                  <a:pt x="1031649" y="1347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フリーフォーム 138"/>
          <p:cNvSpPr/>
          <p:nvPr/>
        </p:nvSpPr>
        <p:spPr>
          <a:xfrm>
            <a:off x="6073920" y="225360"/>
            <a:ext cx="2162160" cy="689040"/>
          </a:xfrm>
          <a:custGeom>
            <a:avLst/>
            <a:gdLst/>
            <a:ahLst/>
            <a:rect l="l" t="t" r="r" b="b"/>
            <a:pathLst>
              <a:path w="2545080" h="877808">
                <a:moveTo>
                  <a:pt x="1676400" y="393306"/>
                </a:moveTo>
                <a:cubicBezTo>
                  <a:pt x="1584325" y="327901"/>
                  <a:pt x="1445895" y="224396"/>
                  <a:pt x="1337310" y="168516"/>
                </a:cubicBezTo>
                <a:cubicBezTo>
                  <a:pt x="1228725" y="112636"/>
                  <a:pt x="1125220" y="85966"/>
                  <a:pt x="1024890" y="58026"/>
                </a:cubicBezTo>
                <a:cubicBezTo>
                  <a:pt x="924560" y="30086"/>
                  <a:pt x="850265" y="-6109"/>
                  <a:pt x="735330" y="876"/>
                </a:cubicBezTo>
                <a:cubicBezTo>
                  <a:pt x="620395" y="7861"/>
                  <a:pt x="457835" y="26276"/>
                  <a:pt x="335280" y="99936"/>
                </a:cubicBezTo>
                <a:cubicBezTo>
                  <a:pt x="212725" y="173596"/>
                  <a:pt x="34290" y="361556"/>
                  <a:pt x="0" y="442836"/>
                </a:cubicBezTo>
                <a:cubicBezTo>
                  <a:pt x="30480" y="527926"/>
                  <a:pt x="64770" y="527926"/>
                  <a:pt x="129540" y="587616"/>
                </a:cubicBezTo>
                <a:cubicBezTo>
                  <a:pt x="194310" y="647306"/>
                  <a:pt x="281940" y="752716"/>
                  <a:pt x="388620" y="800976"/>
                </a:cubicBezTo>
                <a:cubicBezTo>
                  <a:pt x="495300" y="849236"/>
                  <a:pt x="615950" y="882891"/>
                  <a:pt x="769620" y="877176"/>
                </a:cubicBezTo>
                <a:cubicBezTo>
                  <a:pt x="923290" y="871461"/>
                  <a:pt x="1159510" y="835901"/>
                  <a:pt x="1310640" y="766686"/>
                </a:cubicBezTo>
                <a:cubicBezTo>
                  <a:pt x="1461770" y="697471"/>
                  <a:pt x="1564640" y="499351"/>
                  <a:pt x="1676400" y="461886"/>
                </a:cubicBezTo>
                <a:cubicBezTo>
                  <a:pt x="1788160" y="424421"/>
                  <a:pt x="1893570" y="497446"/>
                  <a:pt x="2004060" y="530466"/>
                </a:cubicBezTo>
                <a:cubicBezTo>
                  <a:pt x="2114550" y="563486"/>
                  <a:pt x="2258060" y="626986"/>
                  <a:pt x="2339340" y="660006"/>
                </a:cubicBezTo>
                <a:cubicBezTo>
                  <a:pt x="2420620" y="693026"/>
                  <a:pt x="2457450" y="730491"/>
                  <a:pt x="2491740" y="728586"/>
                </a:cubicBezTo>
                <a:cubicBezTo>
                  <a:pt x="2526030" y="726681"/>
                  <a:pt x="2545080" y="669531"/>
                  <a:pt x="2545080" y="648576"/>
                </a:cubicBezTo>
                <a:cubicBezTo>
                  <a:pt x="2545080" y="627621"/>
                  <a:pt x="2508250" y="605396"/>
                  <a:pt x="2491740" y="602856"/>
                </a:cubicBezTo>
                <a:cubicBezTo>
                  <a:pt x="2475230" y="600316"/>
                  <a:pt x="2527300" y="655561"/>
                  <a:pt x="2446020" y="633336"/>
                </a:cubicBezTo>
                <a:cubicBezTo>
                  <a:pt x="2364740" y="611111"/>
                  <a:pt x="2132330" y="509511"/>
                  <a:pt x="2004060" y="469506"/>
                </a:cubicBezTo>
                <a:cubicBezTo>
                  <a:pt x="1875790" y="429501"/>
                  <a:pt x="1753235" y="393941"/>
                  <a:pt x="1676400" y="39330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フリーフォーム 139"/>
          <p:cNvSpPr/>
          <p:nvPr/>
        </p:nvSpPr>
        <p:spPr>
          <a:xfrm>
            <a:off x="6540480" y="1344600"/>
            <a:ext cx="1441440" cy="855720"/>
          </a:xfrm>
          <a:custGeom>
            <a:avLst/>
            <a:gdLst/>
            <a:ahLst/>
            <a:rect l="l" t="t" r="r" b="b"/>
            <a:pathLst>
              <a:path w="1694411" h="1090756">
                <a:moveTo>
                  <a:pt x="1683236" y="1044886"/>
                </a:moveTo>
                <a:cubicBezTo>
                  <a:pt x="1653603" y="1016099"/>
                  <a:pt x="1529143" y="960219"/>
                  <a:pt x="1485116" y="917886"/>
                </a:cubicBezTo>
                <a:cubicBezTo>
                  <a:pt x="1441089" y="875553"/>
                  <a:pt x="1458023" y="869626"/>
                  <a:pt x="1419076" y="790886"/>
                </a:cubicBezTo>
                <a:cubicBezTo>
                  <a:pt x="1380129" y="712146"/>
                  <a:pt x="1335256" y="555513"/>
                  <a:pt x="1251436" y="445446"/>
                </a:cubicBezTo>
                <a:cubicBezTo>
                  <a:pt x="1167616" y="335379"/>
                  <a:pt x="1045696" y="204146"/>
                  <a:pt x="916156" y="130486"/>
                </a:cubicBezTo>
                <a:cubicBezTo>
                  <a:pt x="786616" y="56826"/>
                  <a:pt x="610509" y="18726"/>
                  <a:pt x="474196" y="3486"/>
                </a:cubicBezTo>
                <a:cubicBezTo>
                  <a:pt x="337883" y="-11754"/>
                  <a:pt x="177016" y="27193"/>
                  <a:pt x="98276" y="39046"/>
                </a:cubicBezTo>
                <a:cubicBezTo>
                  <a:pt x="19536" y="50899"/>
                  <a:pt x="-7557" y="5179"/>
                  <a:pt x="1756" y="74606"/>
                </a:cubicBezTo>
                <a:cubicBezTo>
                  <a:pt x="11069" y="144033"/>
                  <a:pt x="65256" y="335379"/>
                  <a:pt x="154156" y="455606"/>
                </a:cubicBezTo>
                <a:cubicBezTo>
                  <a:pt x="243056" y="575833"/>
                  <a:pt x="420856" y="718073"/>
                  <a:pt x="535156" y="795966"/>
                </a:cubicBezTo>
                <a:cubicBezTo>
                  <a:pt x="649456" y="873859"/>
                  <a:pt x="775609" y="895026"/>
                  <a:pt x="839956" y="922966"/>
                </a:cubicBezTo>
                <a:cubicBezTo>
                  <a:pt x="904303" y="950906"/>
                  <a:pt x="905996" y="949213"/>
                  <a:pt x="921236" y="963606"/>
                </a:cubicBezTo>
                <a:cubicBezTo>
                  <a:pt x="936476" y="977999"/>
                  <a:pt x="885676" y="1007633"/>
                  <a:pt x="931396" y="1009326"/>
                </a:cubicBezTo>
                <a:cubicBezTo>
                  <a:pt x="977116" y="1011019"/>
                  <a:pt x="1110043" y="979693"/>
                  <a:pt x="1195556" y="973766"/>
                </a:cubicBezTo>
                <a:cubicBezTo>
                  <a:pt x="1281069" y="967839"/>
                  <a:pt x="1374203" y="959373"/>
                  <a:pt x="1444476" y="973766"/>
                </a:cubicBezTo>
                <a:cubicBezTo>
                  <a:pt x="1514749" y="988159"/>
                  <a:pt x="1580789" y="1040653"/>
                  <a:pt x="1617196" y="1060126"/>
                </a:cubicBezTo>
                <a:cubicBezTo>
                  <a:pt x="1653603" y="1079599"/>
                  <a:pt x="1650216" y="1092299"/>
                  <a:pt x="1662916" y="1090606"/>
                </a:cubicBezTo>
                <a:cubicBezTo>
                  <a:pt x="1675616" y="1088913"/>
                  <a:pt x="1712869" y="1073673"/>
                  <a:pt x="1683236" y="104488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フリーフォーム 140"/>
          <p:cNvSpPr/>
          <p:nvPr/>
        </p:nvSpPr>
        <p:spPr>
          <a:xfrm>
            <a:off x="5027760" y="1096920"/>
            <a:ext cx="1535040" cy="812880"/>
          </a:xfrm>
          <a:custGeom>
            <a:avLst/>
            <a:gdLst/>
            <a:ahLst/>
            <a:rect l="l" t="t" r="r" b="b"/>
            <a:pathLst>
              <a:path w="1806556" h="1036125">
                <a:moveTo>
                  <a:pt x="1704812" y="19567"/>
                </a:moveTo>
                <a:cubicBezTo>
                  <a:pt x="1650625" y="39887"/>
                  <a:pt x="1562572" y="110160"/>
                  <a:pt x="1471132" y="126247"/>
                </a:cubicBezTo>
                <a:cubicBezTo>
                  <a:pt x="1379692" y="142334"/>
                  <a:pt x="1298412" y="98307"/>
                  <a:pt x="1156172" y="116087"/>
                </a:cubicBezTo>
                <a:cubicBezTo>
                  <a:pt x="1013932" y="133867"/>
                  <a:pt x="765012" y="178740"/>
                  <a:pt x="617692" y="232927"/>
                </a:cubicBezTo>
                <a:cubicBezTo>
                  <a:pt x="470372" y="287114"/>
                  <a:pt x="316279" y="397180"/>
                  <a:pt x="272252" y="441207"/>
                </a:cubicBezTo>
                <a:cubicBezTo>
                  <a:pt x="228225" y="485234"/>
                  <a:pt x="335752" y="469994"/>
                  <a:pt x="353532" y="497087"/>
                </a:cubicBezTo>
                <a:cubicBezTo>
                  <a:pt x="371312" y="524180"/>
                  <a:pt x="394172" y="578367"/>
                  <a:pt x="378932" y="603767"/>
                </a:cubicBezTo>
                <a:cubicBezTo>
                  <a:pt x="363692" y="629167"/>
                  <a:pt x="289185" y="658800"/>
                  <a:pt x="262092" y="649487"/>
                </a:cubicBezTo>
                <a:cubicBezTo>
                  <a:pt x="234999" y="640174"/>
                  <a:pt x="237539" y="541960"/>
                  <a:pt x="216372" y="547887"/>
                </a:cubicBezTo>
                <a:cubicBezTo>
                  <a:pt x="195205" y="553814"/>
                  <a:pt x="158799" y="635940"/>
                  <a:pt x="135092" y="685047"/>
                </a:cubicBezTo>
                <a:cubicBezTo>
                  <a:pt x="111385" y="734154"/>
                  <a:pt x="94452" y="800194"/>
                  <a:pt x="74132" y="842527"/>
                </a:cubicBezTo>
                <a:cubicBezTo>
                  <a:pt x="53812" y="884860"/>
                  <a:pt x="-32548" y="911954"/>
                  <a:pt x="13172" y="939047"/>
                </a:cubicBezTo>
                <a:cubicBezTo>
                  <a:pt x="58892" y="966140"/>
                  <a:pt x="240079" y="990694"/>
                  <a:pt x="348452" y="1005087"/>
                </a:cubicBezTo>
                <a:cubicBezTo>
                  <a:pt x="456825" y="1019480"/>
                  <a:pt x="537259" y="1053347"/>
                  <a:pt x="663412" y="1025407"/>
                </a:cubicBezTo>
                <a:cubicBezTo>
                  <a:pt x="789565" y="997467"/>
                  <a:pt x="992765" y="909414"/>
                  <a:pt x="1105372" y="837447"/>
                </a:cubicBezTo>
                <a:cubicBezTo>
                  <a:pt x="1217979" y="765480"/>
                  <a:pt x="1267085" y="677427"/>
                  <a:pt x="1339052" y="593607"/>
                </a:cubicBezTo>
                <a:cubicBezTo>
                  <a:pt x="1411019" y="509787"/>
                  <a:pt x="1495685" y="409880"/>
                  <a:pt x="1537172" y="334527"/>
                </a:cubicBezTo>
                <a:cubicBezTo>
                  <a:pt x="1578659" y="259174"/>
                  <a:pt x="1547332" y="185514"/>
                  <a:pt x="1587972" y="141487"/>
                </a:cubicBezTo>
                <a:cubicBezTo>
                  <a:pt x="1628612" y="97460"/>
                  <a:pt x="1746299" y="93227"/>
                  <a:pt x="1781012" y="70367"/>
                </a:cubicBezTo>
                <a:cubicBezTo>
                  <a:pt x="1815725" y="47507"/>
                  <a:pt x="1808952" y="12794"/>
                  <a:pt x="1796252" y="4327"/>
                </a:cubicBezTo>
                <a:cubicBezTo>
                  <a:pt x="1783552" y="-4140"/>
                  <a:pt x="1758999" y="-753"/>
                  <a:pt x="1704812" y="19567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フリーフォーム 141"/>
          <p:cNvSpPr/>
          <p:nvPr/>
        </p:nvSpPr>
        <p:spPr>
          <a:xfrm>
            <a:off x="8327880" y="225360"/>
            <a:ext cx="1425600" cy="1123920"/>
          </a:xfrm>
          <a:custGeom>
            <a:avLst/>
            <a:gdLst/>
            <a:ahLst/>
            <a:rect l="l" t="t" r="r" b="b"/>
            <a:pathLst>
              <a:path w="1677372" h="1433876">
                <a:moveTo>
                  <a:pt x="1187910" y="1227"/>
                </a:moveTo>
                <a:cubicBezTo>
                  <a:pt x="1120177" y="4614"/>
                  <a:pt x="961850" y="11387"/>
                  <a:pt x="857710" y="52027"/>
                </a:cubicBezTo>
                <a:cubicBezTo>
                  <a:pt x="753570" y="92667"/>
                  <a:pt x="663823" y="184954"/>
                  <a:pt x="563070" y="245067"/>
                </a:cubicBezTo>
                <a:cubicBezTo>
                  <a:pt x="462317" y="305180"/>
                  <a:pt x="318383" y="312800"/>
                  <a:pt x="253190" y="412707"/>
                </a:cubicBezTo>
                <a:cubicBezTo>
                  <a:pt x="187997" y="512614"/>
                  <a:pt x="198157" y="731054"/>
                  <a:pt x="171910" y="844507"/>
                </a:cubicBezTo>
                <a:cubicBezTo>
                  <a:pt x="145663" y="957960"/>
                  <a:pt x="108410" y="1021460"/>
                  <a:pt x="95710" y="1093427"/>
                </a:cubicBezTo>
                <a:cubicBezTo>
                  <a:pt x="83010" y="1165394"/>
                  <a:pt x="110103" y="1219580"/>
                  <a:pt x="95710" y="1276307"/>
                </a:cubicBezTo>
                <a:cubicBezTo>
                  <a:pt x="81317" y="1333034"/>
                  <a:pt x="-32983" y="1430400"/>
                  <a:pt x="9350" y="1433787"/>
                </a:cubicBezTo>
                <a:cubicBezTo>
                  <a:pt x="51683" y="1437174"/>
                  <a:pt x="226097" y="1344040"/>
                  <a:pt x="349710" y="1296627"/>
                </a:cubicBezTo>
                <a:cubicBezTo>
                  <a:pt x="473323" y="1249214"/>
                  <a:pt x="644350" y="1193334"/>
                  <a:pt x="751030" y="1149307"/>
                </a:cubicBezTo>
                <a:cubicBezTo>
                  <a:pt x="857710" y="1105280"/>
                  <a:pt x="891577" y="1066334"/>
                  <a:pt x="989790" y="1032467"/>
                </a:cubicBezTo>
                <a:cubicBezTo>
                  <a:pt x="1088003" y="998600"/>
                  <a:pt x="1244637" y="1001987"/>
                  <a:pt x="1340310" y="946107"/>
                </a:cubicBezTo>
                <a:cubicBezTo>
                  <a:pt x="1435983" y="890227"/>
                  <a:pt x="1508797" y="786087"/>
                  <a:pt x="1563830" y="697187"/>
                </a:cubicBezTo>
                <a:cubicBezTo>
                  <a:pt x="1618863" y="608287"/>
                  <a:pt x="1701837" y="477900"/>
                  <a:pt x="1670510" y="412707"/>
                </a:cubicBezTo>
                <a:cubicBezTo>
                  <a:pt x="1639183" y="347514"/>
                  <a:pt x="1432597" y="342434"/>
                  <a:pt x="1375870" y="306027"/>
                </a:cubicBezTo>
                <a:cubicBezTo>
                  <a:pt x="1319143" y="269620"/>
                  <a:pt x="1330150" y="194267"/>
                  <a:pt x="1330150" y="194267"/>
                </a:cubicBezTo>
                <a:cubicBezTo>
                  <a:pt x="1311523" y="148547"/>
                  <a:pt x="1289510" y="63880"/>
                  <a:pt x="1264110" y="31707"/>
                </a:cubicBezTo>
                <a:cubicBezTo>
                  <a:pt x="1238710" y="-466"/>
                  <a:pt x="1255643" y="-2160"/>
                  <a:pt x="1187910" y="1227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フリーフォーム 142"/>
          <p:cNvSpPr/>
          <p:nvPr/>
        </p:nvSpPr>
        <p:spPr>
          <a:xfrm>
            <a:off x="8089920" y="1434960"/>
            <a:ext cx="1127160" cy="897120"/>
          </a:xfrm>
          <a:custGeom>
            <a:avLst/>
            <a:gdLst/>
            <a:ahLst/>
            <a:rect l="l" t="t" r="r" b="b"/>
            <a:pathLst>
              <a:path w="899166" h="776412">
                <a:moveTo>
                  <a:pt x="4962" y="734736"/>
                </a:moveTo>
                <a:cubicBezTo>
                  <a:pt x="19779" y="717062"/>
                  <a:pt x="95132" y="689016"/>
                  <a:pt x="123707" y="669331"/>
                </a:cubicBezTo>
                <a:cubicBezTo>
                  <a:pt x="116087" y="617261"/>
                  <a:pt x="86877" y="564662"/>
                  <a:pt x="90687" y="475656"/>
                </a:cubicBezTo>
                <a:cubicBezTo>
                  <a:pt x="94497" y="386650"/>
                  <a:pt x="102540" y="214036"/>
                  <a:pt x="146567" y="135296"/>
                </a:cubicBezTo>
                <a:cubicBezTo>
                  <a:pt x="190594" y="56556"/>
                  <a:pt x="249014" y="17609"/>
                  <a:pt x="354847" y="3216"/>
                </a:cubicBezTo>
                <a:cubicBezTo>
                  <a:pt x="460680" y="-11177"/>
                  <a:pt x="695207" y="26076"/>
                  <a:pt x="781567" y="48936"/>
                </a:cubicBezTo>
                <a:cubicBezTo>
                  <a:pt x="867927" y="71796"/>
                  <a:pt x="853534" y="108203"/>
                  <a:pt x="873007" y="140376"/>
                </a:cubicBezTo>
                <a:cubicBezTo>
                  <a:pt x="892480" y="172549"/>
                  <a:pt x="898407" y="175089"/>
                  <a:pt x="898407" y="241976"/>
                </a:cubicBezTo>
                <a:cubicBezTo>
                  <a:pt x="898407" y="308863"/>
                  <a:pt x="906027" y="466343"/>
                  <a:pt x="873007" y="541696"/>
                </a:cubicBezTo>
                <a:cubicBezTo>
                  <a:pt x="839987" y="617049"/>
                  <a:pt x="764634" y="657689"/>
                  <a:pt x="700287" y="694096"/>
                </a:cubicBezTo>
                <a:cubicBezTo>
                  <a:pt x="635940" y="730503"/>
                  <a:pt x="568207" y="758443"/>
                  <a:pt x="486927" y="760136"/>
                </a:cubicBezTo>
                <a:cubicBezTo>
                  <a:pt x="405647" y="761829"/>
                  <a:pt x="269122" y="715474"/>
                  <a:pt x="212607" y="704256"/>
                </a:cubicBezTo>
                <a:cubicBezTo>
                  <a:pt x="156092" y="693038"/>
                  <a:pt x="177470" y="692403"/>
                  <a:pt x="147837" y="692826"/>
                </a:cubicBezTo>
                <a:cubicBezTo>
                  <a:pt x="131539" y="712299"/>
                  <a:pt x="58619" y="768391"/>
                  <a:pt x="34807" y="775376"/>
                </a:cubicBezTo>
                <a:cubicBezTo>
                  <a:pt x="10995" y="782361"/>
                  <a:pt x="-9855" y="752410"/>
                  <a:pt x="4962" y="73473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フリーフォーム 143"/>
          <p:cNvSpPr/>
          <p:nvPr/>
        </p:nvSpPr>
        <p:spPr>
          <a:xfrm>
            <a:off x="5599080" y="1973160"/>
            <a:ext cx="1165320" cy="717480"/>
          </a:xfrm>
          <a:custGeom>
            <a:avLst/>
            <a:gdLst/>
            <a:ahLst/>
            <a:rect l="l" t="t" r="r" b="b"/>
            <a:pathLst>
              <a:path w="929850" h="620483">
                <a:moveTo>
                  <a:pt x="14" y="619854"/>
                </a:moveTo>
                <a:cubicBezTo>
                  <a:pt x="1284" y="626627"/>
                  <a:pt x="63091" y="576674"/>
                  <a:pt x="109234" y="569054"/>
                </a:cubicBezTo>
                <a:cubicBezTo>
                  <a:pt x="155377" y="561434"/>
                  <a:pt x="187127" y="579214"/>
                  <a:pt x="276874" y="574134"/>
                </a:cubicBezTo>
                <a:cubicBezTo>
                  <a:pt x="366621" y="569054"/>
                  <a:pt x="543997" y="580907"/>
                  <a:pt x="647714" y="538574"/>
                </a:cubicBezTo>
                <a:cubicBezTo>
                  <a:pt x="751431" y="496241"/>
                  <a:pt x="853877" y="386174"/>
                  <a:pt x="899174" y="320134"/>
                </a:cubicBezTo>
                <a:cubicBezTo>
                  <a:pt x="944471" y="254094"/>
                  <a:pt x="928807" y="177471"/>
                  <a:pt x="919494" y="142334"/>
                </a:cubicBezTo>
                <a:cubicBezTo>
                  <a:pt x="910181" y="107197"/>
                  <a:pt x="843294" y="109314"/>
                  <a:pt x="843294" y="109314"/>
                </a:cubicBezTo>
                <a:cubicBezTo>
                  <a:pt x="787414" y="85607"/>
                  <a:pt x="687507" y="-3293"/>
                  <a:pt x="584214" y="94"/>
                </a:cubicBezTo>
                <a:cubicBezTo>
                  <a:pt x="480921" y="3481"/>
                  <a:pt x="306507" y="60631"/>
                  <a:pt x="223534" y="129634"/>
                </a:cubicBezTo>
                <a:cubicBezTo>
                  <a:pt x="140561" y="198637"/>
                  <a:pt x="106694" y="347651"/>
                  <a:pt x="86374" y="414114"/>
                </a:cubicBezTo>
                <a:cubicBezTo>
                  <a:pt x="66054" y="480577"/>
                  <a:pt x="120664" y="500897"/>
                  <a:pt x="101614" y="528414"/>
                </a:cubicBezTo>
                <a:cubicBezTo>
                  <a:pt x="82564" y="555931"/>
                  <a:pt x="-1256" y="613081"/>
                  <a:pt x="14" y="6198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フリーフォーム 144"/>
          <p:cNvSpPr/>
          <p:nvPr/>
        </p:nvSpPr>
        <p:spPr>
          <a:xfrm>
            <a:off x="6745320" y="2414520"/>
            <a:ext cx="741240" cy="1054080"/>
          </a:xfrm>
          <a:custGeom>
            <a:avLst/>
            <a:gdLst/>
            <a:ahLst/>
            <a:rect l="l" t="t" r="r" b="b"/>
            <a:pathLst>
              <a:path w="592055" h="912887">
                <a:moveTo>
                  <a:pt x="269310" y="3370"/>
                </a:moveTo>
                <a:cubicBezTo>
                  <a:pt x="226977" y="25807"/>
                  <a:pt x="133843" y="164660"/>
                  <a:pt x="88970" y="234510"/>
                </a:cubicBezTo>
                <a:cubicBezTo>
                  <a:pt x="44097" y="304360"/>
                  <a:pt x="-2047" y="353890"/>
                  <a:pt x="70" y="422470"/>
                </a:cubicBezTo>
                <a:cubicBezTo>
                  <a:pt x="2187" y="491050"/>
                  <a:pt x="58067" y="590110"/>
                  <a:pt x="101670" y="645990"/>
                </a:cubicBezTo>
                <a:cubicBezTo>
                  <a:pt x="145273" y="701870"/>
                  <a:pt x="232480" y="732773"/>
                  <a:pt x="261690" y="757750"/>
                </a:cubicBezTo>
                <a:cubicBezTo>
                  <a:pt x="290900" y="782727"/>
                  <a:pt x="281587" y="772567"/>
                  <a:pt x="276930" y="795850"/>
                </a:cubicBezTo>
                <a:cubicBezTo>
                  <a:pt x="272273" y="819133"/>
                  <a:pt x="234173" y="879670"/>
                  <a:pt x="233750" y="897450"/>
                </a:cubicBezTo>
                <a:cubicBezTo>
                  <a:pt x="233327" y="915230"/>
                  <a:pt x="262113" y="918617"/>
                  <a:pt x="274390" y="902530"/>
                </a:cubicBezTo>
                <a:cubicBezTo>
                  <a:pt x="286667" y="886443"/>
                  <a:pt x="291323" y="821673"/>
                  <a:pt x="307410" y="800930"/>
                </a:cubicBezTo>
                <a:cubicBezTo>
                  <a:pt x="323497" y="780187"/>
                  <a:pt x="332810" y="806010"/>
                  <a:pt x="370910" y="778070"/>
                </a:cubicBezTo>
                <a:cubicBezTo>
                  <a:pt x="409010" y="750130"/>
                  <a:pt x="499603" y="709913"/>
                  <a:pt x="536010" y="633290"/>
                </a:cubicBezTo>
                <a:cubicBezTo>
                  <a:pt x="572417" y="556667"/>
                  <a:pt x="601203" y="400033"/>
                  <a:pt x="589350" y="318330"/>
                </a:cubicBezTo>
                <a:cubicBezTo>
                  <a:pt x="577497" y="236627"/>
                  <a:pt x="505953" y="179477"/>
                  <a:pt x="464890" y="143070"/>
                </a:cubicBezTo>
                <a:cubicBezTo>
                  <a:pt x="423827" y="106663"/>
                  <a:pt x="379377" y="122750"/>
                  <a:pt x="342970" y="99890"/>
                </a:cubicBezTo>
                <a:cubicBezTo>
                  <a:pt x="306563" y="77030"/>
                  <a:pt x="311643" y="-19067"/>
                  <a:pt x="269310" y="337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フリーフォーム 145"/>
          <p:cNvSpPr/>
          <p:nvPr/>
        </p:nvSpPr>
        <p:spPr>
          <a:xfrm>
            <a:off x="8607600" y="2449440"/>
            <a:ext cx="920520" cy="1077840"/>
          </a:xfrm>
          <a:custGeom>
            <a:avLst/>
            <a:gdLst/>
            <a:ahLst/>
            <a:rect l="l" t="t" r="r" b="b"/>
            <a:pathLst>
              <a:path w="733951" h="933164">
                <a:moveTo>
                  <a:pt x="530748" y="1419"/>
                </a:moveTo>
                <a:cubicBezTo>
                  <a:pt x="523551" y="9039"/>
                  <a:pt x="566308" y="71692"/>
                  <a:pt x="553608" y="85239"/>
                </a:cubicBezTo>
                <a:cubicBezTo>
                  <a:pt x="540908" y="98786"/>
                  <a:pt x="512968" y="71692"/>
                  <a:pt x="454548" y="82699"/>
                </a:cubicBezTo>
                <a:cubicBezTo>
                  <a:pt x="396128" y="93706"/>
                  <a:pt x="275055" y="103442"/>
                  <a:pt x="203088" y="151279"/>
                </a:cubicBezTo>
                <a:cubicBezTo>
                  <a:pt x="131121" y="199116"/>
                  <a:pt x="54921" y="288016"/>
                  <a:pt x="22748" y="369719"/>
                </a:cubicBezTo>
                <a:cubicBezTo>
                  <a:pt x="-9425" y="451422"/>
                  <a:pt x="-1382" y="561489"/>
                  <a:pt x="10048" y="641499"/>
                </a:cubicBezTo>
                <a:cubicBezTo>
                  <a:pt x="21478" y="721509"/>
                  <a:pt x="77358" y="801519"/>
                  <a:pt x="91328" y="849779"/>
                </a:cubicBezTo>
                <a:cubicBezTo>
                  <a:pt x="105298" y="898039"/>
                  <a:pt x="67198" y="922169"/>
                  <a:pt x="93868" y="931059"/>
                </a:cubicBezTo>
                <a:cubicBezTo>
                  <a:pt x="120538" y="939949"/>
                  <a:pt x="186155" y="918782"/>
                  <a:pt x="251348" y="903119"/>
                </a:cubicBezTo>
                <a:cubicBezTo>
                  <a:pt x="316541" y="887456"/>
                  <a:pt x="405865" y="900156"/>
                  <a:pt x="485028" y="837079"/>
                </a:cubicBezTo>
                <a:cubicBezTo>
                  <a:pt x="564191" y="774002"/>
                  <a:pt x="696271" y="633456"/>
                  <a:pt x="726328" y="524659"/>
                </a:cubicBezTo>
                <a:cubicBezTo>
                  <a:pt x="756385" y="415862"/>
                  <a:pt x="689498" y="252456"/>
                  <a:pt x="665368" y="184299"/>
                </a:cubicBezTo>
                <a:cubicBezTo>
                  <a:pt x="641238" y="116142"/>
                  <a:pt x="592978" y="139849"/>
                  <a:pt x="581548" y="115719"/>
                </a:cubicBezTo>
                <a:cubicBezTo>
                  <a:pt x="570118" y="91589"/>
                  <a:pt x="601445" y="60686"/>
                  <a:pt x="596788" y="39519"/>
                </a:cubicBezTo>
                <a:cubicBezTo>
                  <a:pt x="592131" y="18352"/>
                  <a:pt x="537945" y="-6201"/>
                  <a:pt x="530748" y="1419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フリーフォーム 146"/>
          <p:cNvSpPr/>
          <p:nvPr/>
        </p:nvSpPr>
        <p:spPr>
          <a:xfrm>
            <a:off x="4091040" y="1609560"/>
            <a:ext cx="936720" cy="1241640"/>
          </a:xfrm>
          <a:custGeom>
            <a:avLst/>
            <a:gdLst/>
            <a:ahLst/>
            <a:rect l="l" t="t" r="r" b="b"/>
            <a:pathLst>
              <a:path w="648606" h="931866">
                <a:moveTo>
                  <a:pt x="395643" y="3162"/>
                </a:moveTo>
                <a:cubicBezTo>
                  <a:pt x="355003" y="17555"/>
                  <a:pt x="268220" y="81055"/>
                  <a:pt x="202603" y="150482"/>
                </a:cubicBezTo>
                <a:cubicBezTo>
                  <a:pt x="136986" y="219909"/>
                  <a:pt x="17606" y="324895"/>
                  <a:pt x="1943" y="419722"/>
                </a:cubicBezTo>
                <a:cubicBezTo>
                  <a:pt x="-13720" y="514549"/>
                  <a:pt x="69253" y="654672"/>
                  <a:pt x="108623" y="719442"/>
                </a:cubicBezTo>
                <a:cubicBezTo>
                  <a:pt x="147993" y="784212"/>
                  <a:pt x="214033" y="775322"/>
                  <a:pt x="238163" y="808342"/>
                </a:cubicBezTo>
                <a:cubicBezTo>
                  <a:pt x="262293" y="841362"/>
                  <a:pt x="242820" y="898935"/>
                  <a:pt x="253403" y="917562"/>
                </a:cubicBezTo>
                <a:cubicBezTo>
                  <a:pt x="263986" y="936189"/>
                  <a:pt x="298276" y="936188"/>
                  <a:pt x="301663" y="920102"/>
                </a:cubicBezTo>
                <a:cubicBezTo>
                  <a:pt x="305050" y="904016"/>
                  <a:pt x="274570" y="839245"/>
                  <a:pt x="273723" y="821042"/>
                </a:cubicBezTo>
                <a:cubicBezTo>
                  <a:pt x="272876" y="802839"/>
                  <a:pt x="285576" y="813845"/>
                  <a:pt x="296583" y="810882"/>
                </a:cubicBezTo>
                <a:cubicBezTo>
                  <a:pt x="307590" y="807919"/>
                  <a:pt x="317750" y="811729"/>
                  <a:pt x="339763" y="803262"/>
                </a:cubicBezTo>
                <a:cubicBezTo>
                  <a:pt x="361776" y="794795"/>
                  <a:pt x="385906" y="792255"/>
                  <a:pt x="428663" y="760082"/>
                </a:cubicBezTo>
                <a:cubicBezTo>
                  <a:pt x="471420" y="727909"/>
                  <a:pt x="559896" y="671605"/>
                  <a:pt x="596303" y="610222"/>
                </a:cubicBezTo>
                <a:cubicBezTo>
                  <a:pt x="632710" y="548839"/>
                  <a:pt x="654723" y="457399"/>
                  <a:pt x="647103" y="391782"/>
                </a:cubicBezTo>
                <a:cubicBezTo>
                  <a:pt x="639483" y="326165"/>
                  <a:pt x="584026" y="271132"/>
                  <a:pt x="550583" y="216522"/>
                </a:cubicBezTo>
                <a:cubicBezTo>
                  <a:pt x="517140" y="161912"/>
                  <a:pt x="469303" y="102222"/>
                  <a:pt x="446443" y="64122"/>
                </a:cubicBezTo>
                <a:cubicBezTo>
                  <a:pt x="423583" y="26022"/>
                  <a:pt x="436283" y="-11231"/>
                  <a:pt x="395643" y="3162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フリーフォーム 147"/>
          <p:cNvSpPr/>
          <p:nvPr/>
        </p:nvSpPr>
        <p:spPr>
          <a:xfrm>
            <a:off x="5076720" y="2568600"/>
            <a:ext cx="857520" cy="1079640"/>
          </a:xfrm>
          <a:custGeom>
            <a:avLst/>
            <a:gdLst/>
            <a:ahLst/>
            <a:rect l="l" t="t" r="r" b="b"/>
            <a:pathLst>
              <a:path w="684005" h="933819">
                <a:moveTo>
                  <a:pt x="66040" y="17548"/>
                </a:moveTo>
                <a:cubicBezTo>
                  <a:pt x="40217" y="63691"/>
                  <a:pt x="0" y="222018"/>
                  <a:pt x="0" y="322348"/>
                </a:cubicBezTo>
                <a:cubicBezTo>
                  <a:pt x="0" y="422678"/>
                  <a:pt x="34713" y="545868"/>
                  <a:pt x="66040" y="619528"/>
                </a:cubicBezTo>
                <a:cubicBezTo>
                  <a:pt x="97367" y="693188"/>
                  <a:pt x="135043" y="724938"/>
                  <a:pt x="187960" y="764308"/>
                </a:cubicBezTo>
                <a:cubicBezTo>
                  <a:pt x="240877" y="803678"/>
                  <a:pt x="328930" y="839238"/>
                  <a:pt x="383540" y="855748"/>
                </a:cubicBezTo>
                <a:cubicBezTo>
                  <a:pt x="438150" y="872258"/>
                  <a:pt x="490643" y="859558"/>
                  <a:pt x="515620" y="863368"/>
                </a:cubicBezTo>
                <a:cubicBezTo>
                  <a:pt x="540597" y="867178"/>
                  <a:pt x="523663" y="867601"/>
                  <a:pt x="533400" y="878608"/>
                </a:cubicBezTo>
                <a:cubicBezTo>
                  <a:pt x="543137" y="889615"/>
                  <a:pt x="560917" y="921365"/>
                  <a:pt x="574040" y="929408"/>
                </a:cubicBezTo>
                <a:cubicBezTo>
                  <a:pt x="587163" y="937451"/>
                  <a:pt x="611717" y="933218"/>
                  <a:pt x="612140" y="926868"/>
                </a:cubicBezTo>
                <a:cubicBezTo>
                  <a:pt x="612563" y="920518"/>
                  <a:pt x="584200" y="903161"/>
                  <a:pt x="576580" y="891308"/>
                </a:cubicBezTo>
                <a:cubicBezTo>
                  <a:pt x="568960" y="879455"/>
                  <a:pt x="567267" y="864215"/>
                  <a:pt x="566420" y="855748"/>
                </a:cubicBezTo>
                <a:cubicBezTo>
                  <a:pt x="565573" y="847281"/>
                  <a:pt x="564727" y="850245"/>
                  <a:pt x="571500" y="840508"/>
                </a:cubicBezTo>
                <a:cubicBezTo>
                  <a:pt x="578273" y="830771"/>
                  <a:pt x="588433" y="849821"/>
                  <a:pt x="607060" y="797328"/>
                </a:cubicBezTo>
                <a:cubicBezTo>
                  <a:pt x="625687" y="744835"/>
                  <a:pt x="691727" y="614871"/>
                  <a:pt x="683260" y="525548"/>
                </a:cubicBezTo>
                <a:cubicBezTo>
                  <a:pt x="674793" y="436225"/>
                  <a:pt x="615527" y="330815"/>
                  <a:pt x="556260" y="261388"/>
                </a:cubicBezTo>
                <a:cubicBezTo>
                  <a:pt x="496993" y="191961"/>
                  <a:pt x="394547" y="144971"/>
                  <a:pt x="327660" y="108988"/>
                </a:cubicBezTo>
                <a:cubicBezTo>
                  <a:pt x="260773" y="73005"/>
                  <a:pt x="198120" y="61998"/>
                  <a:pt x="154940" y="45488"/>
                </a:cubicBezTo>
                <a:cubicBezTo>
                  <a:pt x="111760" y="28978"/>
                  <a:pt x="91863" y="-28595"/>
                  <a:pt x="66040" y="17548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フリーフォーム 148"/>
          <p:cNvSpPr/>
          <p:nvPr/>
        </p:nvSpPr>
        <p:spPr>
          <a:xfrm>
            <a:off x="5423040" y="2720880"/>
            <a:ext cx="2987640" cy="2055960"/>
          </a:xfrm>
          <a:custGeom>
            <a:avLst/>
            <a:gdLst/>
            <a:ahLst/>
            <a:rect l="l" t="t" r="r" b="b"/>
            <a:pathLst>
              <a:path w="1307143" h="974774">
                <a:moveTo>
                  <a:pt x="526796" y="329893"/>
                </a:moveTo>
                <a:cubicBezTo>
                  <a:pt x="484124" y="375613"/>
                  <a:pt x="149860" y="477213"/>
                  <a:pt x="63500" y="524965"/>
                </a:cubicBezTo>
                <a:cubicBezTo>
                  <a:pt x="-22860" y="572717"/>
                  <a:pt x="1524" y="597101"/>
                  <a:pt x="8636" y="616405"/>
                </a:cubicBezTo>
                <a:cubicBezTo>
                  <a:pt x="15748" y="635709"/>
                  <a:pt x="100076" y="623517"/>
                  <a:pt x="106172" y="640789"/>
                </a:cubicBezTo>
                <a:cubicBezTo>
                  <a:pt x="112268" y="658061"/>
                  <a:pt x="6604" y="711909"/>
                  <a:pt x="45212" y="720037"/>
                </a:cubicBezTo>
                <a:cubicBezTo>
                  <a:pt x="83820" y="728165"/>
                  <a:pt x="232156" y="740357"/>
                  <a:pt x="337820" y="689557"/>
                </a:cubicBezTo>
                <a:cubicBezTo>
                  <a:pt x="443484" y="638757"/>
                  <a:pt x="627380" y="411173"/>
                  <a:pt x="679196" y="415237"/>
                </a:cubicBezTo>
                <a:cubicBezTo>
                  <a:pt x="731012" y="419301"/>
                  <a:pt x="647700" y="622501"/>
                  <a:pt x="648716" y="713941"/>
                </a:cubicBezTo>
                <a:cubicBezTo>
                  <a:pt x="649732" y="805381"/>
                  <a:pt x="667004" y="928317"/>
                  <a:pt x="685292" y="963877"/>
                </a:cubicBezTo>
                <a:cubicBezTo>
                  <a:pt x="703580" y="999437"/>
                  <a:pt x="734060" y="937461"/>
                  <a:pt x="758444" y="927301"/>
                </a:cubicBezTo>
                <a:cubicBezTo>
                  <a:pt x="782828" y="917141"/>
                  <a:pt x="805180" y="928317"/>
                  <a:pt x="831596" y="902917"/>
                </a:cubicBezTo>
                <a:cubicBezTo>
                  <a:pt x="858012" y="877517"/>
                  <a:pt x="908812" y="852117"/>
                  <a:pt x="916940" y="774901"/>
                </a:cubicBezTo>
                <a:cubicBezTo>
                  <a:pt x="925068" y="697685"/>
                  <a:pt x="858012" y="486357"/>
                  <a:pt x="880364" y="439621"/>
                </a:cubicBezTo>
                <a:cubicBezTo>
                  <a:pt x="902716" y="392885"/>
                  <a:pt x="995172" y="498549"/>
                  <a:pt x="1051052" y="494485"/>
                </a:cubicBezTo>
                <a:cubicBezTo>
                  <a:pt x="1106932" y="490421"/>
                  <a:pt x="1215644" y="415237"/>
                  <a:pt x="1215644" y="415237"/>
                </a:cubicBezTo>
                <a:cubicBezTo>
                  <a:pt x="1258316" y="394917"/>
                  <a:pt x="1309116" y="382725"/>
                  <a:pt x="1307084" y="372565"/>
                </a:cubicBezTo>
                <a:cubicBezTo>
                  <a:pt x="1305052" y="362405"/>
                  <a:pt x="1250188" y="373581"/>
                  <a:pt x="1203452" y="354277"/>
                </a:cubicBezTo>
                <a:cubicBezTo>
                  <a:pt x="1156716" y="334973"/>
                  <a:pt x="1068324" y="267917"/>
                  <a:pt x="1026668" y="256741"/>
                </a:cubicBezTo>
                <a:cubicBezTo>
                  <a:pt x="985012" y="245565"/>
                  <a:pt x="980948" y="282141"/>
                  <a:pt x="953516" y="287221"/>
                </a:cubicBezTo>
                <a:cubicBezTo>
                  <a:pt x="926084" y="292301"/>
                  <a:pt x="885444" y="279093"/>
                  <a:pt x="862076" y="287221"/>
                </a:cubicBezTo>
                <a:cubicBezTo>
                  <a:pt x="838708" y="295349"/>
                  <a:pt x="821436" y="362405"/>
                  <a:pt x="813308" y="335989"/>
                </a:cubicBezTo>
                <a:cubicBezTo>
                  <a:pt x="805180" y="309573"/>
                  <a:pt x="821436" y="184605"/>
                  <a:pt x="813308" y="128725"/>
                </a:cubicBezTo>
                <a:cubicBezTo>
                  <a:pt x="805180" y="72845"/>
                  <a:pt x="783844" y="-8435"/>
                  <a:pt x="764540" y="709"/>
                </a:cubicBezTo>
                <a:cubicBezTo>
                  <a:pt x="745236" y="9853"/>
                  <a:pt x="734060" y="164285"/>
                  <a:pt x="697484" y="183589"/>
                </a:cubicBezTo>
                <a:cubicBezTo>
                  <a:pt x="660908" y="202893"/>
                  <a:pt x="591820" y="134821"/>
                  <a:pt x="545084" y="116533"/>
                </a:cubicBezTo>
                <a:cubicBezTo>
                  <a:pt x="498348" y="98245"/>
                  <a:pt x="459740" y="75893"/>
                  <a:pt x="417068" y="73861"/>
                </a:cubicBezTo>
                <a:cubicBezTo>
                  <a:pt x="374396" y="71829"/>
                  <a:pt x="296164" y="87069"/>
                  <a:pt x="289052" y="104341"/>
                </a:cubicBezTo>
                <a:cubicBezTo>
                  <a:pt x="281940" y="121613"/>
                  <a:pt x="392684" y="172413"/>
                  <a:pt x="374396" y="177493"/>
                </a:cubicBezTo>
                <a:cubicBezTo>
                  <a:pt x="356108" y="182573"/>
                  <a:pt x="188468" y="122629"/>
                  <a:pt x="179324" y="134821"/>
                </a:cubicBezTo>
                <a:cubicBezTo>
                  <a:pt x="170180" y="147013"/>
                  <a:pt x="260604" y="223213"/>
                  <a:pt x="319532" y="250645"/>
                </a:cubicBezTo>
                <a:cubicBezTo>
                  <a:pt x="378460" y="278077"/>
                  <a:pt x="569468" y="284173"/>
                  <a:pt x="526796" y="329893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フリーフォーム 149"/>
          <p:cNvSpPr/>
          <p:nvPr/>
        </p:nvSpPr>
        <p:spPr>
          <a:xfrm rot="6643200">
            <a:off x="-631440" y="3651120"/>
            <a:ext cx="3476520" cy="2549520"/>
          </a:xfrm>
          <a:custGeom>
            <a:avLst/>
            <a:gdLst/>
            <a:ahLst/>
            <a:rect l="l" t="t" r="r" b="b"/>
            <a:pathLst>
              <a:path w="5820309" h="3942257">
                <a:moveTo>
                  <a:pt x="5730394" y="1531663"/>
                </a:moveTo>
                <a:cubicBezTo>
                  <a:pt x="5668164" y="1516423"/>
                  <a:pt x="5537354" y="1546903"/>
                  <a:pt x="5372254" y="1554523"/>
                </a:cubicBezTo>
                <a:cubicBezTo>
                  <a:pt x="5207154" y="1562143"/>
                  <a:pt x="4856634" y="1577383"/>
                  <a:pt x="4739794" y="1577383"/>
                </a:cubicBezTo>
                <a:cubicBezTo>
                  <a:pt x="4622954" y="1577383"/>
                  <a:pt x="4696614" y="1597703"/>
                  <a:pt x="4671214" y="1554523"/>
                </a:cubicBezTo>
                <a:cubicBezTo>
                  <a:pt x="4645814" y="1511343"/>
                  <a:pt x="4620414" y="1374183"/>
                  <a:pt x="4587394" y="1318303"/>
                </a:cubicBezTo>
                <a:cubicBezTo>
                  <a:pt x="4554374" y="1262423"/>
                  <a:pt x="4503574" y="1228133"/>
                  <a:pt x="4473094" y="1219243"/>
                </a:cubicBezTo>
                <a:cubicBezTo>
                  <a:pt x="4442614" y="1210353"/>
                  <a:pt x="4450234" y="1268773"/>
                  <a:pt x="4404514" y="1264963"/>
                </a:cubicBezTo>
                <a:cubicBezTo>
                  <a:pt x="4358794" y="1261153"/>
                  <a:pt x="4261004" y="1254803"/>
                  <a:pt x="4198774" y="1196383"/>
                </a:cubicBezTo>
                <a:cubicBezTo>
                  <a:pt x="4136544" y="1137963"/>
                  <a:pt x="4088284" y="1000803"/>
                  <a:pt x="4031134" y="914443"/>
                </a:cubicBezTo>
                <a:cubicBezTo>
                  <a:pt x="3973984" y="828083"/>
                  <a:pt x="3891434" y="673143"/>
                  <a:pt x="3855874" y="678223"/>
                </a:cubicBezTo>
                <a:cubicBezTo>
                  <a:pt x="3820314" y="683303"/>
                  <a:pt x="3825394" y="859833"/>
                  <a:pt x="3817774" y="944923"/>
                </a:cubicBezTo>
                <a:cubicBezTo>
                  <a:pt x="3810154" y="1030013"/>
                  <a:pt x="3836824" y="1164633"/>
                  <a:pt x="3810154" y="1188763"/>
                </a:cubicBezTo>
                <a:cubicBezTo>
                  <a:pt x="3783484" y="1212893"/>
                  <a:pt x="3706014" y="1168443"/>
                  <a:pt x="3657754" y="1089703"/>
                </a:cubicBezTo>
                <a:cubicBezTo>
                  <a:pt x="3609494" y="1010963"/>
                  <a:pt x="3535834" y="806493"/>
                  <a:pt x="3520594" y="716323"/>
                </a:cubicBezTo>
                <a:cubicBezTo>
                  <a:pt x="3505354" y="626153"/>
                  <a:pt x="3613304" y="607103"/>
                  <a:pt x="3566314" y="548683"/>
                </a:cubicBezTo>
                <a:cubicBezTo>
                  <a:pt x="3519324" y="490263"/>
                  <a:pt x="3305964" y="410253"/>
                  <a:pt x="3238654" y="365803"/>
                </a:cubicBezTo>
                <a:cubicBezTo>
                  <a:pt x="3171344" y="321353"/>
                  <a:pt x="3191664" y="261663"/>
                  <a:pt x="3162454" y="281983"/>
                </a:cubicBezTo>
                <a:cubicBezTo>
                  <a:pt x="3133244" y="302303"/>
                  <a:pt x="3097684" y="434383"/>
                  <a:pt x="3063394" y="487723"/>
                </a:cubicBezTo>
                <a:cubicBezTo>
                  <a:pt x="3029104" y="541063"/>
                  <a:pt x="2959254" y="556303"/>
                  <a:pt x="2956714" y="602023"/>
                </a:cubicBezTo>
                <a:cubicBezTo>
                  <a:pt x="2954174" y="647743"/>
                  <a:pt x="3037994" y="675683"/>
                  <a:pt x="3048154" y="762043"/>
                </a:cubicBezTo>
                <a:cubicBezTo>
                  <a:pt x="3058314" y="848403"/>
                  <a:pt x="3045614" y="1069383"/>
                  <a:pt x="3017674" y="1120183"/>
                </a:cubicBezTo>
                <a:cubicBezTo>
                  <a:pt x="2989734" y="1170983"/>
                  <a:pt x="2937664" y="1154473"/>
                  <a:pt x="2880514" y="1066843"/>
                </a:cubicBezTo>
                <a:cubicBezTo>
                  <a:pt x="2823364" y="979213"/>
                  <a:pt x="2712874" y="716323"/>
                  <a:pt x="2674774" y="594403"/>
                </a:cubicBezTo>
                <a:cubicBezTo>
                  <a:pt x="2636674" y="472483"/>
                  <a:pt x="2663344" y="384853"/>
                  <a:pt x="2651914" y="335323"/>
                </a:cubicBezTo>
                <a:cubicBezTo>
                  <a:pt x="2640484" y="285793"/>
                  <a:pt x="2650644" y="353103"/>
                  <a:pt x="2606194" y="297223"/>
                </a:cubicBezTo>
                <a:cubicBezTo>
                  <a:pt x="2561744" y="241343"/>
                  <a:pt x="2443634" y="-3767"/>
                  <a:pt x="2385214" y="43"/>
                </a:cubicBezTo>
                <a:cubicBezTo>
                  <a:pt x="2326794" y="3853"/>
                  <a:pt x="2322984" y="288333"/>
                  <a:pt x="2255674" y="320083"/>
                </a:cubicBezTo>
                <a:cubicBezTo>
                  <a:pt x="2188364" y="351833"/>
                  <a:pt x="2061364" y="226103"/>
                  <a:pt x="1981354" y="190543"/>
                </a:cubicBezTo>
                <a:cubicBezTo>
                  <a:pt x="1901344" y="154983"/>
                  <a:pt x="1802284" y="104183"/>
                  <a:pt x="1775614" y="106723"/>
                </a:cubicBezTo>
                <a:cubicBezTo>
                  <a:pt x="1748944" y="109263"/>
                  <a:pt x="1844194" y="188003"/>
                  <a:pt x="1821334" y="205783"/>
                </a:cubicBezTo>
                <a:cubicBezTo>
                  <a:pt x="1798474" y="223563"/>
                  <a:pt x="1717194" y="213403"/>
                  <a:pt x="1638454" y="213403"/>
                </a:cubicBezTo>
                <a:cubicBezTo>
                  <a:pt x="1559714" y="213403"/>
                  <a:pt x="1351434" y="137203"/>
                  <a:pt x="1348894" y="205783"/>
                </a:cubicBezTo>
                <a:cubicBezTo>
                  <a:pt x="1346354" y="274363"/>
                  <a:pt x="1597814" y="548683"/>
                  <a:pt x="1623214" y="624883"/>
                </a:cubicBezTo>
                <a:cubicBezTo>
                  <a:pt x="1648614" y="701083"/>
                  <a:pt x="1500024" y="622343"/>
                  <a:pt x="1501294" y="662983"/>
                </a:cubicBezTo>
                <a:cubicBezTo>
                  <a:pt x="1502564" y="703623"/>
                  <a:pt x="1582574" y="806493"/>
                  <a:pt x="1630834" y="868723"/>
                </a:cubicBezTo>
                <a:cubicBezTo>
                  <a:pt x="1679094" y="930953"/>
                  <a:pt x="1784504" y="972863"/>
                  <a:pt x="1790854" y="1036363"/>
                </a:cubicBezTo>
                <a:cubicBezTo>
                  <a:pt x="1797204" y="1099863"/>
                  <a:pt x="1789584" y="1249723"/>
                  <a:pt x="1668934" y="1249723"/>
                </a:cubicBezTo>
                <a:cubicBezTo>
                  <a:pt x="1548284" y="1249723"/>
                  <a:pt x="1191414" y="1064303"/>
                  <a:pt x="1066954" y="1036363"/>
                </a:cubicBezTo>
                <a:cubicBezTo>
                  <a:pt x="942494" y="1008423"/>
                  <a:pt x="997104" y="1092243"/>
                  <a:pt x="922174" y="1082083"/>
                </a:cubicBezTo>
                <a:cubicBezTo>
                  <a:pt x="847244" y="1071923"/>
                  <a:pt x="673254" y="980483"/>
                  <a:pt x="617374" y="975403"/>
                </a:cubicBezTo>
                <a:cubicBezTo>
                  <a:pt x="561494" y="970323"/>
                  <a:pt x="611024" y="1008423"/>
                  <a:pt x="586894" y="1051603"/>
                </a:cubicBezTo>
                <a:cubicBezTo>
                  <a:pt x="562764" y="1094783"/>
                  <a:pt x="454814" y="1143043"/>
                  <a:pt x="472594" y="1234483"/>
                </a:cubicBezTo>
                <a:cubicBezTo>
                  <a:pt x="490374" y="1325923"/>
                  <a:pt x="689764" y="1504993"/>
                  <a:pt x="693574" y="1600243"/>
                </a:cubicBezTo>
                <a:cubicBezTo>
                  <a:pt x="697384" y="1695493"/>
                  <a:pt x="571654" y="1761533"/>
                  <a:pt x="495454" y="1805983"/>
                </a:cubicBezTo>
                <a:cubicBezTo>
                  <a:pt x="419254" y="1850433"/>
                  <a:pt x="270664" y="1831383"/>
                  <a:pt x="236374" y="1866943"/>
                </a:cubicBezTo>
                <a:cubicBezTo>
                  <a:pt x="202084" y="1902503"/>
                  <a:pt x="329084" y="1957113"/>
                  <a:pt x="289714" y="2019343"/>
                </a:cubicBezTo>
                <a:cubicBezTo>
                  <a:pt x="250344" y="2081573"/>
                  <a:pt x="6504" y="2189523"/>
                  <a:pt x="154" y="2240323"/>
                </a:cubicBezTo>
                <a:cubicBezTo>
                  <a:pt x="-6196" y="2291123"/>
                  <a:pt x="184304" y="2298743"/>
                  <a:pt x="251614" y="2324143"/>
                </a:cubicBezTo>
                <a:cubicBezTo>
                  <a:pt x="318924" y="2349543"/>
                  <a:pt x="379884" y="2367323"/>
                  <a:pt x="404014" y="2392723"/>
                </a:cubicBezTo>
                <a:cubicBezTo>
                  <a:pt x="428144" y="2418123"/>
                  <a:pt x="348134" y="2476543"/>
                  <a:pt x="396394" y="2476543"/>
                </a:cubicBezTo>
                <a:cubicBezTo>
                  <a:pt x="444654" y="2476543"/>
                  <a:pt x="674524" y="2345733"/>
                  <a:pt x="693574" y="2392723"/>
                </a:cubicBezTo>
                <a:cubicBezTo>
                  <a:pt x="712624" y="2439713"/>
                  <a:pt x="605944" y="2607353"/>
                  <a:pt x="510694" y="2758483"/>
                </a:cubicBezTo>
                <a:cubicBezTo>
                  <a:pt x="415444" y="2909613"/>
                  <a:pt x="80164" y="3242353"/>
                  <a:pt x="122074" y="3299503"/>
                </a:cubicBezTo>
                <a:cubicBezTo>
                  <a:pt x="163984" y="3356653"/>
                  <a:pt x="638964" y="3095033"/>
                  <a:pt x="762154" y="3101383"/>
                </a:cubicBezTo>
                <a:cubicBezTo>
                  <a:pt x="885344" y="3107733"/>
                  <a:pt x="792634" y="3371893"/>
                  <a:pt x="861214" y="3337603"/>
                </a:cubicBezTo>
                <a:cubicBezTo>
                  <a:pt x="929794" y="3303313"/>
                  <a:pt x="1040284" y="3028993"/>
                  <a:pt x="1173634" y="2895643"/>
                </a:cubicBezTo>
                <a:cubicBezTo>
                  <a:pt x="1306984" y="2762293"/>
                  <a:pt x="1553364" y="2601003"/>
                  <a:pt x="1661314" y="2537503"/>
                </a:cubicBezTo>
                <a:cubicBezTo>
                  <a:pt x="1769264" y="2474003"/>
                  <a:pt x="1851814" y="2405423"/>
                  <a:pt x="1821334" y="2514643"/>
                </a:cubicBezTo>
                <a:cubicBezTo>
                  <a:pt x="1790854" y="2623863"/>
                  <a:pt x="1554634" y="3034073"/>
                  <a:pt x="1478434" y="3192823"/>
                </a:cubicBezTo>
                <a:cubicBezTo>
                  <a:pt x="1402234" y="3351573"/>
                  <a:pt x="1378104" y="3421423"/>
                  <a:pt x="1364134" y="3467143"/>
                </a:cubicBezTo>
                <a:cubicBezTo>
                  <a:pt x="1350164" y="3512863"/>
                  <a:pt x="1406044" y="3388403"/>
                  <a:pt x="1394614" y="3467143"/>
                </a:cubicBezTo>
                <a:cubicBezTo>
                  <a:pt x="1383184" y="3545883"/>
                  <a:pt x="1266344" y="3906563"/>
                  <a:pt x="1295554" y="3939583"/>
                </a:cubicBezTo>
                <a:cubicBezTo>
                  <a:pt x="1324764" y="3972603"/>
                  <a:pt x="1487324" y="3689393"/>
                  <a:pt x="1569874" y="3665263"/>
                </a:cubicBezTo>
                <a:cubicBezTo>
                  <a:pt x="1652424" y="3641133"/>
                  <a:pt x="1719734" y="3755433"/>
                  <a:pt x="1790854" y="3794803"/>
                </a:cubicBezTo>
                <a:cubicBezTo>
                  <a:pt x="1861974" y="3834173"/>
                  <a:pt x="1916584" y="3911643"/>
                  <a:pt x="1996594" y="3901483"/>
                </a:cubicBezTo>
                <a:cubicBezTo>
                  <a:pt x="2076604" y="3891323"/>
                  <a:pt x="2168044" y="3754163"/>
                  <a:pt x="2270914" y="3733843"/>
                </a:cubicBezTo>
                <a:cubicBezTo>
                  <a:pt x="2373784" y="3713523"/>
                  <a:pt x="2524914" y="3862113"/>
                  <a:pt x="2613814" y="3779563"/>
                </a:cubicBezTo>
                <a:cubicBezTo>
                  <a:pt x="2702714" y="3697013"/>
                  <a:pt x="2772564" y="3373163"/>
                  <a:pt x="2804314" y="3238543"/>
                </a:cubicBezTo>
                <a:cubicBezTo>
                  <a:pt x="2836064" y="3103923"/>
                  <a:pt x="2801774" y="3079793"/>
                  <a:pt x="2804314" y="2971843"/>
                </a:cubicBezTo>
                <a:cubicBezTo>
                  <a:pt x="2806854" y="2863893"/>
                  <a:pt x="2792884" y="2694983"/>
                  <a:pt x="2819554" y="2590843"/>
                </a:cubicBezTo>
                <a:cubicBezTo>
                  <a:pt x="2846224" y="2486703"/>
                  <a:pt x="2949094" y="2313983"/>
                  <a:pt x="2964334" y="2347003"/>
                </a:cubicBezTo>
                <a:cubicBezTo>
                  <a:pt x="2979574" y="2380023"/>
                  <a:pt x="2905914" y="2647993"/>
                  <a:pt x="2910994" y="2788963"/>
                </a:cubicBezTo>
                <a:cubicBezTo>
                  <a:pt x="2916074" y="2929933"/>
                  <a:pt x="2955444" y="3164883"/>
                  <a:pt x="2994814" y="3192823"/>
                </a:cubicBezTo>
                <a:cubicBezTo>
                  <a:pt x="3034184" y="3220763"/>
                  <a:pt x="3106574" y="2966763"/>
                  <a:pt x="3147214" y="2956603"/>
                </a:cubicBezTo>
                <a:cubicBezTo>
                  <a:pt x="3187854" y="2946443"/>
                  <a:pt x="3204364" y="3177583"/>
                  <a:pt x="3238654" y="3131863"/>
                </a:cubicBezTo>
                <a:cubicBezTo>
                  <a:pt x="3272944" y="3086143"/>
                  <a:pt x="3303424" y="2796583"/>
                  <a:pt x="3352954" y="2682283"/>
                </a:cubicBezTo>
                <a:cubicBezTo>
                  <a:pt x="3402484" y="2567983"/>
                  <a:pt x="3492654" y="2462573"/>
                  <a:pt x="3535834" y="2446063"/>
                </a:cubicBezTo>
                <a:cubicBezTo>
                  <a:pt x="3579014" y="2429553"/>
                  <a:pt x="3563774" y="2613703"/>
                  <a:pt x="3612034" y="2583223"/>
                </a:cubicBezTo>
                <a:cubicBezTo>
                  <a:pt x="3660294" y="2552743"/>
                  <a:pt x="3744114" y="2363513"/>
                  <a:pt x="3825394" y="2263183"/>
                </a:cubicBezTo>
                <a:cubicBezTo>
                  <a:pt x="3906674" y="2162853"/>
                  <a:pt x="4026054" y="2020613"/>
                  <a:pt x="4099714" y="1981243"/>
                </a:cubicBezTo>
                <a:cubicBezTo>
                  <a:pt x="4173374" y="1941873"/>
                  <a:pt x="4161944" y="2071413"/>
                  <a:pt x="4267354" y="2026963"/>
                </a:cubicBezTo>
                <a:cubicBezTo>
                  <a:pt x="4372764" y="1982513"/>
                  <a:pt x="4648354" y="1775503"/>
                  <a:pt x="4732174" y="1714543"/>
                </a:cubicBezTo>
                <a:cubicBezTo>
                  <a:pt x="4815994" y="1653583"/>
                  <a:pt x="4747414" y="1672633"/>
                  <a:pt x="4770274" y="1661203"/>
                </a:cubicBezTo>
                <a:cubicBezTo>
                  <a:pt x="4793134" y="1649773"/>
                  <a:pt x="4706774" y="1648503"/>
                  <a:pt x="4869334" y="1645963"/>
                </a:cubicBezTo>
                <a:cubicBezTo>
                  <a:pt x="5031894" y="1643423"/>
                  <a:pt x="5602124" y="1658663"/>
                  <a:pt x="5745634" y="1645963"/>
                </a:cubicBezTo>
                <a:cubicBezTo>
                  <a:pt x="5889144" y="1633263"/>
                  <a:pt x="5792624" y="1546903"/>
                  <a:pt x="5730394" y="1531663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フリーフォーム 150"/>
          <p:cNvSpPr/>
          <p:nvPr/>
        </p:nvSpPr>
        <p:spPr>
          <a:xfrm rot="6643200">
            <a:off x="2191320" y="3267720"/>
            <a:ext cx="2268360" cy="4070520"/>
          </a:xfrm>
          <a:custGeom>
            <a:avLst/>
            <a:gdLst/>
            <a:ahLst/>
            <a:rect l="l" t="t" r="r" b="b"/>
            <a:pathLst>
              <a:path w="2850241" h="4720393">
                <a:moveTo>
                  <a:pt x="967906" y="4671628"/>
                </a:moveTo>
                <a:cubicBezTo>
                  <a:pt x="967906" y="4581458"/>
                  <a:pt x="1031406" y="4262688"/>
                  <a:pt x="1051726" y="4100128"/>
                </a:cubicBezTo>
                <a:cubicBezTo>
                  <a:pt x="1072046" y="3937568"/>
                  <a:pt x="1102526" y="3775008"/>
                  <a:pt x="1089826" y="3696268"/>
                </a:cubicBezTo>
                <a:cubicBezTo>
                  <a:pt x="1077126" y="3617528"/>
                  <a:pt x="1017436" y="3630228"/>
                  <a:pt x="975526" y="3627688"/>
                </a:cubicBezTo>
                <a:cubicBezTo>
                  <a:pt x="933616" y="3625148"/>
                  <a:pt x="875196" y="3669598"/>
                  <a:pt x="838366" y="3681028"/>
                </a:cubicBezTo>
                <a:cubicBezTo>
                  <a:pt x="801536" y="3692458"/>
                  <a:pt x="796456" y="3739448"/>
                  <a:pt x="754546" y="3696268"/>
                </a:cubicBezTo>
                <a:cubicBezTo>
                  <a:pt x="712636" y="3653088"/>
                  <a:pt x="627546" y="3484178"/>
                  <a:pt x="586906" y="3421948"/>
                </a:cubicBezTo>
                <a:cubicBezTo>
                  <a:pt x="546266" y="3359718"/>
                  <a:pt x="539916" y="3344478"/>
                  <a:pt x="510706" y="3322888"/>
                </a:cubicBezTo>
                <a:cubicBezTo>
                  <a:pt x="481496" y="3301298"/>
                  <a:pt x="412916" y="3349558"/>
                  <a:pt x="411646" y="3292408"/>
                </a:cubicBezTo>
                <a:cubicBezTo>
                  <a:pt x="410376" y="3235258"/>
                  <a:pt x="505626" y="3065078"/>
                  <a:pt x="503086" y="2979988"/>
                </a:cubicBezTo>
                <a:cubicBezTo>
                  <a:pt x="500546" y="2894898"/>
                  <a:pt x="456096" y="2864418"/>
                  <a:pt x="396406" y="2781868"/>
                </a:cubicBezTo>
                <a:cubicBezTo>
                  <a:pt x="336716" y="2699318"/>
                  <a:pt x="202096" y="2587558"/>
                  <a:pt x="144946" y="2484688"/>
                </a:cubicBezTo>
                <a:cubicBezTo>
                  <a:pt x="87796" y="2381818"/>
                  <a:pt x="19216" y="2215448"/>
                  <a:pt x="53506" y="2164648"/>
                </a:cubicBezTo>
                <a:cubicBezTo>
                  <a:pt x="87796" y="2113848"/>
                  <a:pt x="274486" y="2207828"/>
                  <a:pt x="350686" y="2179888"/>
                </a:cubicBezTo>
                <a:cubicBezTo>
                  <a:pt x="426886" y="2151948"/>
                  <a:pt x="542456" y="2087178"/>
                  <a:pt x="510706" y="1997008"/>
                </a:cubicBezTo>
                <a:cubicBezTo>
                  <a:pt x="478956" y="1906838"/>
                  <a:pt x="245276" y="1739198"/>
                  <a:pt x="160186" y="1638868"/>
                </a:cubicBezTo>
                <a:cubicBezTo>
                  <a:pt x="75096" y="1538538"/>
                  <a:pt x="5246" y="1452178"/>
                  <a:pt x="166" y="1395028"/>
                </a:cubicBezTo>
                <a:cubicBezTo>
                  <a:pt x="-4914" y="1337878"/>
                  <a:pt x="108116" y="1335338"/>
                  <a:pt x="129706" y="1295968"/>
                </a:cubicBezTo>
                <a:cubicBezTo>
                  <a:pt x="151296" y="1256598"/>
                  <a:pt x="130976" y="1221038"/>
                  <a:pt x="129706" y="1158808"/>
                </a:cubicBezTo>
                <a:cubicBezTo>
                  <a:pt x="128436" y="1096578"/>
                  <a:pt x="105576" y="983548"/>
                  <a:pt x="122086" y="922588"/>
                </a:cubicBezTo>
                <a:cubicBezTo>
                  <a:pt x="138596" y="861628"/>
                  <a:pt x="157646" y="780348"/>
                  <a:pt x="228766" y="793048"/>
                </a:cubicBezTo>
                <a:cubicBezTo>
                  <a:pt x="299886" y="805748"/>
                  <a:pt x="448476" y="986088"/>
                  <a:pt x="548806" y="998788"/>
                </a:cubicBezTo>
                <a:cubicBezTo>
                  <a:pt x="649136" y="1011488"/>
                  <a:pt x="781216" y="965768"/>
                  <a:pt x="830746" y="869248"/>
                </a:cubicBezTo>
                <a:cubicBezTo>
                  <a:pt x="880276" y="772728"/>
                  <a:pt x="826936" y="514918"/>
                  <a:pt x="845986" y="419668"/>
                </a:cubicBezTo>
                <a:cubicBezTo>
                  <a:pt x="865036" y="324418"/>
                  <a:pt x="917106" y="339658"/>
                  <a:pt x="945046" y="297748"/>
                </a:cubicBezTo>
                <a:cubicBezTo>
                  <a:pt x="972986" y="255838"/>
                  <a:pt x="966636" y="168208"/>
                  <a:pt x="1013626" y="168208"/>
                </a:cubicBezTo>
                <a:cubicBezTo>
                  <a:pt x="1060616" y="168208"/>
                  <a:pt x="1160946" y="285048"/>
                  <a:pt x="1226986" y="297748"/>
                </a:cubicBezTo>
                <a:cubicBezTo>
                  <a:pt x="1293026" y="310448"/>
                  <a:pt x="1361606" y="272348"/>
                  <a:pt x="1409866" y="244408"/>
                </a:cubicBezTo>
                <a:cubicBezTo>
                  <a:pt x="1458126" y="216468"/>
                  <a:pt x="1455586" y="170748"/>
                  <a:pt x="1516546" y="130108"/>
                </a:cubicBezTo>
                <a:cubicBezTo>
                  <a:pt x="1577506" y="89468"/>
                  <a:pt x="1729906" y="-8322"/>
                  <a:pt x="1775626" y="568"/>
                </a:cubicBezTo>
                <a:cubicBezTo>
                  <a:pt x="1821346" y="9458"/>
                  <a:pt x="1776896" y="152968"/>
                  <a:pt x="1790866" y="183448"/>
                </a:cubicBezTo>
                <a:cubicBezTo>
                  <a:pt x="1804836" y="213928"/>
                  <a:pt x="1842936" y="128838"/>
                  <a:pt x="1859446" y="183448"/>
                </a:cubicBezTo>
                <a:cubicBezTo>
                  <a:pt x="1875956" y="238058"/>
                  <a:pt x="1820076" y="447608"/>
                  <a:pt x="1889926" y="511108"/>
                </a:cubicBezTo>
                <a:cubicBezTo>
                  <a:pt x="1959776" y="574608"/>
                  <a:pt x="2220126" y="528888"/>
                  <a:pt x="2278546" y="564448"/>
                </a:cubicBezTo>
                <a:cubicBezTo>
                  <a:pt x="2336966" y="600008"/>
                  <a:pt x="2248066" y="671128"/>
                  <a:pt x="2240446" y="724468"/>
                </a:cubicBezTo>
                <a:cubicBezTo>
                  <a:pt x="2232826" y="777808"/>
                  <a:pt x="2237906" y="837498"/>
                  <a:pt x="2232826" y="884488"/>
                </a:cubicBezTo>
                <a:cubicBezTo>
                  <a:pt x="2227746" y="931478"/>
                  <a:pt x="2230286" y="964498"/>
                  <a:pt x="2209966" y="1006408"/>
                </a:cubicBezTo>
                <a:cubicBezTo>
                  <a:pt x="2189646" y="1048318"/>
                  <a:pt x="2132496" y="1080068"/>
                  <a:pt x="2110906" y="1135948"/>
                </a:cubicBezTo>
                <a:cubicBezTo>
                  <a:pt x="2089316" y="1191828"/>
                  <a:pt x="2098206" y="1294698"/>
                  <a:pt x="2080426" y="1341688"/>
                </a:cubicBezTo>
                <a:cubicBezTo>
                  <a:pt x="2062646" y="1388678"/>
                  <a:pt x="2006766" y="1392488"/>
                  <a:pt x="2004226" y="1417888"/>
                </a:cubicBezTo>
                <a:cubicBezTo>
                  <a:pt x="2001686" y="1443288"/>
                  <a:pt x="1978826" y="1461068"/>
                  <a:pt x="2065186" y="1494088"/>
                </a:cubicBezTo>
                <a:cubicBezTo>
                  <a:pt x="2151546" y="1527108"/>
                  <a:pt x="2391576" y="1603308"/>
                  <a:pt x="2522386" y="1616008"/>
                </a:cubicBezTo>
                <a:cubicBezTo>
                  <a:pt x="2653196" y="1628708"/>
                  <a:pt x="2842426" y="1534728"/>
                  <a:pt x="2850046" y="1570288"/>
                </a:cubicBezTo>
                <a:cubicBezTo>
                  <a:pt x="2857666" y="1605848"/>
                  <a:pt x="2640496" y="1734118"/>
                  <a:pt x="2568106" y="1829368"/>
                </a:cubicBezTo>
                <a:cubicBezTo>
                  <a:pt x="2495716" y="1924618"/>
                  <a:pt x="2527466" y="2071938"/>
                  <a:pt x="2415706" y="2141788"/>
                </a:cubicBezTo>
                <a:cubicBezTo>
                  <a:pt x="2303946" y="2211638"/>
                  <a:pt x="1995336" y="2202748"/>
                  <a:pt x="1897546" y="2248468"/>
                </a:cubicBezTo>
                <a:cubicBezTo>
                  <a:pt x="1799756" y="2294188"/>
                  <a:pt x="1770546" y="2364038"/>
                  <a:pt x="1828966" y="2416108"/>
                </a:cubicBezTo>
                <a:cubicBezTo>
                  <a:pt x="1887386" y="2468178"/>
                  <a:pt x="2272196" y="2475798"/>
                  <a:pt x="2248066" y="2560888"/>
                </a:cubicBezTo>
                <a:cubicBezTo>
                  <a:pt x="2223936" y="2645978"/>
                  <a:pt x="1797216" y="2841558"/>
                  <a:pt x="1684186" y="2926648"/>
                </a:cubicBezTo>
                <a:cubicBezTo>
                  <a:pt x="1571156" y="3011738"/>
                  <a:pt x="1567346" y="3033328"/>
                  <a:pt x="1569886" y="3071428"/>
                </a:cubicBezTo>
                <a:cubicBezTo>
                  <a:pt x="1572426" y="3109528"/>
                  <a:pt x="1718476" y="3098098"/>
                  <a:pt x="1699426" y="3155248"/>
                </a:cubicBezTo>
                <a:cubicBezTo>
                  <a:pt x="1680376" y="3212398"/>
                  <a:pt x="1508926" y="3343208"/>
                  <a:pt x="1455586" y="3414328"/>
                </a:cubicBezTo>
                <a:cubicBezTo>
                  <a:pt x="1402246" y="3485448"/>
                  <a:pt x="1408596" y="3518468"/>
                  <a:pt x="1379386" y="3581968"/>
                </a:cubicBezTo>
                <a:cubicBezTo>
                  <a:pt x="1350176" y="3645468"/>
                  <a:pt x="1318426" y="3739448"/>
                  <a:pt x="1280326" y="3795328"/>
                </a:cubicBezTo>
                <a:cubicBezTo>
                  <a:pt x="1242226" y="3851208"/>
                  <a:pt x="1182536" y="3839778"/>
                  <a:pt x="1150786" y="3917248"/>
                </a:cubicBezTo>
                <a:cubicBezTo>
                  <a:pt x="1119036" y="3994718"/>
                  <a:pt x="1106336" y="4139498"/>
                  <a:pt x="1089826" y="4260148"/>
                </a:cubicBezTo>
                <a:cubicBezTo>
                  <a:pt x="1073316" y="4380798"/>
                  <a:pt x="1072046" y="4570028"/>
                  <a:pt x="1051726" y="4641148"/>
                </a:cubicBezTo>
                <a:cubicBezTo>
                  <a:pt x="1031406" y="4712268"/>
                  <a:pt x="967906" y="4761798"/>
                  <a:pt x="967906" y="4671628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フリーフォーム 151"/>
          <p:cNvSpPr/>
          <p:nvPr/>
        </p:nvSpPr>
        <p:spPr>
          <a:xfrm rot="6643200">
            <a:off x="716760" y="258480"/>
            <a:ext cx="2644920" cy="3041640"/>
          </a:xfrm>
          <a:custGeom>
            <a:avLst/>
            <a:gdLst/>
            <a:ahLst/>
            <a:rect l="l" t="t" r="r" b="b"/>
            <a:pathLst>
              <a:path w="1534855" h="1629107">
                <a:moveTo>
                  <a:pt x="1031649" y="13471"/>
                </a:moveTo>
                <a:cubicBezTo>
                  <a:pt x="955449" y="36331"/>
                  <a:pt x="730236" y="133698"/>
                  <a:pt x="650649" y="155711"/>
                </a:cubicBezTo>
                <a:cubicBezTo>
                  <a:pt x="571062" y="177724"/>
                  <a:pt x="596462" y="131158"/>
                  <a:pt x="554129" y="145551"/>
                </a:cubicBezTo>
                <a:cubicBezTo>
                  <a:pt x="511796" y="159944"/>
                  <a:pt x="437289" y="207358"/>
                  <a:pt x="396649" y="242071"/>
                </a:cubicBezTo>
                <a:cubicBezTo>
                  <a:pt x="356009" y="276784"/>
                  <a:pt x="363629" y="308958"/>
                  <a:pt x="310289" y="353831"/>
                </a:cubicBezTo>
                <a:cubicBezTo>
                  <a:pt x="256949" y="398704"/>
                  <a:pt x="128256" y="462204"/>
                  <a:pt x="76609" y="511311"/>
                </a:cubicBezTo>
                <a:cubicBezTo>
                  <a:pt x="24962" y="560418"/>
                  <a:pt x="-3824" y="631538"/>
                  <a:pt x="409" y="648471"/>
                </a:cubicBezTo>
                <a:cubicBezTo>
                  <a:pt x="4642" y="665404"/>
                  <a:pt x="84229" y="606984"/>
                  <a:pt x="102009" y="612911"/>
                </a:cubicBezTo>
                <a:cubicBezTo>
                  <a:pt x="119789" y="618838"/>
                  <a:pt x="76609" y="678951"/>
                  <a:pt x="107089" y="684031"/>
                </a:cubicBezTo>
                <a:cubicBezTo>
                  <a:pt x="137569" y="689111"/>
                  <a:pt x="277269" y="609524"/>
                  <a:pt x="284889" y="643391"/>
                </a:cubicBezTo>
                <a:cubicBezTo>
                  <a:pt x="292509" y="677258"/>
                  <a:pt x="186676" y="826271"/>
                  <a:pt x="152809" y="887231"/>
                </a:cubicBezTo>
                <a:cubicBezTo>
                  <a:pt x="118942" y="948191"/>
                  <a:pt x="84229" y="985444"/>
                  <a:pt x="81689" y="1009151"/>
                </a:cubicBezTo>
                <a:cubicBezTo>
                  <a:pt x="79149" y="1032858"/>
                  <a:pt x="138416" y="987984"/>
                  <a:pt x="137569" y="1029471"/>
                </a:cubicBezTo>
                <a:cubicBezTo>
                  <a:pt x="136722" y="1070958"/>
                  <a:pt x="83382" y="1207271"/>
                  <a:pt x="76609" y="1258071"/>
                </a:cubicBezTo>
                <a:cubicBezTo>
                  <a:pt x="69836" y="1308871"/>
                  <a:pt x="84229" y="1302944"/>
                  <a:pt x="96929" y="1334271"/>
                </a:cubicBezTo>
                <a:cubicBezTo>
                  <a:pt x="109629" y="1365598"/>
                  <a:pt x="116402" y="1456191"/>
                  <a:pt x="152809" y="1446031"/>
                </a:cubicBezTo>
                <a:cubicBezTo>
                  <a:pt x="189216" y="1435871"/>
                  <a:pt x="279809" y="1285164"/>
                  <a:pt x="315369" y="1273311"/>
                </a:cubicBezTo>
                <a:cubicBezTo>
                  <a:pt x="350929" y="1261458"/>
                  <a:pt x="320449" y="1401158"/>
                  <a:pt x="366169" y="1374911"/>
                </a:cubicBezTo>
                <a:cubicBezTo>
                  <a:pt x="411889" y="1348664"/>
                  <a:pt x="543122" y="1161551"/>
                  <a:pt x="589689" y="1115831"/>
                </a:cubicBezTo>
                <a:cubicBezTo>
                  <a:pt x="636256" y="1070111"/>
                  <a:pt x="637102" y="1065878"/>
                  <a:pt x="645569" y="1100591"/>
                </a:cubicBezTo>
                <a:cubicBezTo>
                  <a:pt x="654036" y="1135304"/>
                  <a:pt x="641336" y="1275004"/>
                  <a:pt x="640489" y="1324111"/>
                </a:cubicBezTo>
                <a:cubicBezTo>
                  <a:pt x="639642" y="1373218"/>
                  <a:pt x="634562" y="1386764"/>
                  <a:pt x="640489" y="1395231"/>
                </a:cubicBezTo>
                <a:cubicBezTo>
                  <a:pt x="646416" y="1403698"/>
                  <a:pt x="663349" y="1357978"/>
                  <a:pt x="676049" y="1374911"/>
                </a:cubicBezTo>
                <a:cubicBezTo>
                  <a:pt x="688749" y="1391844"/>
                  <a:pt x="697216" y="1454498"/>
                  <a:pt x="716689" y="1496831"/>
                </a:cubicBezTo>
                <a:cubicBezTo>
                  <a:pt x="736162" y="1539164"/>
                  <a:pt x="765796" y="1633991"/>
                  <a:pt x="792889" y="1628911"/>
                </a:cubicBezTo>
                <a:cubicBezTo>
                  <a:pt x="819982" y="1623831"/>
                  <a:pt x="848769" y="1481591"/>
                  <a:pt x="879249" y="1466351"/>
                </a:cubicBezTo>
                <a:cubicBezTo>
                  <a:pt x="909729" y="1451111"/>
                  <a:pt x="948676" y="1558638"/>
                  <a:pt x="975769" y="1537471"/>
                </a:cubicBezTo>
                <a:cubicBezTo>
                  <a:pt x="1002862" y="1516304"/>
                  <a:pt x="1018949" y="1361364"/>
                  <a:pt x="1041809" y="1339351"/>
                </a:cubicBezTo>
                <a:cubicBezTo>
                  <a:pt x="1064669" y="1317338"/>
                  <a:pt x="1085836" y="1446031"/>
                  <a:pt x="1112929" y="1405391"/>
                </a:cubicBezTo>
                <a:cubicBezTo>
                  <a:pt x="1140022" y="1364751"/>
                  <a:pt x="1160342" y="1141231"/>
                  <a:pt x="1204369" y="1095511"/>
                </a:cubicBezTo>
                <a:cubicBezTo>
                  <a:pt x="1248396" y="1049791"/>
                  <a:pt x="1337296" y="1155624"/>
                  <a:pt x="1377089" y="1131071"/>
                </a:cubicBezTo>
                <a:cubicBezTo>
                  <a:pt x="1416882" y="1106518"/>
                  <a:pt x="1419422" y="978671"/>
                  <a:pt x="1443129" y="948191"/>
                </a:cubicBezTo>
                <a:cubicBezTo>
                  <a:pt x="1466836" y="917711"/>
                  <a:pt x="1515942" y="973591"/>
                  <a:pt x="1519329" y="948191"/>
                </a:cubicBezTo>
                <a:cubicBezTo>
                  <a:pt x="1522716" y="922791"/>
                  <a:pt x="1460909" y="826271"/>
                  <a:pt x="1463449" y="795791"/>
                </a:cubicBezTo>
                <a:cubicBezTo>
                  <a:pt x="1465989" y="765311"/>
                  <a:pt x="1530336" y="793251"/>
                  <a:pt x="1534569" y="765311"/>
                </a:cubicBezTo>
                <a:cubicBezTo>
                  <a:pt x="1538802" y="737371"/>
                  <a:pt x="1494776" y="673024"/>
                  <a:pt x="1488849" y="628151"/>
                </a:cubicBezTo>
                <a:cubicBezTo>
                  <a:pt x="1482922" y="583278"/>
                  <a:pt x="1525256" y="553644"/>
                  <a:pt x="1499009" y="496071"/>
                </a:cubicBezTo>
                <a:cubicBezTo>
                  <a:pt x="1472762" y="438498"/>
                  <a:pt x="1383016" y="345364"/>
                  <a:pt x="1331369" y="282711"/>
                </a:cubicBezTo>
                <a:cubicBezTo>
                  <a:pt x="1279722" y="220058"/>
                  <a:pt x="1226382" y="164178"/>
                  <a:pt x="1189129" y="120151"/>
                </a:cubicBezTo>
                <a:cubicBezTo>
                  <a:pt x="1151876" y="76124"/>
                  <a:pt x="1135789" y="37178"/>
                  <a:pt x="1107849" y="18551"/>
                </a:cubicBezTo>
                <a:cubicBezTo>
                  <a:pt x="1079909" y="-76"/>
                  <a:pt x="1107849" y="-9389"/>
                  <a:pt x="1031649" y="13471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フリーフォーム 152"/>
          <p:cNvSpPr/>
          <p:nvPr/>
        </p:nvSpPr>
        <p:spPr>
          <a:xfrm rot="6643200">
            <a:off x="2583720" y="1072800"/>
            <a:ext cx="1996920" cy="746280"/>
          </a:xfrm>
          <a:custGeom>
            <a:avLst/>
            <a:gdLst/>
            <a:ahLst/>
            <a:rect l="l" t="t" r="r" b="b"/>
            <a:pathLst>
              <a:path w="2545080" h="877808">
                <a:moveTo>
                  <a:pt x="1676400" y="393306"/>
                </a:moveTo>
                <a:cubicBezTo>
                  <a:pt x="1584325" y="327901"/>
                  <a:pt x="1445895" y="224396"/>
                  <a:pt x="1337310" y="168516"/>
                </a:cubicBezTo>
                <a:cubicBezTo>
                  <a:pt x="1228725" y="112636"/>
                  <a:pt x="1125220" y="85966"/>
                  <a:pt x="1024890" y="58026"/>
                </a:cubicBezTo>
                <a:cubicBezTo>
                  <a:pt x="924560" y="30086"/>
                  <a:pt x="850265" y="-6109"/>
                  <a:pt x="735330" y="876"/>
                </a:cubicBezTo>
                <a:cubicBezTo>
                  <a:pt x="620395" y="7861"/>
                  <a:pt x="457835" y="26276"/>
                  <a:pt x="335280" y="99936"/>
                </a:cubicBezTo>
                <a:cubicBezTo>
                  <a:pt x="212725" y="173596"/>
                  <a:pt x="34290" y="361556"/>
                  <a:pt x="0" y="442836"/>
                </a:cubicBezTo>
                <a:cubicBezTo>
                  <a:pt x="30480" y="527926"/>
                  <a:pt x="64770" y="527926"/>
                  <a:pt x="129540" y="587616"/>
                </a:cubicBezTo>
                <a:cubicBezTo>
                  <a:pt x="194310" y="647306"/>
                  <a:pt x="281940" y="752716"/>
                  <a:pt x="388620" y="800976"/>
                </a:cubicBezTo>
                <a:cubicBezTo>
                  <a:pt x="495300" y="849236"/>
                  <a:pt x="615950" y="882891"/>
                  <a:pt x="769620" y="877176"/>
                </a:cubicBezTo>
                <a:cubicBezTo>
                  <a:pt x="923290" y="871461"/>
                  <a:pt x="1159510" y="835901"/>
                  <a:pt x="1310640" y="766686"/>
                </a:cubicBezTo>
                <a:cubicBezTo>
                  <a:pt x="1461770" y="697471"/>
                  <a:pt x="1564640" y="499351"/>
                  <a:pt x="1676400" y="461886"/>
                </a:cubicBezTo>
                <a:cubicBezTo>
                  <a:pt x="1788160" y="424421"/>
                  <a:pt x="1893570" y="497446"/>
                  <a:pt x="2004060" y="530466"/>
                </a:cubicBezTo>
                <a:cubicBezTo>
                  <a:pt x="2114550" y="563486"/>
                  <a:pt x="2258060" y="626986"/>
                  <a:pt x="2339340" y="660006"/>
                </a:cubicBezTo>
                <a:cubicBezTo>
                  <a:pt x="2420620" y="693026"/>
                  <a:pt x="2457450" y="730491"/>
                  <a:pt x="2491740" y="728586"/>
                </a:cubicBezTo>
                <a:cubicBezTo>
                  <a:pt x="2526030" y="726681"/>
                  <a:pt x="2545080" y="669531"/>
                  <a:pt x="2545080" y="648576"/>
                </a:cubicBezTo>
                <a:cubicBezTo>
                  <a:pt x="2545080" y="627621"/>
                  <a:pt x="2508250" y="605396"/>
                  <a:pt x="2491740" y="602856"/>
                </a:cubicBezTo>
                <a:cubicBezTo>
                  <a:pt x="2475230" y="600316"/>
                  <a:pt x="2527300" y="655561"/>
                  <a:pt x="2446020" y="633336"/>
                </a:cubicBezTo>
                <a:cubicBezTo>
                  <a:pt x="2364740" y="611111"/>
                  <a:pt x="2132330" y="509511"/>
                  <a:pt x="2004060" y="469506"/>
                </a:cubicBezTo>
                <a:cubicBezTo>
                  <a:pt x="1875790" y="429501"/>
                  <a:pt x="1753235" y="393941"/>
                  <a:pt x="1676400" y="39330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フリーフォーム 153"/>
          <p:cNvSpPr/>
          <p:nvPr/>
        </p:nvSpPr>
        <p:spPr>
          <a:xfrm rot="6643200">
            <a:off x="3022920" y="2185200"/>
            <a:ext cx="1328760" cy="927000"/>
          </a:xfrm>
          <a:custGeom>
            <a:avLst/>
            <a:gdLst/>
            <a:ahLst/>
            <a:rect l="l" t="t" r="r" b="b"/>
            <a:pathLst>
              <a:path w="1694411" h="1090756">
                <a:moveTo>
                  <a:pt x="1683236" y="1044886"/>
                </a:moveTo>
                <a:cubicBezTo>
                  <a:pt x="1653603" y="1016099"/>
                  <a:pt x="1529143" y="960219"/>
                  <a:pt x="1485116" y="917886"/>
                </a:cubicBezTo>
                <a:cubicBezTo>
                  <a:pt x="1441089" y="875553"/>
                  <a:pt x="1458023" y="869626"/>
                  <a:pt x="1419076" y="790886"/>
                </a:cubicBezTo>
                <a:cubicBezTo>
                  <a:pt x="1380129" y="712146"/>
                  <a:pt x="1335256" y="555513"/>
                  <a:pt x="1251436" y="445446"/>
                </a:cubicBezTo>
                <a:cubicBezTo>
                  <a:pt x="1167616" y="335379"/>
                  <a:pt x="1045696" y="204146"/>
                  <a:pt x="916156" y="130486"/>
                </a:cubicBezTo>
                <a:cubicBezTo>
                  <a:pt x="786616" y="56826"/>
                  <a:pt x="610509" y="18726"/>
                  <a:pt x="474196" y="3486"/>
                </a:cubicBezTo>
                <a:cubicBezTo>
                  <a:pt x="337883" y="-11754"/>
                  <a:pt x="177016" y="27193"/>
                  <a:pt x="98276" y="39046"/>
                </a:cubicBezTo>
                <a:cubicBezTo>
                  <a:pt x="19536" y="50899"/>
                  <a:pt x="-7557" y="5179"/>
                  <a:pt x="1756" y="74606"/>
                </a:cubicBezTo>
                <a:cubicBezTo>
                  <a:pt x="11069" y="144033"/>
                  <a:pt x="65256" y="335379"/>
                  <a:pt x="154156" y="455606"/>
                </a:cubicBezTo>
                <a:cubicBezTo>
                  <a:pt x="243056" y="575833"/>
                  <a:pt x="420856" y="718073"/>
                  <a:pt x="535156" y="795966"/>
                </a:cubicBezTo>
                <a:cubicBezTo>
                  <a:pt x="649456" y="873859"/>
                  <a:pt x="775609" y="895026"/>
                  <a:pt x="839956" y="922966"/>
                </a:cubicBezTo>
                <a:cubicBezTo>
                  <a:pt x="904303" y="950906"/>
                  <a:pt x="905996" y="949213"/>
                  <a:pt x="921236" y="963606"/>
                </a:cubicBezTo>
                <a:cubicBezTo>
                  <a:pt x="936476" y="977999"/>
                  <a:pt x="885676" y="1007633"/>
                  <a:pt x="931396" y="1009326"/>
                </a:cubicBezTo>
                <a:cubicBezTo>
                  <a:pt x="977116" y="1011019"/>
                  <a:pt x="1110043" y="979693"/>
                  <a:pt x="1195556" y="973766"/>
                </a:cubicBezTo>
                <a:cubicBezTo>
                  <a:pt x="1281069" y="967839"/>
                  <a:pt x="1374203" y="959373"/>
                  <a:pt x="1444476" y="973766"/>
                </a:cubicBezTo>
                <a:cubicBezTo>
                  <a:pt x="1514749" y="988159"/>
                  <a:pt x="1580789" y="1040653"/>
                  <a:pt x="1617196" y="1060126"/>
                </a:cubicBezTo>
                <a:cubicBezTo>
                  <a:pt x="1653603" y="1079599"/>
                  <a:pt x="1650216" y="1092299"/>
                  <a:pt x="1662916" y="1090606"/>
                </a:cubicBezTo>
                <a:cubicBezTo>
                  <a:pt x="1675616" y="1088913"/>
                  <a:pt x="1712869" y="1073673"/>
                  <a:pt x="1683236" y="104488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フリーフォーム 154"/>
          <p:cNvSpPr/>
          <p:nvPr/>
        </p:nvSpPr>
        <p:spPr>
          <a:xfrm rot="6643200">
            <a:off x="4000320" y="3476520"/>
            <a:ext cx="1417680" cy="880920"/>
          </a:xfrm>
          <a:custGeom>
            <a:avLst/>
            <a:gdLst/>
            <a:ahLst/>
            <a:rect l="l" t="t" r="r" b="b"/>
            <a:pathLst>
              <a:path w="1806556" h="1036125">
                <a:moveTo>
                  <a:pt x="1704812" y="19567"/>
                </a:moveTo>
                <a:cubicBezTo>
                  <a:pt x="1650625" y="39887"/>
                  <a:pt x="1562572" y="110160"/>
                  <a:pt x="1471132" y="126247"/>
                </a:cubicBezTo>
                <a:cubicBezTo>
                  <a:pt x="1379692" y="142334"/>
                  <a:pt x="1298412" y="98307"/>
                  <a:pt x="1156172" y="116087"/>
                </a:cubicBezTo>
                <a:cubicBezTo>
                  <a:pt x="1013932" y="133867"/>
                  <a:pt x="765012" y="178740"/>
                  <a:pt x="617692" y="232927"/>
                </a:cubicBezTo>
                <a:cubicBezTo>
                  <a:pt x="470372" y="287114"/>
                  <a:pt x="316279" y="397180"/>
                  <a:pt x="272252" y="441207"/>
                </a:cubicBezTo>
                <a:cubicBezTo>
                  <a:pt x="228225" y="485234"/>
                  <a:pt x="335752" y="469994"/>
                  <a:pt x="353532" y="497087"/>
                </a:cubicBezTo>
                <a:cubicBezTo>
                  <a:pt x="371312" y="524180"/>
                  <a:pt x="394172" y="578367"/>
                  <a:pt x="378932" y="603767"/>
                </a:cubicBezTo>
                <a:cubicBezTo>
                  <a:pt x="363692" y="629167"/>
                  <a:pt x="289185" y="658800"/>
                  <a:pt x="262092" y="649487"/>
                </a:cubicBezTo>
                <a:cubicBezTo>
                  <a:pt x="234999" y="640174"/>
                  <a:pt x="237539" y="541960"/>
                  <a:pt x="216372" y="547887"/>
                </a:cubicBezTo>
                <a:cubicBezTo>
                  <a:pt x="195205" y="553814"/>
                  <a:pt x="158799" y="635940"/>
                  <a:pt x="135092" y="685047"/>
                </a:cubicBezTo>
                <a:cubicBezTo>
                  <a:pt x="111385" y="734154"/>
                  <a:pt x="94452" y="800194"/>
                  <a:pt x="74132" y="842527"/>
                </a:cubicBezTo>
                <a:cubicBezTo>
                  <a:pt x="53812" y="884860"/>
                  <a:pt x="-32548" y="911954"/>
                  <a:pt x="13172" y="939047"/>
                </a:cubicBezTo>
                <a:cubicBezTo>
                  <a:pt x="58892" y="966140"/>
                  <a:pt x="240079" y="990694"/>
                  <a:pt x="348452" y="1005087"/>
                </a:cubicBezTo>
                <a:cubicBezTo>
                  <a:pt x="456825" y="1019480"/>
                  <a:pt x="537259" y="1053347"/>
                  <a:pt x="663412" y="1025407"/>
                </a:cubicBezTo>
                <a:cubicBezTo>
                  <a:pt x="789565" y="997467"/>
                  <a:pt x="992765" y="909414"/>
                  <a:pt x="1105372" y="837447"/>
                </a:cubicBezTo>
                <a:cubicBezTo>
                  <a:pt x="1217979" y="765480"/>
                  <a:pt x="1267085" y="677427"/>
                  <a:pt x="1339052" y="593607"/>
                </a:cubicBezTo>
                <a:cubicBezTo>
                  <a:pt x="1411019" y="509787"/>
                  <a:pt x="1495685" y="409880"/>
                  <a:pt x="1537172" y="334527"/>
                </a:cubicBezTo>
                <a:cubicBezTo>
                  <a:pt x="1578659" y="259174"/>
                  <a:pt x="1547332" y="185514"/>
                  <a:pt x="1587972" y="141487"/>
                </a:cubicBezTo>
                <a:cubicBezTo>
                  <a:pt x="1628612" y="97460"/>
                  <a:pt x="1746299" y="93227"/>
                  <a:pt x="1781012" y="70367"/>
                </a:cubicBezTo>
                <a:cubicBezTo>
                  <a:pt x="1815725" y="47507"/>
                  <a:pt x="1808952" y="12794"/>
                  <a:pt x="1796252" y="4327"/>
                </a:cubicBezTo>
                <a:cubicBezTo>
                  <a:pt x="1783552" y="-4140"/>
                  <a:pt x="1758999" y="-753"/>
                  <a:pt x="1704812" y="19567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フリーフォーム 155"/>
          <p:cNvSpPr/>
          <p:nvPr/>
        </p:nvSpPr>
        <p:spPr>
          <a:xfrm rot="6643200">
            <a:off x="4807080" y="1054440"/>
            <a:ext cx="1315800" cy="1219320"/>
          </a:xfrm>
          <a:custGeom>
            <a:avLst/>
            <a:gdLst/>
            <a:ahLst/>
            <a:rect l="l" t="t" r="r" b="b"/>
            <a:pathLst>
              <a:path w="1677372" h="1433876">
                <a:moveTo>
                  <a:pt x="1187910" y="1227"/>
                </a:moveTo>
                <a:cubicBezTo>
                  <a:pt x="1120177" y="4614"/>
                  <a:pt x="961850" y="11387"/>
                  <a:pt x="857710" y="52027"/>
                </a:cubicBezTo>
                <a:cubicBezTo>
                  <a:pt x="753570" y="92667"/>
                  <a:pt x="663823" y="184954"/>
                  <a:pt x="563070" y="245067"/>
                </a:cubicBezTo>
                <a:cubicBezTo>
                  <a:pt x="462317" y="305180"/>
                  <a:pt x="318383" y="312800"/>
                  <a:pt x="253190" y="412707"/>
                </a:cubicBezTo>
                <a:cubicBezTo>
                  <a:pt x="187997" y="512614"/>
                  <a:pt x="198157" y="731054"/>
                  <a:pt x="171910" y="844507"/>
                </a:cubicBezTo>
                <a:cubicBezTo>
                  <a:pt x="145663" y="957960"/>
                  <a:pt x="108410" y="1021460"/>
                  <a:pt x="95710" y="1093427"/>
                </a:cubicBezTo>
                <a:cubicBezTo>
                  <a:pt x="83010" y="1165394"/>
                  <a:pt x="110103" y="1219580"/>
                  <a:pt x="95710" y="1276307"/>
                </a:cubicBezTo>
                <a:cubicBezTo>
                  <a:pt x="81317" y="1333034"/>
                  <a:pt x="-32983" y="1430400"/>
                  <a:pt x="9350" y="1433787"/>
                </a:cubicBezTo>
                <a:cubicBezTo>
                  <a:pt x="51683" y="1437174"/>
                  <a:pt x="226097" y="1344040"/>
                  <a:pt x="349710" y="1296627"/>
                </a:cubicBezTo>
                <a:cubicBezTo>
                  <a:pt x="473323" y="1249214"/>
                  <a:pt x="644350" y="1193334"/>
                  <a:pt x="751030" y="1149307"/>
                </a:cubicBezTo>
                <a:cubicBezTo>
                  <a:pt x="857710" y="1105280"/>
                  <a:pt x="891577" y="1066334"/>
                  <a:pt x="989790" y="1032467"/>
                </a:cubicBezTo>
                <a:cubicBezTo>
                  <a:pt x="1088003" y="998600"/>
                  <a:pt x="1244637" y="1001987"/>
                  <a:pt x="1340310" y="946107"/>
                </a:cubicBezTo>
                <a:cubicBezTo>
                  <a:pt x="1435983" y="890227"/>
                  <a:pt x="1508797" y="786087"/>
                  <a:pt x="1563830" y="697187"/>
                </a:cubicBezTo>
                <a:cubicBezTo>
                  <a:pt x="1618863" y="608287"/>
                  <a:pt x="1701837" y="477900"/>
                  <a:pt x="1670510" y="412707"/>
                </a:cubicBezTo>
                <a:cubicBezTo>
                  <a:pt x="1639183" y="347514"/>
                  <a:pt x="1432597" y="342434"/>
                  <a:pt x="1375870" y="306027"/>
                </a:cubicBezTo>
                <a:cubicBezTo>
                  <a:pt x="1319143" y="269620"/>
                  <a:pt x="1330150" y="194267"/>
                  <a:pt x="1330150" y="194267"/>
                </a:cubicBezTo>
                <a:cubicBezTo>
                  <a:pt x="1311523" y="148547"/>
                  <a:pt x="1289510" y="63880"/>
                  <a:pt x="1264110" y="31707"/>
                </a:cubicBezTo>
                <a:cubicBezTo>
                  <a:pt x="1238710" y="-466"/>
                  <a:pt x="1255643" y="-2160"/>
                  <a:pt x="1187910" y="1227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フリーフォーム 156"/>
          <p:cNvSpPr/>
          <p:nvPr/>
        </p:nvSpPr>
        <p:spPr>
          <a:xfrm rot="6643200">
            <a:off x="4560840" y="2272680"/>
            <a:ext cx="1039680" cy="973080"/>
          </a:xfrm>
          <a:custGeom>
            <a:avLst/>
            <a:gdLst/>
            <a:ahLst/>
            <a:rect l="l" t="t" r="r" b="b"/>
            <a:pathLst>
              <a:path w="899166" h="776412">
                <a:moveTo>
                  <a:pt x="4962" y="734736"/>
                </a:moveTo>
                <a:cubicBezTo>
                  <a:pt x="19779" y="717062"/>
                  <a:pt x="95132" y="689016"/>
                  <a:pt x="123707" y="669331"/>
                </a:cubicBezTo>
                <a:cubicBezTo>
                  <a:pt x="116087" y="617261"/>
                  <a:pt x="86877" y="564662"/>
                  <a:pt x="90687" y="475656"/>
                </a:cubicBezTo>
                <a:cubicBezTo>
                  <a:pt x="94497" y="386650"/>
                  <a:pt x="102540" y="214036"/>
                  <a:pt x="146567" y="135296"/>
                </a:cubicBezTo>
                <a:cubicBezTo>
                  <a:pt x="190594" y="56556"/>
                  <a:pt x="249014" y="17609"/>
                  <a:pt x="354847" y="3216"/>
                </a:cubicBezTo>
                <a:cubicBezTo>
                  <a:pt x="460680" y="-11177"/>
                  <a:pt x="695207" y="26076"/>
                  <a:pt x="781567" y="48936"/>
                </a:cubicBezTo>
                <a:cubicBezTo>
                  <a:pt x="867927" y="71796"/>
                  <a:pt x="853534" y="108203"/>
                  <a:pt x="873007" y="140376"/>
                </a:cubicBezTo>
                <a:cubicBezTo>
                  <a:pt x="892480" y="172549"/>
                  <a:pt x="898407" y="175089"/>
                  <a:pt x="898407" y="241976"/>
                </a:cubicBezTo>
                <a:cubicBezTo>
                  <a:pt x="898407" y="308863"/>
                  <a:pt x="906027" y="466343"/>
                  <a:pt x="873007" y="541696"/>
                </a:cubicBezTo>
                <a:cubicBezTo>
                  <a:pt x="839987" y="617049"/>
                  <a:pt x="764634" y="657689"/>
                  <a:pt x="700287" y="694096"/>
                </a:cubicBezTo>
                <a:cubicBezTo>
                  <a:pt x="635940" y="730503"/>
                  <a:pt x="568207" y="758443"/>
                  <a:pt x="486927" y="760136"/>
                </a:cubicBezTo>
                <a:cubicBezTo>
                  <a:pt x="405647" y="761829"/>
                  <a:pt x="269122" y="715474"/>
                  <a:pt x="212607" y="704256"/>
                </a:cubicBezTo>
                <a:cubicBezTo>
                  <a:pt x="156092" y="693038"/>
                  <a:pt x="177470" y="692403"/>
                  <a:pt x="147837" y="692826"/>
                </a:cubicBezTo>
                <a:cubicBezTo>
                  <a:pt x="131539" y="712299"/>
                  <a:pt x="58619" y="768391"/>
                  <a:pt x="34807" y="775376"/>
                </a:cubicBezTo>
                <a:cubicBezTo>
                  <a:pt x="10995" y="782361"/>
                  <a:pt x="-9855" y="752410"/>
                  <a:pt x="4962" y="73473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フリーフォーム 157"/>
          <p:cNvSpPr/>
          <p:nvPr/>
        </p:nvSpPr>
        <p:spPr>
          <a:xfrm rot="6643200">
            <a:off x="4559040" y="4357440"/>
            <a:ext cx="1074960" cy="776520"/>
          </a:xfrm>
          <a:custGeom>
            <a:avLst/>
            <a:gdLst/>
            <a:ahLst/>
            <a:rect l="l" t="t" r="r" b="b"/>
            <a:pathLst>
              <a:path w="929850" h="620483">
                <a:moveTo>
                  <a:pt x="14" y="619854"/>
                </a:moveTo>
                <a:cubicBezTo>
                  <a:pt x="1284" y="626627"/>
                  <a:pt x="63091" y="576674"/>
                  <a:pt x="109234" y="569054"/>
                </a:cubicBezTo>
                <a:cubicBezTo>
                  <a:pt x="155377" y="561434"/>
                  <a:pt x="187127" y="579214"/>
                  <a:pt x="276874" y="574134"/>
                </a:cubicBezTo>
                <a:cubicBezTo>
                  <a:pt x="366621" y="569054"/>
                  <a:pt x="543997" y="580907"/>
                  <a:pt x="647714" y="538574"/>
                </a:cubicBezTo>
                <a:cubicBezTo>
                  <a:pt x="751431" y="496241"/>
                  <a:pt x="853877" y="386174"/>
                  <a:pt x="899174" y="320134"/>
                </a:cubicBezTo>
                <a:cubicBezTo>
                  <a:pt x="944471" y="254094"/>
                  <a:pt x="928807" y="177471"/>
                  <a:pt x="919494" y="142334"/>
                </a:cubicBezTo>
                <a:cubicBezTo>
                  <a:pt x="910181" y="107197"/>
                  <a:pt x="843294" y="109314"/>
                  <a:pt x="843294" y="109314"/>
                </a:cubicBezTo>
                <a:cubicBezTo>
                  <a:pt x="787414" y="85607"/>
                  <a:pt x="687507" y="-3293"/>
                  <a:pt x="584214" y="94"/>
                </a:cubicBezTo>
                <a:cubicBezTo>
                  <a:pt x="480921" y="3481"/>
                  <a:pt x="306507" y="60631"/>
                  <a:pt x="223534" y="129634"/>
                </a:cubicBezTo>
                <a:cubicBezTo>
                  <a:pt x="140561" y="198637"/>
                  <a:pt x="106694" y="347651"/>
                  <a:pt x="86374" y="414114"/>
                </a:cubicBezTo>
                <a:cubicBezTo>
                  <a:pt x="66054" y="480577"/>
                  <a:pt x="120664" y="500897"/>
                  <a:pt x="101614" y="528414"/>
                </a:cubicBezTo>
                <a:cubicBezTo>
                  <a:pt x="82564" y="555931"/>
                  <a:pt x="-1256" y="613081"/>
                  <a:pt x="14" y="6198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フリーフォーム 158"/>
          <p:cNvSpPr/>
          <p:nvPr/>
        </p:nvSpPr>
        <p:spPr>
          <a:xfrm rot="6643200">
            <a:off x="3200040" y="3247560"/>
            <a:ext cx="684360" cy="1141560"/>
          </a:xfrm>
          <a:custGeom>
            <a:avLst/>
            <a:gdLst/>
            <a:ahLst/>
            <a:rect l="l" t="t" r="r" b="b"/>
            <a:pathLst>
              <a:path w="592055" h="912887">
                <a:moveTo>
                  <a:pt x="269310" y="3370"/>
                </a:moveTo>
                <a:cubicBezTo>
                  <a:pt x="226977" y="25807"/>
                  <a:pt x="133843" y="164660"/>
                  <a:pt x="88970" y="234510"/>
                </a:cubicBezTo>
                <a:cubicBezTo>
                  <a:pt x="44097" y="304360"/>
                  <a:pt x="-2047" y="353890"/>
                  <a:pt x="70" y="422470"/>
                </a:cubicBezTo>
                <a:cubicBezTo>
                  <a:pt x="2187" y="491050"/>
                  <a:pt x="58067" y="590110"/>
                  <a:pt x="101670" y="645990"/>
                </a:cubicBezTo>
                <a:cubicBezTo>
                  <a:pt x="145273" y="701870"/>
                  <a:pt x="232480" y="732773"/>
                  <a:pt x="261690" y="757750"/>
                </a:cubicBezTo>
                <a:cubicBezTo>
                  <a:pt x="290900" y="782727"/>
                  <a:pt x="281587" y="772567"/>
                  <a:pt x="276930" y="795850"/>
                </a:cubicBezTo>
                <a:cubicBezTo>
                  <a:pt x="272273" y="819133"/>
                  <a:pt x="234173" y="879670"/>
                  <a:pt x="233750" y="897450"/>
                </a:cubicBezTo>
                <a:cubicBezTo>
                  <a:pt x="233327" y="915230"/>
                  <a:pt x="262113" y="918617"/>
                  <a:pt x="274390" y="902530"/>
                </a:cubicBezTo>
                <a:cubicBezTo>
                  <a:pt x="286667" y="886443"/>
                  <a:pt x="291323" y="821673"/>
                  <a:pt x="307410" y="800930"/>
                </a:cubicBezTo>
                <a:cubicBezTo>
                  <a:pt x="323497" y="780187"/>
                  <a:pt x="332810" y="806010"/>
                  <a:pt x="370910" y="778070"/>
                </a:cubicBezTo>
                <a:cubicBezTo>
                  <a:pt x="409010" y="750130"/>
                  <a:pt x="499603" y="709913"/>
                  <a:pt x="536010" y="633290"/>
                </a:cubicBezTo>
                <a:cubicBezTo>
                  <a:pt x="572417" y="556667"/>
                  <a:pt x="601203" y="400033"/>
                  <a:pt x="589350" y="318330"/>
                </a:cubicBezTo>
                <a:cubicBezTo>
                  <a:pt x="577497" y="236627"/>
                  <a:pt x="505953" y="179477"/>
                  <a:pt x="464890" y="143070"/>
                </a:cubicBezTo>
                <a:cubicBezTo>
                  <a:pt x="423827" y="106663"/>
                  <a:pt x="379377" y="122750"/>
                  <a:pt x="342970" y="99890"/>
                </a:cubicBezTo>
                <a:cubicBezTo>
                  <a:pt x="306563" y="77030"/>
                  <a:pt x="311643" y="-19067"/>
                  <a:pt x="269310" y="3370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フリーフォーム 159"/>
          <p:cNvSpPr/>
          <p:nvPr/>
        </p:nvSpPr>
        <p:spPr>
          <a:xfrm rot="6643200">
            <a:off x="5069520" y="3279960"/>
            <a:ext cx="849240" cy="1168560"/>
          </a:xfrm>
          <a:custGeom>
            <a:avLst/>
            <a:gdLst/>
            <a:ahLst/>
            <a:rect l="l" t="t" r="r" b="b"/>
            <a:pathLst>
              <a:path w="733951" h="933164">
                <a:moveTo>
                  <a:pt x="530748" y="1419"/>
                </a:moveTo>
                <a:cubicBezTo>
                  <a:pt x="523551" y="9039"/>
                  <a:pt x="566308" y="71692"/>
                  <a:pt x="553608" y="85239"/>
                </a:cubicBezTo>
                <a:cubicBezTo>
                  <a:pt x="540908" y="98786"/>
                  <a:pt x="512968" y="71692"/>
                  <a:pt x="454548" y="82699"/>
                </a:cubicBezTo>
                <a:cubicBezTo>
                  <a:pt x="396128" y="93706"/>
                  <a:pt x="275055" y="103442"/>
                  <a:pt x="203088" y="151279"/>
                </a:cubicBezTo>
                <a:cubicBezTo>
                  <a:pt x="131121" y="199116"/>
                  <a:pt x="54921" y="288016"/>
                  <a:pt x="22748" y="369719"/>
                </a:cubicBezTo>
                <a:cubicBezTo>
                  <a:pt x="-9425" y="451422"/>
                  <a:pt x="-1382" y="561489"/>
                  <a:pt x="10048" y="641499"/>
                </a:cubicBezTo>
                <a:cubicBezTo>
                  <a:pt x="21478" y="721509"/>
                  <a:pt x="77358" y="801519"/>
                  <a:pt x="91328" y="849779"/>
                </a:cubicBezTo>
                <a:cubicBezTo>
                  <a:pt x="105298" y="898039"/>
                  <a:pt x="67198" y="922169"/>
                  <a:pt x="93868" y="931059"/>
                </a:cubicBezTo>
                <a:cubicBezTo>
                  <a:pt x="120538" y="939949"/>
                  <a:pt x="186155" y="918782"/>
                  <a:pt x="251348" y="903119"/>
                </a:cubicBezTo>
                <a:cubicBezTo>
                  <a:pt x="316541" y="887456"/>
                  <a:pt x="405865" y="900156"/>
                  <a:pt x="485028" y="837079"/>
                </a:cubicBezTo>
                <a:cubicBezTo>
                  <a:pt x="564191" y="774002"/>
                  <a:pt x="696271" y="633456"/>
                  <a:pt x="726328" y="524659"/>
                </a:cubicBezTo>
                <a:cubicBezTo>
                  <a:pt x="756385" y="415862"/>
                  <a:pt x="689498" y="252456"/>
                  <a:pt x="665368" y="184299"/>
                </a:cubicBezTo>
                <a:cubicBezTo>
                  <a:pt x="641238" y="116142"/>
                  <a:pt x="592978" y="139849"/>
                  <a:pt x="581548" y="115719"/>
                </a:cubicBezTo>
                <a:cubicBezTo>
                  <a:pt x="570118" y="91589"/>
                  <a:pt x="601445" y="60686"/>
                  <a:pt x="596788" y="39519"/>
                </a:cubicBezTo>
                <a:cubicBezTo>
                  <a:pt x="592131" y="18352"/>
                  <a:pt x="537945" y="-6201"/>
                  <a:pt x="530748" y="1419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フリーフォーム 160"/>
          <p:cNvSpPr/>
          <p:nvPr/>
        </p:nvSpPr>
        <p:spPr>
          <a:xfrm rot="6643200">
            <a:off x="3041640" y="3970800"/>
            <a:ext cx="863640" cy="1344600"/>
          </a:xfrm>
          <a:custGeom>
            <a:avLst/>
            <a:gdLst/>
            <a:ahLst/>
            <a:rect l="l" t="t" r="r" b="b"/>
            <a:pathLst>
              <a:path w="648606" h="931866">
                <a:moveTo>
                  <a:pt x="395643" y="3162"/>
                </a:moveTo>
                <a:cubicBezTo>
                  <a:pt x="355003" y="17555"/>
                  <a:pt x="268220" y="81055"/>
                  <a:pt x="202603" y="150482"/>
                </a:cubicBezTo>
                <a:cubicBezTo>
                  <a:pt x="136986" y="219909"/>
                  <a:pt x="17606" y="324895"/>
                  <a:pt x="1943" y="419722"/>
                </a:cubicBezTo>
                <a:cubicBezTo>
                  <a:pt x="-13720" y="514549"/>
                  <a:pt x="69253" y="654672"/>
                  <a:pt x="108623" y="719442"/>
                </a:cubicBezTo>
                <a:cubicBezTo>
                  <a:pt x="147993" y="784212"/>
                  <a:pt x="214033" y="775322"/>
                  <a:pt x="238163" y="808342"/>
                </a:cubicBezTo>
                <a:cubicBezTo>
                  <a:pt x="262293" y="841362"/>
                  <a:pt x="242820" y="898935"/>
                  <a:pt x="253403" y="917562"/>
                </a:cubicBezTo>
                <a:cubicBezTo>
                  <a:pt x="263986" y="936189"/>
                  <a:pt x="298276" y="936188"/>
                  <a:pt x="301663" y="920102"/>
                </a:cubicBezTo>
                <a:cubicBezTo>
                  <a:pt x="305050" y="904016"/>
                  <a:pt x="274570" y="839245"/>
                  <a:pt x="273723" y="821042"/>
                </a:cubicBezTo>
                <a:cubicBezTo>
                  <a:pt x="272876" y="802839"/>
                  <a:pt x="285576" y="813845"/>
                  <a:pt x="296583" y="810882"/>
                </a:cubicBezTo>
                <a:cubicBezTo>
                  <a:pt x="307590" y="807919"/>
                  <a:pt x="317750" y="811729"/>
                  <a:pt x="339763" y="803262"/>
                </a:cubicBezTo>
                <a:cubicBezTo>
                  <a:pt x="361776" y="794795"/>
                  <a:pt x="385906" y="792255"/>
                  <a:pt x="428663" y="760082"/>
                </a:cubicBezTo>
                <a:cubicBezTo>
                  <a:pt x="471420" y="727909"/>
                  <a:pt x="559896" y="671605"/>
                  <a:pt x="596303" y="610222"/>
                </a:cubicBezTo>
                <a:cubicBezTo>
                  <a:pt x="632710" y="548839"/>
                  <a:pt x="654723" y="457399"/>
                  <a:pt x="647103" y="391782"/>
                </a:cubicBezTo>
                <a:cubicBezTo>
                  <a:pt x="639483" y="326165"/>
                  <a:pt x="584026" y="271132"/>
                  <a:pt x="550583" y="216522"/>
                </a:cubicBezTo>
                <a:cubicBezTo>
                  <a:pt x="517140" y="161912"/>
                  <a:pt x="469303" y="102222"/>
                  <a:pt x="446443" y="64122"/>
                </a:cubicBezTo>
                <a:cubicBezTo>
                  <a:pt x="423583" y="26022"/>
                  <a:pt x="436283" y="-11231"/>
                  <a:pt x="395643" y="3162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フリーフォーム 161"/>
          <p:cNvSpPr/>
          <p:nvPr/>
        </p:nvSpPr>
        <p:spPr>
          <a:xfrm rot="6643200">
            <a:off x="1535400" y="3401280"/>
            <a:ext cx="790560" cy="1170000"/>
          </a:xfrm>
          <a:custGeom>
            <a:avLst/>
            <a:gdLst/>
            <a:ahLst/>
            <a:rect l="l" t="t" r="r" b="b"/>
            <a:pathLst>
              <a:path w="684005" h="933819">
                <a:moveTo>
                  <a:pt x="66040" y="17548"/>
                </a:moveTo>
                <a:cubicBezTo>
                  <a:pt x="40217" y="63691"/>
                  <a:pt x="0" y="222018"/>
                  <a:pt x="0" y="322348"/>
                </a:cubicBezTo>
                <a:cubicBezTo>
                  <a:pt x="0" y="422678"/>
                  <a:pt x="34713" y="545868"/>
                  <a:pt x="66040" y="619528"/>
                </a:cubicBezTo>
                <a:cubicBezTo>
                  <a:pt x="97367" y="693188"/>
                  <a:pt x="135043" y="724938"/>
                  <a:pt x="187960" y="764308"/>
                </a:cubicBezTo>
                <a:cubicBezTo>
                  <a:pt x="240877" y="803678"/>
                  <a:pt x="328930" y="839238"/>
                  <a:pt x="383540" y="855748"/>
                </a:cubicBezTo>
                <a:cubicBezTo>
                  <a:pt x="438150" y="872258"/>
                  <a:pt x="490643" y="859558"/>
                  <a:pt x="515620" y="863368"/>
                </a:cubicBezTo>
                <a:cubicBezTo>
                  <a:pt x="540597" y="867178"/>
                  <a:pt x="523663" y="867601"/>
                  <a:pt x="533400" y="878608"/>
                </a:cubicBezTo>
                <a:cubicBezTo>
                  <a:pt x="543137" y="889615"/>
                  <a:pt x="560917" y="921365"/>
                  <a:pt x="574040" y="929408"/>
                </a:cubicBezTo>
                <a:cubicBezTo>
                  <a:pt x="587163" y="937451"/>
                  <a:pt x="611717" y="933218"/>
                  <a:pt x="612140" y="926868"/>
                </a:cubicBezTo>
                <a:cubicBezTo>
                  <a:pt x="612563" y="920518"/>
                  <a:pt x="584200" y="903161"/>
                  <a:pt x="576580" y="891308"/>
                </a:cubicBezTo>
                <a:cubicBezTo>
                  <a:pt x="568960" y="879455"/>
                  <a:pt x="567267" y="864215"/>
                  <a:pt x="566420" y="855748"/>
                </a:cubicBezTo>
                <a:cubicBezTo>
                  <a:pt x="565573" y="847281"/>
                  <a:pt x="564727" y="850245"/>
                  <a:pt x="571500" y="840508"/>
                </a:cubicBezTo>
                <a:cubicBezTo>
                  <a:pt x="578273" y="830771"/>
                  <a:pt x="588433" y="849821"/>
                  <a:pt x="607060" y="797328"/>
                </a:cubicBezTo>
                <a:cubicBezTo>
                  <a:pt x="625687" y="744835"/>
                  <a:pt x="691727" y="614871"/>
                  <a:pt x="683260" y="525548"/>
                </a:cubicBezTo>
                <a:cubicBezTo>
                  <a:pt x="674793" y="436225"/>
                  <a:pt x="615527" y="330815"/>
                  <a:pt x="556260" y="261388"/>
                </a:cubicBezTo>
                <a:cubicBezTo>
                  <a:pt x="496993" y="191961"/>
                  <a:pt x="394547" y="144971"/>
                  <a:pt x="327660" y="108988"/>
                </a:cubicBezTo>
                <a:cubicBezTo>
                  <a:pt x="260773" y="73005"/>
                  <a:pt x="198120" y="61998"/>
                  <a:pt x="154940" y="45488"/>
                </a:cubicBezTo>
                <a:cubicBezTo>
                  <a:pt x="111760" y="28978"/>
                  <a:pt x="91863" y="-28595"/>
                  <a:pt x="66040" y="17548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フリーフォーム 162"/>
          <p:cNvSpPr/>
          <p:nvPr/>
        </p:nvSpPr>
        <p:spPr>
          <a:xfrm rot="6643200">
            <a:off x="1915920" y="4409640"/>
            <a:ext cx="1598400" cy="1293840"/>
          </a:xfrm>
          <a:custGeom>
            <a:avLst/>
            <a:gdLst/>
            <a:ahLst/>
            <a:rect l="l" t="t" r="r" b="b"/>
            <a:pathLst>
              <a:path w="1307143" h="974774">
                <a:moveTo>
                  <a:pt x="526796" y="329893"/>
                </a:moveTo>
                <a:cubicBezTo>
                  <a:pt x="484124" y="375613"/>
                  <a:pt x="149860" y="477213"/>
                  <a:pt x="63500" y="524965"/>
                </a:cubicBezTo>
                <a:cubicBezTo>
                  <a:pt x="-22860" y="572717"/>
                  <a:pt x="1524" y="597101"/>
                  <a:pt x="8636" y="616405"/>
                </a:cubicBezTo>
                <a:cubicBezTo>
                  <a:pt x="15748" y="635709"/>
                  <a:pt x="100076" y="623517"/>
                  <a:pt x="106172" y="640789"/>
                </a:cubicBezTo>
                <a:cubicBezTo>
                  <a:pt x="112268" y="658061"/>
                  <a:pt x="6604" y="711909"/>
                  <a:pt x="45212" y="720037"/>
                </a:cubicBezTo>
                <a:cubicBezTo>
                  <a:pt x="83820" y="728165"/>
                  <a:pt x="232156" y="740357"/>
                  <a:pt x="337820" y="689557"/>
                </a:cubicBezTo>
                <a:cubicBezTo>
                  <a:pt x="443484" y="638757"/>
                  <a:pt x="627380" y="411173"/>
                  <a:pt x="679196" y="415237"/>
                </a:cubicBezTo>
                <a:cubicBezTo>
                  <a:pt x="731012" y="419301"/>
                  <a:pt x="647700" y="622501"/>
                  <a:pt x="648716" y="713941"/>
                </a:cubicBezTo>
                <a:cubicBezTo>
                  <a:pt x="649732" y="805381"/>
                  <a:pt x="667004" y="928317"/>
                  <a:pt x="685292" y="963877"/>
                </a:cubicBezTo>
                <a:cubicBezTo>
                  <a:pt x="703580" y="999437"/>
                  <a:pt x="734060" y="937461"/>
                  <a:pt x="758444" y="927301"/>
                </a:cubicBezTo>
                <a:cubicBezTo>
                  <a:pt x="782828" y="917141"/>
                  <a:pt x="805180" y="928317"/>
                  <a:pt x="831596" y="902917"/>
                </a:cubicBezTo>
                <a:cubicBezTo>
                  <a:pt x="858012" y="877517"/>
                  <a:pt x="908812" y="852117"/>
                  <a:pt x="916940" y="774901"/>
                </a:cubicBezTo>
                <a:cubicBezTo>
                  <a:pt x="925068" y="697685"/>
                  <a:pt x="858012" y="486357"/>
                  <a:pt x="880364" y="439621"/>
                </a:cubicBezTo>
                <a:cubicBezTo>
                  <a:pt x="902716" y="392885"/>
                  <a:pt x="995172" y="498549"/>
                  <a:pt x="1051052" y="494485"/>
                </a:cubicBezTo>
                <a:cubicBezTo>
                  <a:pt x="1106932" y="490421"/>
                  <a:pt x="1215644" y="415237"/>
                  <a:pt x="1215644" y="415237"/>
                </a:cubicBezTo>
                <a:cubicBezTo>
                  <a:pt x="1258316" y="394917"/>
                  <a:pt x="1309116" y="382725"/>
                  <a:pt x="1307084" y="372565"/>
                </a:cubicBezTo>
                <a:cubicBezTo>
                  <a:pt x="1305052" y="362405"/>
                  <a:pt x="1250188" y="373581"/>
                  <a:pt x="1203452" y="354277"/>
                </a:cubicBezTo>
                <a:cubicBezTo>
                  <a:pt x="1156716" y="334973"/>
                  <a:pt x="1068324" y="267917"/>
                  <a:pt x="1026668" y="256741"/>
                </a:cubicBezTo>
                <a:cubicBezTo>
                  <a:pt x="985012" y="245565"/>
                  <a:pt x="980948" y="282141"/>
                  <a:pt x="953516" y="287221"/>
                </a:cubicBezTo>
                <a:cubicBezTo>
                  <a:pt x="926084" y="292301"/>
                  <a:pt x="885444" y="279093"/>
                  <a:pt x="862076" y="287221"/>
                </a:cubicBezTo>
                <a:cubicBezTo>
                  <a:pt x="838708" y="295349"/>
                  <a:pt x="821436" y="362405"/>
                  <a:pt x="813308" y="335989"/>
                </a:cubicBezTo>
                <a:cubicBezTo>
                  <a:pt x="805180" y="309573"/>
                  <a:pt x="821436" y="184605"/>
                  <a:pt x="813308" y="128725"/>
                </a:cubicBezTo>
                <a:cubicBezTo>
                  <a:pt x="805180" y="72845"/>
                  <a:pt x="783844" y="-8435"/>
                  <a:pt x="764540" y="709"/>
                </a:cubicBezTo>
                <a:cubicBezTo>
                  <a:pt x="745236" y="9853"/>
                  <a:pt x="734060" y="164285"/>
                  <a:pt x="697484" y="183589"/>
                </a:cubicBezTo>
                <a:cubicBezTo>
                  <a:pt x="660908" y="202893"/>
                  <a:pt x="591820" y="134821"/>
                  <a:pt x="545084" y="116533"/>
                </a:cubicBezTo>
                <a:cubicBezTo>
                  <a:pt x="498348" y="98245"/>
                  <a:pt x="459740" y="75893"/>
                  <a:pt x="417068" y="73861"/>
                </a:cubicBezTo>
                <a:cubicBezTo>
                  <a:pt x="374396" y="71829"/>
                  <a:pt x="296164" y="87069"/>
                  <a:pt x="289052" y="104341"/>
                </a:cubicBezTo>
                <a:cubicBezTo>
                  <a:pt x="281940" y="121613"/>
                  <a:pt x="392684" y="172413"/>
                  <a:pt x="374396" y="177493"/>
                </a:cubicBezTo>
                <a:cubicBezTo>
                  <a:pt x="356108" y="182573"/>
                  <a:pt x="188468" y="122629"/>
                  <a:pt x="179324" y="134821"/>
                </a:cubicBezTo>
                <a:cubicBezTo>
                  <a:pt x="170180" y="147013"/>
                  <a:pt x="260604" y="223213"/>
                  <a:pt x="319532" y="250645"/>
                </a:cubicBezTo>
                <a:cubicBezTo>
                  <a:pt x="378460" y="278077"/>
                  <a:pt x="569468" y="284173"/>
                  <a:pt x="526796" y="329893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フリーフォーム 163"/>
          <p:cNvSpPr/>
          <p:nvPr/>
        </p:nvSpPr>
        <p:spPr>
          <a:xfrm rot="2224200">
            <a:off x="4378320" y="220680"/>
            <a:ext cx="1536840" cy="812880"/>
          </a:xfrm>
          <a:custGeom>
            <a:avLst/>
            <a:gdLst/>
            <a:ahLst/>
            <a:rect l="l" t="t" r="r" b="b"/>
            <a:pathLst>
              <a:path w="1806556" h="1036125">
                <a:moveTo>
                  <a:pt x="1704812" y="19567"/>
                </a:moveTo>
                <a:cubicBezTo>
                  <a:pt x="1650625" y="39887"/>
                  <a:pt x="1562572" y="110160"/>
                  <a:pt x="1471132" y="126247"/>
                </a:cubicBezTo>
                <a:cubicBezTo>
                  <a:pt x="1379692" y="142334"/>
                  <a:pt x="1298412" y="98307"/>
                  <a:pt x="1156172" y="116087"/>
                </a:cubicBezTo>
                <a:cubicBezTo>
                  <a:pt x="1013932" y="133867"/>
                  <a:pt x="765012" y="178740"/>
                  <a:pt x="617692" y="232927"/>
                </a:cubicBezTo>
                <a:cubicBezTo>
                  <a:pt x="470372" y="287114"/>
                  <a:pt x="316279" y="397180"/>
                  <a:pt x="272252" y="441207"/>
                </a:cubicBezTo>
                <a:cubicBezTo>
                  <a:pt x="228225" y="485234"/>
                  <a:pt x="335752" y="469994"/>
                  <a:pt x="353532" y="497087"/>
                </a:cubicBezTo>
                <a:cubicBezTo>
                  <a:pt x="371312" y="524180"/>
                  <a:pt x="394172" y="578367"/>
                  <a:pt x="378932" y="603767"/>
                </a:cubicBezTo>
                <a:cubicBezTo>
                  <a:pt x="363692" y="629167"/>
                  <a:pt x="289185" y="658800"/>
                  <a:pt x="262092" y="649487"/>
                </a:cubicBezTo>
                <a:cubicBezTo>
                  <a:pt x="234999" y="640174"/>
                  <a:pt x="237539" y="541960"/>
                  <a:pt x="216372" y="547887"/>
                </a:cubicBezTo>
                <a:cubicBezTo>
                  <a:pt x="195205" y="553814"/>
                  <a:pt x="158799" y="635940"/>
                  <a:pt x="135092" y="685047"/>
                </a:cubicBezTo>
                <a:cubicBezTo>
                  <a:pt x="111385" y="734154"/>
                  <a:pt x="94452" y="800194"/>
                  <a:pt x="74132" y="842527"/>
                </a:cubicBezTo>
                <a:cubicBezTo>
                  <a:pt x="53812" y="884860"/>
                  <a:pt x="-32548" y="911954"/>
                  <a:pt x="13172" y="939047"/>
                </a:cubicBezTo>
                <a:cubicBezTo>
                  <a:pt x="58892" y="966140"/>
                  <a:pt x="240079" y="990694"/>
                  <a:pt x="348452" y="1005087"/>
                </a:cubicBezTo>
                <a:cubicBezTo>
                  <a:pt x="456825" y="1019480"/>
                  <a:pt x="537259" y="1053347"/>
                  <a:pt x="663412" y="1025407"/>
                </a:cubicBezTo>
                <a:cubicBezTo>
                  <a:pt x="789565" y="997467"/>
                  <a:pt x="992765" y="909414"/>
                  <a:pt x="1105372" y="837447"/>
                </a:cubicBezTo>
                <a:cubicBezTo>
                  <a:pt x="1217979" y="765480"/>
                  <a:pt x="1267085" y="677427"/>
                  <a:pt x="1339052" y="593607"/>
                </a:cubicBezTo>
                <a:cubicBezTo>
                  <a:pt x="1411019" y="509787"/>
                  <a:pt x="1495685" y="409880"/>
                  <a:pt x="1537172" y="334527"/>
                </a:cubicBezTo>
                <a:cubicBezTo>
                  <a:pt x="1578659" y="259174"/>
                  <a:pt x="1547332" y="185514"/>
                  <a:pt x="1587972" y="141487"/>
                </a:cubicBezTo>
                <a:cubicBezTo>
                  <a:pt x="1628612" y="97460"/>
                  <a:pt x="1746299" y="93227"/>
                  <a:pt x="1781012" y="70367"/>
                </a:cubicBezTo>
                <a:cubicBezTo>
                  <a:pt x="1815725" y="47507"/>
                  <a:pt x="1808952" y="12794"/>
                  <a:pt x="1796252" y="4327"/>
                </a:cubicBezTo>
                <a:cubicBezTo>
                  <a:pt x="1783552" y="-4140"/>
                  <a:pt x="1758999" y="-753"/>
                  <a:pt x="1704812" y="19567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474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フリーフォーム 164"/>
          <p:cNvSpPr/>
          <p:nvPr/>
        </p:nvSpPr>
        <p:spPr>
          <a:xfrm rot="2224200">
            <a:off x="4951080" y="1095120"/>
            <a:ext cx="1163520" cy="717480"/>
          </a:xfrm>
          <a:custGeom>
            <a:avLst/>
            <a:gdLst/>
            <a:ahLst/>
            <a:rect l="l" t="t" r="r" b="b"/>
            <a:pathLst>
              <a:path w="929850" h="620483">
                <a:moveTo>
                  <a:pt x="14" y="619854"/>
                </a:moveTo>
                <a:cubicBezTo>
                  <a:pt x="1284" y="626627"/>
                  <a:pt x="63091" y="576674"/>
                  <a:pt x="109234" y="569054"/>
                </a:cubicBezTo>
                <a:cubicBezTo>
                  <a:pt x="155377" y="561434"/>
                  <a:pt x="187127" y="579214"/>
                  <a:pt x="276874" y="574134"/>
                </a:cubicBezTo>
                <a:cubicBezTo>
                  <a:pt x="366621" y="569054"/>
                  <a:pt x="543997" y="580907"/>
                  <a:pt x="647714" y="538574"/>
                </a:cubicBezTo>
                <a:cubicBezTo>
                  <a:pt x="751431" y="496241"/>
                  <a:pt x="853877" y="386174"/>
                  <a:pt x="899174" y="320134"/>
                </a:cubicBezTo>
                <a:cubicBezTo>
                  <a:pt x="944471" y="254094"/>
                  <a:pt x="928807" y="177471"/>
                  <a:pt x="919494" y="142334"/>
                </a:cubicBezTo>
                <a:cubicBezTo>
                  <a:pt x="910181" y="107197"/>
                  <a:pt x="843294" y="109314"/>
                  <a:pt x="843294" y="109314"/>
                </a:cubicBezTo>
                <a:cubicBezTo>
                  <a:pt x="787414" y="85607"/>
                  <a:pt x="687507" y="-3293"/>
                  <a:pt x="584214" y="94"/>
                </a:cubicBezTo>
                <a:cubicBezTo>
                  <a:pt x="480921" y="3481"/>
                  <a:pt x="306507" y="60631"/>
                  <a:pt x="223534" y="129634"/>
                </a:cubicBezTo>
                <a:cubicBezTo>
                  <a:pt x="140561" y="198637"/>
                  <a:pt x="106694" y="347651"/>
                  <a:pt x="86374" y="414114"/>
                </a:cubicBezTo>
                <a:cubicBezTo>
                  <a:pt x="66054" y="480577"/>
                  <a:pt x="120664" y="500897"/>
                  <a:pt x="101614" y="528414"/>
                </a:cubicBezTo>
                <a:cubicBezTo>
                  <a:pt x="82564" y="555931"/>
                  <a:pt x="-1256" y="613081"/>
                  <a:pt x="14" y="6198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474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フリーフォーム 165"/>
          <p:cNvSpPr/>
          <p:nvPr/>
        </p:nvSpPr>
        <p:spPr>
          <a:xfrm rot="2224200">
            <a:off x="3443040" y="733320"/>
            <a:ext cx="934920" cy="1239840"/>
          </a:xfrm>
          <a:custGeom>
            <a:avLst/>
            <a:gdLst/>
            <a:ahLst/>
            <a:rect l="l" t="t" r="r" b="b"/>
            <a:pathLst>
              <a:path w="648606" h="931866">
                <a:moveTo>
                  <a:pt x="395643" y="3162"/>
                </a:moveTo>
                <a:cubicBezTo>
                  <a:pt x="355003" y="17555"/>
                  <a:pt x="268220" y="81055"/>
                  <a:pt x="202603" y="150482"/>
                </a:cubicBezTo>
                <a:cubicBezTo>
                  <a:pt x="136986" y="219909"/>
                  <a:pt x="17606" y="324895"/>
                  <a:pt x="1943" y="419722"/>
                </a:cubicBezTo>
                <a:cubicBezTo>
                  <a:pt x="-13720" y="514549"/>
                  <a:pt x="69253" y="654672"/>
                  <a:pt x="108623" y="719442"/>
                </a:cubicBezTo>
                <a:cubicBezTo>
                  <a:pt x="147993" y="784212"/>
                  <a:pt x="214033" y="775322"/>
                  <a:pt x="238163" y="808342"/>
                </a:cubicBezTo>
                <a:cubicBezTo>
                  <a:pt x="262293" y="841362"/>
                  <a:pt x="242820" y="898935"/>
                  <a:pt x="253403" y="917562"/>
                </a:cubicBezTo>
                <a:cubicBezTo>
                  <a:pt x="263986" y="936189"/>
                  <a:pt x="298276" y="936188"/>
                  <a:pt x="301663" y="920102"/>
                </a:cubicBezTo>
                <a:cubicBezTo>
                  <a:pt x="305050" y="904016"/>
                  <a:pt x="274570" y="839245"/>
                  <a:pt x="273723" y="821042"/>
                </a:cubicBezTo>
                <a:cubicBezTo>
                  <a:pt x="272876" y="802839"/>
                  <a:pt x="285576" y="813845"/>
                  <a:pt x="296583" y="810882"/>
                </a:cubicBezTo>
                <a:cubicBezTo>
                  <a:pt x="307590" y="807919"/>
                  <a:pt x="317750" y="811729"/>
                  <a:pt x="339763" y="803262"/>
                </a:cubicBezTo>
                <a:cubicBezTo>
                  <a:pt x="361776" y="794795"/>
                  <a:pt x="385906" y="792255"/>
                  <a:pt x="428663" y="760082"/>
                </a:cubicBezTo>
                <a:cubicBezTo>
                  <a:pt x="471420" y="727909"/>
                  <a:pt x="559896" y="671605"/>
                  <a:pt x="596303" y="610222"/>
                </a:cubicBezTo>
                <a:cubicBezTo>
                  <a:pt x="632710" y="548839"/>
                  <a:pt x="654723" y="457399"/>
                  <a:pt x="647103" y="391782"/>
                </a:cubicBezTo>
                <a:cubicBezTo>
                  <a:pt x="639483" y="326165"/>
                  <a:pt x="584026" y="271132"/>
                  <a:pt x="550583" y="216522"/>
                </a:cubicBezTo>
                <a:cubicBezTo>
                  <a:pt x="517140" y="161912"/>
                  <a:pt x="469303" y="102222"/>
                  <a:pt x="446443" y="64122"/>
                </a:cubicBezTo>
                <a:cubicBezTo>
                  <a:pt x="423583" y="26022"/>
                  <a:pt x="436283" y="-11231"/>
                  <a:pt x="395643" y="3162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474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フリーフォーム 166"/>
          <p:cNvSpPr/>
          <p:nvPr/>
        </p:nvSpPr>
        <p:spPr>
          <a:xfrm>
            <a:off x="1708200" y="1649520"/>
            <a:ext cx="1535040" cy="812520"/>
          </a:xfrm>
          <a:custGeom>
            <a:avLst/>
            <a:gdLst/>
            <a:ahLst/>
            <a:rect l="l" t="t" r="r" b="b"/>
            <a:pathLst>
              <a:path w="1806556" h="1036125">
                <a:moveTo>
                  <a:pt x="1704812" y="19567"/>
                </a:moveTo>
                <a:cubicBezTo>
                  <a:pt x="1650625" y="39887"/>
                  <a:pt x="1562572" y="110160"/>
                  <a:pt x="1471132" y="126247"/>
                </a:cubicBezTo>
                <a:cubicBezTo>
                  <a:pt x="1379692" y="142334"/>
                  <a:pt x="1298412" y="98307"/>
                  <a:pt x="1156172" y="116087"/>
                </a:cubicBezTo>
                <a:cubicBezTo>
                  <a:pt x="1013932" y="133867"/>
                  <a:pt x="765012" y="178740"/>
                  <a:pt x="617692" y="232927"/>
                </a:cubicBezTo>
                <a:cubicBezTo>
                  <a:pt x="470372" y="287114"/>
                  <a:pt x="316279" y="397180"/>
                  <a:pt x="272252" y="441207"/>
                </a:cubicBezTo>
                <a:cubicBezTo>
                  <a:pt x="228225" y="485234"/>
                  <a:pt x="335752" y="469994"/>
                  <a:pt x="353532" y="497087"/>
                </a:cubicBezTo>
                <a:cubicBezTo>
                  <a:pt x="371312" y="524180"/>
                  <a:pt x="394172" y="578367"/>
                  <a:pt x="378932" y="603767"/>
                </a:cubicBezTo>
                <a:cubicBezTo>
                  <a:pt x="363692" y="629167"/>
                  <a:pt x="289185" y="658800"/>
                  <a:pt x="262092" y="649487"/>
                </a:cubicBezTo>
                <a:cubicBezTo>
                  <a:pt x="234999" y="640174"/>
                  <a:pt x="237539" y="541960"/>
                  <a:pt x="216372" y="547887"/>
                </a:cubicBezTo>
                <a:cubicBezTo>
                  <a:pt x="195205" y="553814"/>
                  <a:pt x="158799" y="635940"/>
                  <a:pt x="135092" y="685047"/>
                </a:cubicBezTo>
                <a:cubicBezTo>
                  <a:pt x="111385" y="734154"/>
                  <a:pt x="94452" y="800194"/>
                  <a:pt x="74132" y="842527"/>
                </a:cubicBezTo>
                <a:cubicBezTo>
                  <a:pt x="53812" y="884860"/>
                  <a:pt x="-32548" y="911954"/>
                  <a:pt x="13172" y="939047"/>
                </a:cubicBezTo>
                <a:cubicBezTo>
                  <a:pt x="58892" y="966140"/>
                  <a:pt x="240079" y="990694"/>
                  <a:pt x="348452" y="1005087"/>
                </a:cubicBezTo>
                <a:cubicBezTo>
                  <a:pt x="456825" y="1019480"/>
                  <a:pt x="537259" y="1053347"/>
                  <a:pt x="663412" y="1025407"/>
                </a:cubicBezTo>
                <a:cubicBezTo>
                  <a:pt x="789565" y="997467"/>
                  <a:pt x="992765" y="909414"/>
                  <a:pt x="1105372" y="837447"/>
                </a:cubicBezTo>
                <a:cubicBezTo>
                  <a:pt x="1217979" y="765480"/>
                  <a:pt x="1267085" y="677427"/>
                  <a:pt x="1339052" y="593607"/>
                </a:cubicBezTo>
                <a:cubicBezTo>
                  <a:pt x="1411019" y="509787"/>
                  <a:pt x="1495685" y="409880"/>
                  <a:pt x="1537172" y="334527"/>
                </a:cubicBezTo>
                <a:cubicBezTo>
                  <a:pt x="1578659" y="259174"/>
                  <a:pt x="1547332" y="185514"/>
                  <a:pt x="1587972" y="141487"/>
                </a:cubicBezTo>
                <a:cubicBezTo>
                  <a:pt x="1628612" y="97460"/>
                  <a:pt x="1746299" y="93227"/>
                  <a:pt x="1781012" y="70367"/>
                </a:cubicBezTo>
                <a:cubicBezTo>
                  <a:pt x="1815725" y="47507"/>
                  <a:pt x="1808952" y="12794"/>
                  <a:pt x="1796252" y="4327"/>
                </a:cubicBezTo>
                <a:cubicBezTo>
                  <a:pt x="1783552" y="-4140"/>
                  <a:pt x="1758999" y="-753"/>
                  <a:pt x="1704812" y="19567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フリーフォーム 167"/>
          <p:cNvSpPr/>
          <p:nvPr/>
        </p:nvSpPr>
        <p:spPr>
          <a:xfrm>
            <a:off x="2281320" y="2525760"/>
            <a:ext cx="1163520" cy="716040"/>
          </a:xfrm>
          <a:custGeom>
            <a:avLst/>
            <a:gdLst/>
            <a:ahLst/>
            <a:rect l="l" t="t" r="r" b="b"/>
            <a:pathLst>
              <a:path w="929850" h="620483">
                <a:moveTo>
                  <a:pt x="14" y="619854"/>
                </a:moveTo>
                <a:cubicBezTo>
                  <a:pt x="1284" y="626627"/>
                  <a:pt x="63091" y="576674"/>
                  <a:pt x="109234" y="569054"/>
                </a:cubicBezTo>
                <a:cubicBezTo>
                  <a:pt x="155377" y="561434"/>
                  <a:pt x="187127" y="579214"/>
                  <a:pt x="276874" y="574134"/>
                </a:cubicBezTo>
                <a:cubicBezTo>
                  <a:pt x="366621" y="569054"/>
                  <a:pt x="543997" y="580907"/>
                  <a:pt x="647714" y="538574"/>
                </a:cubicBezTo>
                <a:cubicBezTo>
                  <a:pt x="751431" y="496241"/>
                  <a:pt x="853877" y="386174"/>
                  <a:pt x="899174" y="320134"/>
                </a:cubicBezTo>
                <a:cubicBezTo>
                  <a:pt x="944471" y="254094"/>
                  <a:pt x="928807" y="177471"/>
                  <a:pt x="919494" y="142334"/>
                </a:cubicBezTo>
                <a:cubicBezTo>
                  <a:pt x="910181" y="107197"/>
                  <a:pt x="843294" y="109314"/>
                  <a:pt x="843294" y="109314"/>
                </a:cubicBezTo>
                <a:cubicBezTo>
                  <a:pt x="787414" y="85607"/>
                  <a:pt x="687507" y="-3293"/>
                  <a:pt x="584214" y="94"/>
                </a:cubicBezTo>
                <a:cubicBezTo>
                  <a:pt x="480921" y="3481"/>
                  <a:pt x="306507" y="60631"/>
                  <a:pt x="223534" y="129634"/>
                </a:cubicBezTo>
                <a:cubicBezTo>
                  <a:pt x="140561" y="198637"/>
                  <a:pt x="106694" y="347651"/>
                  <a:pt x="86374" y="414114"/>
                </a:cubicBezTo>
                <a:cubicBezTo>
                  <a:pt x="66054" y="480577"/>
                  <a:pt x="120664" y="500897"/>
                  <a:pt x="101614" y="528414"/>
                </a:cubicBezTo>
                <a:cubicBezTo>
                  <a:pt x="82564" y="555931"/>
                  <a:pt x="-1256" y="613081"/>
                  <a:pt x="14" y="6198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フリーフォーム 168"/>
          <p:cNvSpPr/>
          <p:nvPr/>
        </p:nvSpPr>
        <p:spPr>
          <a:xfrm>
            <a:off x="771480" y="2162160"/>
            <a:ext cx="936720" cy="1239840"/>
          </a:xfrm>
          <a:custGeom>
            <a:avLst/>
            <a:gdLst/>
            <a:ahLst/>
            <a:rect l="l" t="t" r="r" b="b"/>
            <a:pathLst>
              <a:path w="648606" h="931866">
                <a:moveTo>
                  <a:pt x="395643" y="3162"/>
                </a:moveTo>
                <a:cubicBezTo>
                  <a:pt x="355003" y="17555"/>
                  <a:pt x="268220" y="81055"/>
                  <a:pt x="202603" y="150482"/>
                </a:cubicBezTo>
                <a:cubicBezTo>
                  <a:pt x="136986" y="219909"/>
                  <a:pt x="17606" y="324895"/>
                  <a:pt x="1943" y="419722"/>
                </a:cubicBezTo>
                <a:cubicBezTo>
                  <a:pt x="-13720" y="514549"/>
                  <a:pt x="69253" y="654672"/>
                  <a:pt x="108623" y="719442"/>
                </a:cubicBezTo>
                <a:cubicBezTo>
                  <a:pt x="147993" y="784212"/>
                  <a:pt x="214033" y="775322"/>
                  <a:pt x="238163" y="808342"/>
                </a:cubicBezTo>
                <a:cubicBezTo>
                  <a:pt x="262293" y="841362"/>
                  <a:pt x="242820" y="898935"/>
                  <a:pt x="253403" y="917562"/>
                </a:cubicBezTo>
                <a:cubicBezTo>
                  <a:pt x="263986" y="936189"/>
                  <a:pt x="298276" y="936188"/>
                  <a:pt x="301663" y="920102"/>
                </a:cubicBezTo>
                <a:cubicBezTo>
                  <a:pt x="305050" y="904016"/>
                  <a:pt x="274570" y="839245"/>
                  <a:pt x="273723" y="821042"/>
                </a:cubicBezTo>
                <a:cubicBezTo>
                  <a:pt x="272876" y="802839"/>
                  <a:pt x="285576" y="813845"/>
                  <a:pt x="296583" y="810882"/>
                </a:cubicBezTo>
                <a:cubicBezTo>
                  <a:pt x="307590" y="807919"/>
                  <a:pt x="317750" y="811729"/>
                  <a:pt x="339763" y="803262"/>
                </a:cubicBezTo>
                <a:cubicBezTo>
                  <a:pt x="361776" y="794795"/>
                  <a:pt x="385906" y="792255"/>
                  <a:pt x="428663" y="760082"/>
                </a:cubicBezTo>
                <a:cubicBezTo>
                  <a:pt x="471420" y="727909"/>
                  <a:pt x="559896" y="671605"/>
                  <a:pt x="596303" y="610222"/>
                </a:cubicBezTo>
                <a:cubicBezTo>
                  <a:pt x="632710" y="548839"/>
                  <a:pt x="654723" y="457399"/>
                  <a:pt x="647103" y="391782"/>
                </a:cubicBezTo>
                <a:cubicBezTo>
                  <a:pt x="639483" y="326165"/>
                  <a:pt x="584026" y="271132"/>
                  <a:pt x="550583" y="216522"/>
                </a:cubicBezTo>
                <a:cubicBezTo>
                  <a:pt x="517140" y="161912"/>
                  <a:pt x="469303" y="102222"/>
                  <a:pt x="446443" y="64122"/>
                </a:cubicBezTo>
                <a:cubicBezTo>
                  <a:pt x="423583" y="26022"/>
                  <a:pt x="436283" y="-11231"/>
                  <a:pt x="395643" y="3162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フリーフォーム 169"/>
          <p:cNvSpPr/>
          <p:nvPr/>
        </p:nvSpPr>
        <p:spPr>
          <a:xfrm>
            <a:off x="1757520" y="3121200"/>
            <a:ext cx="857160" cy="1079280"/>
          </a:xfrm>
          <a:custGeom>
            <a:avLst/>
            <a:gdLst/>
            <a:ahLst/>
            <a:rect l="l" t="t" r="r" b="b"/>
            <a:pathLst>
              <a:path w="684005" h="933819">
                <a:moveTo>
                  <a:pt x="66040" y="17548"/>
                </a:moveTo>
                <a:cubicBezTo>
                  <a:pt x="40217" y="63691"/>
                  <a:pt x="0" y="222018"/>
                  <a:pt x="0" y="322348"/>
                </a:cubicBezTo>
                <a:cubicBezTo>
                  <a:pt x="0" y="422678"/>
                  <a:pt x="34713" y="545868"/>
                  <a:pt x="66040" y="619528"/>
                </a:cubicBezTo>
                <a:cubicBezTo>
                  <a:pt x="97367" y="693188"/>
                  <a:pt x="135043" y="724938"/>
                  <a:pt x="187960" y="764308"/>
                </a:cubicBezTo>
                <a:cubicBezTo>
                  <a:pt x="240877" y="803678"/>
                  <a:pt x="328930" y="839238"/>
                  <a:pt x="383540" y="855748"/>
                </a:cubicBezTo>
                <a:cubicBezTo>
                  <a:pt x="438150" y="872258"/>
                  <a:pt x="490643" y="859558"/>
                  <a:pt x="515620" y="863368"/>
                </a:cubicBezTo>
                <a:cubicBezTo>
                  <a:pt x="540597" y="867178"/>
                  <a:pt x="523663" y="867601"/>
                  <a:pt x="533400" y="878608"/>
                </a:cubicBezTo>
                <a:cubicBezTo>
                  <a:pt x="543137" y="889615"/>
                  <a:pt x="560917" y="921365"/>
                  <a:pt x="574040" y="929408"/>
                </a:cubicBezTo>
                <a:cubicBezTo>
                  <a:pt x="587163" y="937451"/>
                  <a:pt x="611717" y="933218"/>
                  <a:pt x="612140" y="926868"/>
                </a:cubicBezTo>
                <a:cubicBezTo>
                  <a:pt x="612563" y="920518"/>
                  <a:pt x="584200" y="903161"/>
                  <a:pt x="576580" y="891308"/>
                </a:cubicBezTo>
                <a:cubicBezTo>
                  <a:pt x="568960" y="879455"/>
                  <a:pt x="567267" y="864215"/>
                  <a:pt x="566420" y="855748"/>
                </a:cubicBezTo>
                <a:cubicBezTo>
                  <a:pt x="565573" y="847281"/>
                  <a:pt x="564727" y="850245"/>
                  <a:pt x="571500" y="840508"/>
                </a:cubicBezTo>
                <a:cubicBezTo>
                  <a:pt x="578273" y="830771"/>
                  <a:pt x="588433" y="849821"/>
                  <a:pt x="607060" y="797328"/>
                </a:cubicBezTo>
                <a:cubicBezTo>
                  <a:pt x="625687" y="744835"/>
                  <a:pt x="691727" y="614871"/>
                  <a:pt x="683260" y="525548"/>
                </a:cubicBezTo>
                <a:cubicBezTo>
                  <a:pt x="674793" y="436225"/>
                  <a:pt x="615527" y="330815"/>
                  <a:pt x="556260" y="261388"/>
                </a:cubicBezTo>
                <a:cubicBezTo>
                  <a:pt x="496993" y="191961"/>
                  <a:pt x="394547" y="144971"/>
                  <a:pt x="327660" y="108988"/>
                </a:cubicBezTo>
                <a:cubicBezTo>
                  <a:pt x="260773" y="73005"/>
                  <a:pt x="198120" y="61998"/>
                  <a:pt x="154940" y="45488"/>
                </a:cubicBezTo>
                <a:cubicBezTo>
                  <a:pt x="111760" y="28978"/>
                  <a:pt x="91863" y="-28595"/>
                  <a:pt x="66040" y="17548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2700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フリーフォーム 170"/>
          <p:cNvSpPr/>
          <p:nvPr/>
        </p:nvSpPr>
        <p:spPr>
          <a:xfrm rot="6643200">
            <a:off x="680760" y="4029120"/>
            <a:ext cx="1417680" cy="880920"/>
          </a:xfrm>
          <a:custGeom>
            <a:avLst/>
            <a:gdLst/>
            <a:ahLst/>
            <a:rect l="l" t="t" r="r" b="b"/>
            <a:pathLst>
              <a:path w="1806556" h="1036125">
                <a:moveTo>
                  <a:pt x="1704812" y="19567"/>
                </a:moveTo>
                <a:cubicBezTo>
                  <a:pt x="1650625" y="39887"/>
                  <a:pt x="1562572" y="110160"/>
                  <a:pt x="1471132" y="126247"/>
                </a:cubicBezTo>
                <a:cubicBezTo>
                  <a:pt x="1379692" y="142334"/>
                  <a:pt x="1298412" y="98307"/>
                  <a:pt x="1156172" y="116087"/>
                </a:cubicBezTo>
                <a:cubicBezTo>
                  <a:pt x="1013932" y="133867"/>
                  <a:pt x="765012" y="178740"/>
                  <a:pt x="617692" y="232927"/>
                </a:cubicBezTo>
                <a:cubicBezTo>
                  <a:pt x="470372" y="287114"/>
                  <a:pt x="316279" y="397180"/>
                  <a:pt x="272252" y="441207"/>
                </a:cubicBezTo>
                <a:cubicBezTo>
                  <a:pt x="228225" y="485234"/>
                  <a:pt x="335752" y="469994"/>
                  <a:pt x="353532" y="497087"/>
                </a:cubicBezTo>
                <a:cubicBezTo>
                  <a:pt x="371312" y="524180"/>
                  <a:pt x="394172" y="578367"/>
                  <a:pt x="378932" y="603767"/>
                </a:cubicBezTo>
                <a:cubicBezTo>
                  <a:pt x="363692" y="629167"/>
                  <a:pt x="289185" y="658800"/>
                  <a:pt x="262092" y="649487"/>
                </a:cubicBezTo>
                <a:cubicBezTo>
                  <a:pt x="234999" y="640174"/>
                  <a:pt x="237539" y="541960"/>
                  <a:pt x="216372" y="547887"/>
                </a:cubicBezTo>
                <a:cubicBezTo>
                  <a:pt x="195205" y="553814"/>
                  <a:pt x="158799" y="635940"/>
                  <a:pt x="135092" y="685047"/>
                </a:cubicBezTo>
                <a:cubicBezTo>
                  <a:pt x="111385" y="734154"/>
                  <a:pt x="94452" y="800194"/>
                  <a:pt x="74132" y="842527"/>
                </a:cubicBezTo>
                <a:cubicBezTo>
                  <a:pt x="53812" y="884860"/>
                  <a:pt x="-32548" y="911954"/>
                  <a:pt x="13172" y="939047"/>
                </a:cubicBezTo>
                <a:cubicBezTo>
                  <a:pt x="58892" y="966140"/>
                  <a:pt x="240079" y="990694"/>
                  <a:pt x="348452" y="1005087"/>
                </a:cubicBezTo>
                <a:cubicBezTo>
                  <a:pt x="456825" y="1019480"/>
                  <a:pt x="537259" y="1053347"/>
                  <a:pt x="663412" y="1025407"/>
                </a:cubicBezTo>
                <a:cubicBezTo>
                  <a:pt x="789565" y="997467"/>
                  <a:pt x="992765" y="909414"/>
                  <a:pt x="1105372" y="837447"/>
                </a:cubicBezTo>
                <a:cubicBezTo>
                  <a:pt x="1217979" y="765480"/>
                  <a:pt x="1267085" y="677427"/>
                  <a:pt x="1339052" y="593607"/>
                </a:cubicBezTo>
                <a:cubicBezTo>
                  <a:pt x="1411019" y="509787"/>
                  <a:pt x="1495685" y="409880"/>
                  <a:pt x="1537172" y="334527"/>
                </a:cubicBezTo>
                <a:cubicBezTo>
                  <a:pt x="1578659" y="259174"/>
                  <a:pt x="1547332" y="185514"/>
                  <a:pt x="1587972" y="141487"/>
                </a:cubicBezTo>
                <a:cubicBezTo>
                  <a:pt x="1628612" y="97460"/>
                  <a:pt x="1746299" y="93227"/>
                  <a:pt x="1781012" y="70367"/>
                </a:cubicBezTo>
                <a:cubicBezTo>
                  <a:pt x="1815725" y="47507"/>
                  <a:pt x="1808952" y="12794"/>
                  <a:pt x="1796252" y="4327"/>
                </a:cubicBezTo>
                <a:cubicBezTo>
                  <a:pt x="1783552" y="-4140"/>
                  <a:pt x="1758999" y="-753"/>
                  <a:pt x="1704812" y="19567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フリーフォーム 171"/>
          <p:cNvSpPr/>
          <p:nvPr/>
        </p:nvSpPr>
        <p:spPr>
          <a:xfrm rot="6643200">
            <a:off x="1489320" y="1605600"/>
            <a:ext cx="1316160" cy="1219320"/>
          </a:xfrm>
          <a:custGeom>
            <a:avLst/>
            <a:gdLst/>
            <a:ahLst/>
            <a:rect l="l" t="t" r="r" b="b"/>
            <a:pathLst>
              <a:path w="1677372" h="1433876">
                <a:moveTo>
                  <a:pt x="1187910" y="1227"/>
                </a:moveTo>
                <a:cubicBezTo>
                  <a:pt x="1120177" y="4614"/>
                  <a:pt x="961850" y="11387"/>
                  <a:pt x="857710" y="52027"/>
                </a:cubicBezTo>
                <a:cubicBezTo>
                  <a:pt x="753570" y="92667"/>
                  <a:pt x="663823" y="184954"/>
                  <a:pt x="563070" y="245067"/>
                </a:cubicBezTo>
                <a:cubicBezTo>
                  <a:pt x="462317" y="305180"/>
                  <a:pt x="318383" y="312800"/>
                  <a:pt x="253190" y="412707"/>
                </a:cubicBezTo>
                <a:cubicBezTo>
                  <a:pt x="187997" y="512614"/>
                  <a:pt x="198157" y="731054"/>
                  <a:pt x="171910" y="844507"/>
                </a:cubicBezTo>
                <a:cubicBezTo>
                  <a:pt x="145663" y="957960"/>
                  <a:pt x="108410" y="1021460"/>
                  <a:pt x="95710" y="1093427"/>
                </a:cubicBezTo>
                <a:cubicBezTo>
                  <a:pt x="83010" y="1165394"/>
                  <a:pt x="110103" y="1219580"/>
                  <a:pt x="95710" y="1276307"/>
                </a:cubicBezTo>
                <a:cubicBezTo>
                  <a:pt x="81317" y="1333034"/>
                  <a:pt x="-32983" y="1430400"/>
                  <a:pt x="9350" y="1433787"/>
                </a:cubicBezTo>
                <a:cubicBezTo>
                  <a:pt x="51683" y="1437174"/>
                  <a:pt x="226097" y="1344040"/>
                  <a:pt x="349710" y="1296627"/>
                </a:cubicBezTo>
                <a:cubicBezTo>
                  <a:pt x="473323" y="1249214"/>
                  <a:pt x="644350" y="1193334"/>
                  <a:pt x="751030" y="1149307"/>
                </a:cubicBezTo>
                <a:cubicBezTo>
                  <a:pt x="857710" y="1105280"/>
                  <a:pt x="891577" y="1066334"/>
                  <a:pt x="989790" y="1032467"/>
                </a:cubicBezTo>
                <a:cubicBezTo>
                  <a:pt x="1088003" y="998600"/>
                  <a:pt x="1244637" y="1001987"/>
                  <a:pt x="1340310" y="946107"/>
                </a:cubicBezTo>
                <a:cubicBezTo>
                  <a:pt x="1435983" y="890227"/>
                  <a:pt x="1508797" y="786087"/>
                  <a:pt x="1563830" y="697187"/>
                </a:cubicBezTo>
                <a:cubicBezTo>
                  <a:pt x="1618863" y="608287"/>
                  <a:pt x="1701837" y="477900"/>
                  <a:pt x="1670510" y="412707"/>
                </a:cubicBezTo>
                <a:cubicBezTo>
                  <a:pt x="1639183" y="347514"/>
                  <a:pt x="1432597" y="342434"/>
                  <a:pt x="1375870" y="306027"/>
                </a:cubicBezTo>
                <a:cubicBezTo>
                  <a:pt x="1319143" y="269620"/>
                  <a:pt x="1330150" y="194267"/>
                  <a:pt x="1330150" y="194267"/>
                </a:cubicBezTo>
                <a:cubicBezTo>
                  <a:pt x="1311523" y="148547"/>
                  <a:pt x="1289510" y="63880"/>
                  <a:pt x="1264110" y="31707"/>
                </a:cubicBezTo>
                <a:cubicBezTo>
                  <a:pt x="1238710" y="-466"/>
                  <a:pt x="1255643" y="-2160"/>
                  <a:pt x="1187910" y="1227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フリーフォーム 172"/>
          <p:cNvSpPr/>
          <p:nvPr/>
        </p:nvSpPr>
        <p:spPr>
          <a:xfrm rot="6643200">
            <a:off x="1240920" y="2825640"/>
            <a:ext cx="1038240" cy="971640"/>
          </a:xfrm>
          <a:custGeom>
            <a:avLst/>
            <a:gdLst/>
            <a:ahLst/>
            <a:rect l="l" t="t" r="r" b="b"/>
            <a:pathLst>
              <a:path w="899166" h="776412">
                <a:moveTo>
                  <a:pt x="4962" y="734736"/>
                </a:moveTo>
                <a:cubicBezTo>
                  <a:pt x="19779" y="717062"/>
                  <a:pt x="95132" y="689016"/>
                  <a:pt x="123707" y="669331"/>
                </a:cubicBezTo>
                <a:cubicBezTo>
                  <a:pt x="116087" y="617261"/>
                  <a:pt x="86877" y="564662"/>
                  <a:pt x="90687" y="475656"/>
                </a:cubicBezTo>
                <a:cubicBezTo>
                  <a:pt x="94497" y="386650"/>
                  <a:pt x="102540" y="214036"/>
                  <a:pt x="146567" y="135296"/>
                </a:cubicBezTo>
                <a:cubicBezTo>
                  <a:pt x="190594" y="56556"/>
                  <a:pt x="249014" y="17609"/>
                  <a:pt x="354847" y="3216"/>
                </a:cubicBezTo>
                <a:cubicBezTo>
                  <a:pt x="460680" y="-11177"/>
                  <a:pt x="695207" y="26076"/>
                  <a:pt x="781567" y="48936"/>
                </a:cubicBezTo>
                <a:cubicBezTo>
                  <a:pt x="867927" y="71796"/>
                  <a:pt x="853534" y="108203"/>
                  <a:pt x="873007" y="140376"/>
                </a:cubicBezTo>
                <a:cubicBezTo>
                  <a:pt x="892480" y="172549"/>
                  <a:pt x="898407" y="175089"/>
                  <a:pt x="898407" y="241976"/>
                </a:cubicBezTo>
                <a:cubicBezTo>
                  <a:pt x="898407" y="308863"/>
                  <a:pt x="906027" y="466343"/>
                  <a:pt x="873007" y="541696"/>
                </a:cubicBezTo>
                <a:cubicBezTo>
                  <a:pt x="839987" y="617049"/>
                  <a:pt x="764634" y="657689"/>
                  <a:pt x="700287" y="694096"/>
                </a:cubicBezTo>
                <a:cubicBezTo>
                  <a:pt x="635940" y="730503"/>
                  <a:pt x="568207" y="758443"/>
                  <a:pt x="486927" y="760136"/>
                </a:cubicBezTo>
                <a:cubicBezTo>
                  <a:pt x="405647" y="761829"/>
                  <a:pt x="269122" y="715474"/>
                  <a:pt x="212607" y="704256"/>
                </a:cubicBezTo>
                <a:cubicBezTo>
                  <a:pt x="156092" y="693038"/>
                  <a:pt x="177470" y="692403"/>
                  <a:pt x="147837" y="692826"/>
                </a:cubicBezTo>
                <a:cubicBezTo>
                  <a:pt x="131539" y="712299"/>
                  <a:pt x="58619" y="768391"/>
                  <a:pt x="34807" y="775376"/>
                </a:cubicBezTo>
                <a:cubicBezTo>
                  <a:pt x="10995" y="782361"/>
                  <a:pt x="-9855" y="752410"/>
                  <a:pt x="4962" y="73473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フリーフォーム 173"/>
          <p:cNvSpPr/>
          <p:nvPr/>
        </p:nvSpPr>
        <p:spPr>
          <a:xfrm rot="6643200">
            <a:off x="1750680" y="3831840"/>
            <a:ext cx="847800" cy="1168200"/>
          </a:xfrm>
          <a:custGeom>
            <a:avLst/>
            <a:gdLst/>
            <a:ahLst/>
            <a:rect l="l" t="t" r="r" b="b"/>
            <a:pathLst>
              <a:path w="733951" h="933164">
                <a:moveTo>
                  <a:pt x="530748" y="1419"/>
                </a:moveTo>
                <a:cubicBezTo>
                  <a:pt x="523551" y="9039"/>
                  <a:pt x="566308" y="71692"/>
                  <a:pt x="553608" y="85239"/>
                </a:cubicBezTo>
                <a:cubicBezTo>
                  <a:pt x="540908" y="98786"/>
                  <a:pt x="512968" y="71692"/>
                  <a:pt x="454548" y="82699"/>
                </a:cubicBezTo>
                <a:cubicBezTo>
                  <a:pt x="396128" y="93706"/>
                  <a:pt x="275055" y="103442"/>
                  <a:pt x="203088" y="151279"/>
                </a:cubicBezTo>
                <a:cubicBezTo>
                  <a:pt x="131121" y="199116"/>
                  <a:pt x="54921" y="288016"/>
                  <a:pt x="22748" y="369719"/>
                </a:cubicBezTo>
                <a:cubicBezTo>
                  <a:pt x="-9425" y="451422"/>
                  <a:pt x="-1382" y="561489"/>
                  <a:pt x="10048" y="641499"/>
                </a:cubicBezTo>
                <a:cubicBezTo>
                  <a:pt x="21478" y="721509"/>
                  <a:pt x="77358" y="801519"/>
                  <a:pt x="91328" y="849779"/>
                </a:cubicBezTo>
                <a:cubicBezTo>
                  <a:pt x="105298" y="898039"/>
                  <a:pt x="67198" y="922169"/>
                  <a:pt x="93868" y="931059"/>
                </a:cubicBezTo>
                <a:cubicBezTo>
                  <a:pt x="120538" y="939949"/>
                  <a:pt x="186155" y="918782"/>
                  <a:pt x="251348" y="903119"/>
                </a:cubicBezTo>
                <a:cubicBezTo>
                  <a:pt x="316541" y="887456"/>
                  <a:pt x="405865" y="900156"/>
                  <a:pt x="485028" y="837079"/>
                </a:cubicBezTo>
                <a:cubicBezTo>
                  <a:pt x="564191" y="774002"/>
                  <a:pt x="696271" y="633456"/>
                  <a:pt x="726328" y="524659"/>
                </a:cubicBezTo>
                <a:cubicBezTo>
                  <a:pt x="756385" y="415862"/>
                  <a:pt x="689498" y="252456"/>
                  <a:pt x="665368" y="184299"/>
                </a:cubicBezTo>
                <a:cubicBezTo>
                  <a:pt x="641238" y="116142"/>
                  <a:pt x="592978" y="139849"/>
                  <a:pt x="581548" y="115719"/>
                </a:cubicBezTo>
                <a:cubicBezTo>
                  <a:pt x="570118" y="91589"/>
                  <a:pt x="601445" y="60686"/>
                  <a:pt x="596788" y="39519"/>
                </a:cubicBezTo>
                <a:cubicBezTo>
                  <a:pt x="592131" y="18352"/>
                  <a:pt x="537945" y="-6201"/>
                  <a:pt x="530748" y="1419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1765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フリーフォーム 174"/>
          <p:cNvSpPr/>
          <p:nvPr/>
        </p:nvSpPr>
        <p:spPr>
          <a:xfrm rot="2224200">
            <a:off x="1058400" y="771120"/>
            <a:ext cx="1535040" cy="812880"/>
          </a:xfrm>
          <a:custGeom>
            <a:avLst/>
            <a:gdLst/>
            <a:ahLst/>
            <a:rect l="l" t="t" r="r" b="b"/>
            <a:pathLst>
              <a:path w="1806556" h="1036125">
                <a:moveTo>
                  <a:pt x="1704812" y="19567"/>
                </a:moveTo>
                <a:cubicBezTo>
                  <a:pt x="1650625" y="39887"/>
                  <a:pt x="1562572" y="110160"/>
                  <a:pt x="1471132" y="126247"/>
                </a:cubicBezTo>
                <a:cubicBezTo>
                  <a:pt x="1379692" y="142334"/>
                  <a:pt x="1298412" y="98307"/>
                  <a:pt x="1156172" y="116087"/>
                </a:cubicBezTo>
                <a:cubicBezTo>
                  <a:pt x="1013932" y="133867"/>
                  <a:pt x="765012" y="178740"/>
                  <a:pt x="617692" y="232927"/>
                </a:cubicBezTo>
                <a:cubicBezTo>
                  <a:pt x="470372" y="287114"/>
                  <a:pt x="316279" y="397180"/>
                  <a:pt x="272252" y="441207"/>
                </a:cubicBezTo>
                <a:cubicBezTo>
                  <a:pt x="228225" y="485234"/>
                  <a:pt x="335752" y="469994"/>
                  <a:pt x="353532" y="497087"/>
                </a:cubicBezTo>
                <a:cubicBezTo>
                  <a:pt x="371312" y="524180"/>
                  <a:pt x="394172" y="578367"/>
                  <a:pt x="378932" y="603767"/>
                </a:cubicBezTo>
                <a:cubicBezTo>
                  <a:pt x="363692" y="629167"/>
                  <a:pt x="289185" y="658800"/>
                  <a:pt x="262092" y="649487"/>
                </a:cubicBezTo>
                <a:cubicBezTo>
                  <a:pt x="234999" y="640174"/>
                  <a:pt x="237539" y="541960"/>
                  <a:pt x="216372" y="547887"/>
                </a:cubicBezTo>
                <a:cubicBezTo>
                  <a:pt x="195205" y="553814"/>
                  <a:pt x="158799" y="635940"/>
                  <a:pt x="135092" y="685047"/>
                </a:cubicBezTo>
                <a:cubicBezTo>
                  <a:pt x="111385" y="734154"/>
                  <a:pt x="94452" y="800194"/>
                  <a:pt x="74132" y="842527"/>
                </a:cubicBezTo>
                <a:cubicBezTo>
                  <a:pt x="53812" y="884860"/>
                  <a:pt x="-32548" y="911954"/>
                  <a:pt x="13172" y="939047"/>
                </a:cubicBezTo>
                <a:cubicBezTo>
                  <a:pt x="58892" y="966140"/>
                  <a:pt x="240079" y="990694"/>
                  <a:pt x="348452" y="1005087"/>
                </a:cubicBezTo>
                <a:cubicBezTo>
                  <a:pt x="456825" y="1019480"/>
                  <a:pt x="537259" y="1053347"/>
                  <a:pt x="663412" y="1025407"/>
                </a:cubicBezTo>
                <a:cubicBezTo>
                  <a:pt x="789565" y="997467"/>
                  <a:pt x="992765" y="909414"/>
                  <a:pt x="1105372" y="837447"/>
                </a:cubicBezTo>
                <a:cubicBezTo>
                  <a:pt x="1217979" y="765480"/>
                  <a:pt x="1267085" y="677427"/>
                  <a:pt x="1339052" y="593607"/>
                </a:cubicBezTo>
                <a:cubicBezTo>
                  <a:pt x="1411019" y="509787"/>
                  <a:pt x="1495685" y="409880"/>
                  <a:pt x="1537172" y="334527"/>
                </a:cubicBezTo>
                <a:cubicBezTo>
                  <a:pt x="1578659" y="259174"/>
                  <a:pt x="1547332" y="185514"/>
                  <a:pt x="1587972" y="141487"/>
                </a:cubicBezTo>
                <a:cubicBezTo>
                  <a:pt x="1628612" y="97460"/>
                  <a:pt x="1746299" y="93227"/>
                  <a:pt x="1781012" y="70367"/>
                </a:cubicBezTo>
                <a:cubicBezTo>
                  <a:pt x="1815725" y="47507"/>
                  <a:pt x="1808952" y="12794"/>
                  <a:pt x="1796252" y="4327"/>
                </a:cubicBezTo>
                <a:cubicBezTo>
                  <a:pt x="1783552" y="-4140"/>
                  <a:pt x="1758999" y="-753"/>
                  <a:pt x="1704812" y="19567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474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フリーフォーム 175"/>
          <p:cNvSpPr/>
          <p:nvPr/>
        </p:nvSpPr>
        <p:spPr>
          <a:xfrm rot="2224200">
            <a:off x="1631520" y="1647720"/>
            <a:ext cx="1165320" cy="717480"/>
          </a:xfrm>
          <a:custGeom>
            <a:avLst/>
            <a:gdLst/>
            <a:ahLst/>
            <a:rect l="l" t="t" r="r" b="b"/>
            <a:pathLst>
              <a:path w="929850" h="620483">
                <a:moveTo>
                  <a:pt x="14" y="619854"/>
                </a:moveTo>
                <a:cubicBezTo>
                  <a:pt x="1284" y="626627"/>
                  <a:pt x="63091" y="576674"/>
                  <a:pt x="109234" y="569054"/>
                </a:cubicBezTo>
                <a:cubicBezTo>
                  <a:pt x="155377" y="561434"/>
                  <a:pt x="187127" y="579214"/>
                  <a:pt x="276874" y="574134"/>
                </a:cubicBezTo>
                <a:cubicBezTo>
                  <a:pt x="366621" y="569054"/>
                  <a:pt x="543997" y="580907"/>
                  <a:pt x="647714" y="538574"/>
                </a:cubicBezTo>
                <a:cubicBezTo>
                  <a:pt x="751431" y="496241"/>
                  <a:pt x="853877" y="386174"/>
                  <a:pt x="899174" y="320134"/>
                </a:cubicBezTo>
                <a:cubicBezTo>
                  <a:pt x="944471" y="254094"/>
                  <a:pt x="928807" y="177471"/>
                  <a:pt x="919494" y="142334"/>
                </a:cubicBezTo>
                <a:cubicBezTo>
                  <a:pt x="910181" y="107197"/>
                  <a:pt x="843294" y="109314"/>
                  <a:pt x="843294" y="109314"/>
                </a:cubicBezTo>
                <a:cubicBezTo>
                  <a:pt x="787414" y="85607"/>
                  <a:pt x="687507" y="-3293"/>
                  <a:pt x="584214" y="94"/>
                </a:cubicBezTo>
                <a:cubicBezTo>
                  <a:pt x="480921" y="3481"/>
                  <a:pt x="306507" y="60631"/>
                  <a:pt x="223534" y="129634"/>
                </a:cubicBezTo>
                <a:cubicBezTo>
                  <a:pt x="140561" y="198637"/>
                  <a:pt x="106694" y="347651"/>
                  <a:pt x="86374" y="414114"/>
                </a:cubicBezTo>
                <a:cubicBezTo>
                  <a:pt x="66054" y="480577"/>
                  <a:pt x="120664" y="500897"/>
                  <a:pt x="101614" y="528414"/>
                </a:cubicBezTo>
                <a:cubicBezTo>
                  <a:pt x="82564" y="555931"/>
                  <a:pt x="-1256" y="613081"/>
                  <a:pt x="14" y="6198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474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フリーフォーム 176"/>
          <p:cNvSpPr/>
          <p:nvPr/>
        </p:nvSpPr>
        <p:spPr>
          <a:xfrm rot="2224200">
            <a:off x="345600" y="136080"/>
            <a:ext cx="935280" cy="1241640"/>
          </a:xfrm>
          <a:custGeom>
            <a:avLst/>
            <a:gdLst/>
            <a:ahLst/>
            <a:rect l="l" t="t" r="r" b="b"/>
            <a:pathLst>
              <a:path w="648606" h="931866">
                <a:moveTo>
                  <a:pt x="395643" y="3162"/>
                </a:moveTo>
                <a:cubicBezTo>
                  <a:pt x="355003" y="17555"/>
                  <a:pt x="268220" y="81055"/>
                  <a:pt x="202603" y="150482"/>
                </a:cubicBezTo>
                <a:cubicBezTo>
                  <a:pt x="136986" y="219909"/>
                  <a:pt x="17606" y="324895"/>
                  <a:pt x="1943" y="419722"/>
                </a:cubicBezTo>
                <a:cubicBezTo>
                  <a:pt x="-13720" y="514549"/>
                  <a:pt x="69253" y="654672"/>
                  <a:pt x="108623" y="719442"/>
                </a:cubicBezTo>
                <a:cubicBezTo>
                  <a:pt x="147993" y="784212"/>
                  <a:pt x="214033" y="775322"/>
                  <a:pt x="238163" y="808342"/>
                </a:cubicBezTo>
                <a:cubicBezTo>
                  <a:pt x="262293" y="841362"/>
                  <a:pt x="242820" y="898935"/>
                  <a:pt x="253403" y="917562"/>
                </a:cubicBezTo>
                <a:cubicBezTo>
                  <a:pt x="263986" y="936189"/>
                  <a:pt x="298276" y="936188"/>
                  <a:pt x="301663" y="920102"/>
                </a:cubicBezTo>
                <a:cubicBezTo>
                  <a:pt x="305050" y="904016"/>
                  <a:pt x="274570" y="839245"/>
                  <a:pt x="273723" y="821042"/>
                </a:cubicBezTo>
                <a:cubicBezTo>
                  <a:pt x="272876" y="802839"/>
                  <a:pt x="285576" y="813845"/>
                  <a:pt x="296583" y="810882"/>
                </a:cubicBezTo>
                <a:cubicBezTo>
                  <a:pt x="307590" y="807919"/>
                  <a:pt x="317750" y="811729"/>
                  <a:pt x="339763" y="803262"/>
                </a:cubicBezTo>
                <a:cubicBezTo>
                  <a:pt x="361776" y="794795"/>
                  <a:pt x="385906" y="792255"/>
                  <a:pt x="428663" y="760082"/>
                </a:cubicBezTo>
                <a:cubicBezTo>
                  <a:pt x="471420" y="727909"/>
                  <a:pt x="559896" y="671605"/>
                  <a:pt x="596303" y="610222"/>
                </a:cubicBezTo>
                <a:cubicBezTo>
                  <a:pt x="632710" y="548839"/>
                  <a:pt x="654723" y="457399"/>
                  <a:pt x="647103" y="391782"/>
                </a:cubicBezTo>
                <a:cubicBezTo>
                  <a:pt x="639483" y="326165"/>
                  <a:pt x="584026" y="271132"/>
                  <a:pt x="550583" y="216522"/>
                </a:cubicBezTo>
                <a:cubicBezTo>
                  <a:pt x="517140" y="161912"/>
                  <a:pt x="469303" y="102222"/>
                  <a:pt x="446443" y="64122"/>
                </a:cubicBezTo>
                <a:cubicBezTo>
                  <a:pt x="423583" y="26022"/>
                  <a:pt x="436283" y="-11231"/>
                  <a:pt x="395643" y="3162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474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フリーフォーム 177"/>
          <p:cNvSpPr/>
          <p:nvPr/>
        </p:nvSpPr>
        <p:spPr>
          <a:xfrm rot="17216400">
            <a:off x="6070320" y="4059000"/>
            <a:ext cx="1038240" cy="971640"/>
          </a:xfrm>
          <a:custGeom>
            <a:avLst/>
            <a:gdLst/>
            <a:ahLst/>
            <a:rect l="l" t="t" r="r" b="b"/>
            <a:pathLst>
              <a:path w="899166" h="776412">
                <a:moveTo>
                  <a:pt x="4962" y="734736"/>
                </a:moveTo>
                <a:cubicBezTo>
                  <a:pt x="19779" y="717062"/>
                  <a:pt x="95132" y="689016"/>
                  <a:pt x="123707" y="669331"/>
                </a:cubicBezTo>
                <a:cubicBezTo>
                  <a:pt x="116087" y="617261"/>
                  <a:pt x="86877" y="564662"/>
                  <a:pt x="90687" y="475656"/>
                </a:cubicBezTo>
                <a:cubicBezTo>
                  <a:pt x="94497" y="386650"/>
                  <a:pt x="102540" y="214036"/>
                  <a:pt x="146567" y="135296"/>
                </a:cubicBezTo>
                <a:cubicBezTo>
                  <a:pt x="190594" y="56556"/>
                  <a:pt x="249014" y="17609"/>
                  <a:pt x="354847" y="3216"/>
                </a:cubicBezTo>
                <a:cubicBezTo>
                  <a:pt x="460680" y="-11177"/>
                  <a:pt x="695207" y="26076"/>
                  <a:pt x="781567" y="48936"/>
                </a:cubicBezTo>
                <a:cubicBezTo>
                  <a:pt x="867927" y="71796"/>
                  <a:pt x="853534" y="108203"/>
                  <a:pt x="873007" y="140376"/>
                </a:cubicBezTo>
                <a:cubicBezTo>
                  <a:pt x="892480" y="172549"/>
                  <a:pt x="898407" y="175089"/>
                  <a:pt x="898407" y="241976"/>
                </a:cubicBezTo>
                <a:cubicBezTo>
                  <a:pt x="898407" y="308863"/>
                  <a:pt x="906027" y="466343"/>
                  <a:pt x="873007" y="541696"/>
                </a:cubicBezTo>
                <a:cubicBezTo>
                  <a:pt x="839987" y="617049"/>
                  <a:pt x="764634" y="657689"/>
                  <a:pt x="700287" y="694096"/>
                </a:cubicBezTo>
                <a:cubicBezTo>
                  <a:pt x="635940" y="730503"/>
                  <a:pt x="568207" y="758443"/>
                  <a:pt x="486927" y="760136"/>
                </a:cubicBezTo>
                <a:cubicBezTo>
                  <a:pt x="405647" y="761829"/>
                  <a:pt x="269122" y="715474"/>
                  <a:pt x="212607" y="704256"/>
                </a:cubicBezTo>
                <a:cubicBezTo>
                  <a:pt x="156092" y="693038"/>
                  <a:pt x="177470" y="692403"/>
                  <a:pt x="147837" y="692826"/>
                </a:cubicBezTo>
                <a:cubicBezTo>
                  <a:pt x="131539" y="712299"/>
                  <a:pt x="58619" y="768391"/>
                  <a:pt x="34807" y="775376"/>
                </a:cubicBezTo>
                <a:cubicBezTo>
                  <a:pt x="10995" y="782361"/>
                  <a:pt x="-9855" y="752410"/>
                  <a:pt x="4962" y="73473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7086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フリーフォーム 178"/>
          <p:cNvSpPr/>
          <p:nvPr/>
        </p:nvSpPr>
        <p:spPr>
          <a:xfrm rot="2260200">
            <a:off x="2452320" y="4973400"/>
            <a:ext cx="1125720" cy="896760"/>
          </a:xfrm>
          <a:custGeom>
            <a:avLst/>
            <a:gdLst/>
            <a:ahLst/>
            <a:rect l="l" t="t" r="r" b="b"/>
            <a:pathLst>
              <a:path w="899166" h="776412">
                <a:moveTo>
                  <a:pt x="4962" y="734736"/>
                </a:moveTo>
                <a:cubicBezTo>
                  <a:pt x="19779" y="717062"/>
                  <a:pt x="95132" y="689016"/>
                  <a:pt x="123707" y="669331"/>
                </a:cubicBezTo>
                <a:cubicBezTo>
                  <a:pt x="116087" y="617261"/>
                  <a:pt x="86877" y="564662"/>
                  <a:pt x="90687" y="475656"/>
                </a:cubicBezTo>
                <a:cubicBezTo>
                  <a:pt x="94497" y="386650"/>
                  <a:pt x="102540" y="214036"/>
                  <a:pt x="146567" y="135296"/>
                </a:cubicBezTo>
                <a:cubicBezTo>
                  <a:pt x="190594" y="56556"/>
                  <a:pt x="249014" y="17609"/>
                  <a:pt x="354847" y="3216"/>
                </a:cubicBezTo>
                <a:cubicBezTo>
                  <a:pt x="460680" y="-11177"/>
                  <a:pt x="695207" y="26076"/>
                  <a:pt x="781567" y="48936"/>
                </a:cubicBezTo>
                <a:cubicBezTo>
                  <a:pt x="867927" y="71796"/>
                  <a:pt x="853534" y="108203"/>
                  <a:pt x="873007" y="140376"/>
                </a:cubicBezTo>
                <a:cubicBezTo>
                  <a:pt x="892480" y="172549"/>
                  <a:pt x="898407" y="175089"/>
                  <a:pt x="898407" y="241976"/>
                </a:cubicBezTo>
                <a:cubicBezTo>
                  <a:pt x="898407" y="308863"/>
                  <a:pt x="906027" y="466343"/>
                  <a:pt x="873007" y="541696"/>
                </a:cubicBezTo>
                <a:cubicBezTo>
                  <a:pt x="839987" y="617049"/>
                  <a:pt x="764634" y="657689"/>
                  <a:pt x="700287" y="694096"/>
                </a:cubicBezTo>
                <a:cubicBezTo>
                  <a:pt x="635940" y="730503"/>
                  <a:pt x="568207" y="758443"/>
                  <a:pt x="486927" y="760136"/>
                </a:cubicBezTo>
                <a:cubicBezTo>
                  <a:pt x="405647" y="761829"/>
                  <a:pt x="269122" y="715474"/>
                  <a:pt x="212607" y="704256"/>
                </a:cubicBezTo>
                <a:cubicBezTo>
                  <a:pt x="156092" y="693038"/>
                  <a:pt x="177470" y="692403"/>
                  <a:pt x="147837" y="692826"/>
                </a:cubicBezTo>
                <a:cubicBezTo>
                  <a:pt x="131539" y="712299"/>
                  <a:pt x="58619" y="768391"/>
                  <a:pt x="34807" y="775376"/>
                </a:cubicBezTo>
                <a:cubicBezTo>
                  <a:pt x="10995" y="782361"/>
                  <a:pt x="-9855" y="752410"/>
                  <a:pt x="4962" y="73473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438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フリーフォーム 179"/>
          <p:cNvSpPr/>
          <p:nvPr/>
        </p:nvSpPr>
        <p:spPr>
          <a:xfrm rot="17216400">
            <a:off x="1345320" y="5252400"/>
            <a:ext cx="1074960" cy="777600"/>
          </a:xfrm>
          <a:custGeom>
            <a:avLst/>
            <a:gdLst/>
            <a:ahLst/>
            <a:rect l="l" t="t" r="r" b="b"/>
            <a:pathLst>
              <a:path w="929850" h="620483">
                <a:moveTo>
                  <a:pt x="14" y="619854"/>
                </a:moveTo>
                <a:cubicBezTo>
                  <a:pt x="1284" y="626627"/>
                  <a:pt x="63091" y="576674"/>
                  <a:pt x="109234" y="569054"/>
                </a:cubicBezTo>
                <a:cubicBezTo>
                  <a:pt x="155377" y="561434"/>
                  <a:pt x="187127" y="579214"/>
                  <a:pt x="276874" y="574134"/>
                </a:cubicBezTo>
                <a:cubicBezTo>
                  <a:pt x="366621" y="569054"/>
                  <a:pt x="543997" y="580907"/>
                  <a:pt x="647714" y="538574"/>
                </a:cubicBezTo>
                <a:cubicBezTo>
                  <a:pt x="751431" y="496241"/>
                  <a:pt x="853877" y="386174"/>
                  <a:pt x="899174" y="320134"/>
                </a:cubicBezTo>
                <a:cubicBezTo>
                  <a:pt x="944471" y="254094"/>
                  <a:pt x="928807" y="177471"/>
                  <a:pt x="919494" y="142334"/>
                </a:cubicBezTo>
                <a:cubicBezTo>
                  <a:pt x="910181" y="107197"/>
                  <a:pt x="843294" y="109314"/>
                  <a:pt x="843294" y="109314"/>
                </a:cubicBezTo>
                <a:cubicBezTo>
                  <a:pt x="787414" y="85607"/>
                  <a:pt x="687507" y="-3293"/>
                  <a:pt x="584214" y="94"/>
                </a:cubicBezTo>
                <a:cubicBezTo>
                  <a:pt x="480921" y="3481"/>
                  <a:pt x="306507" y="60631"/>
                  <a:pt x="223534" y="129634"/>
                </a:cubicBezTo>
                <a:cubicBezTo>
                  <a:pt x="140561" y="198637"/>
                  <a:pt x="106694" y="347651"/>
                  <a:pt x="86374" y="414114"/>
                </a:cubicBezTo>
                <a:cubicBezTo>
                  <a:pt x="66054" y="480577"/>
                  <a:pt x="120664" y="500897"/>
                  <a:pt x="101614" y="528414"/>
                </a:cubicBezTo>
                <a:cubicBezTo>
                  <a:pt x="82564" y="555931"/>
                  <a:pt x="-1256" y="613081"/>
                  <a:pt x="14" y="619854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7086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フリーフォーム 180"/>
          <p:cNvSpPr/>
          <p:nvPr/>
        </p:nvSpPr>
        <p:spPr>
          <a:xfrm rot="21081600">
            <a:off x="4908240" y="5361120"/>
            <a:ext cx="1439640" cy="855360"/>
          </a:xfrm>
          <a:custGeom>
            <a:avLst/>
            <a:gdLst/>
            <a:ahLst/>
            <a:rect l="l" t="t" r="r" b="b"/>
            <a:pathLst>
              <a:path w="1694411" h="1090756">
                <a:moveTo>
                  <a:pt x="1683236" y="1044886"/>
                </a:moveTo>
                <a:cubicBezTo>
                  <a:pt x="1653603" y="1016099"/>
                  <a:pt x="1529143" y="960219"/>
                  <a:pt x="1485116" y="917886"/>
                </a:cubicBezTo>
                <a:cubicBezTo>
                  <a:pt x="1441089" y="875553"/>
                  <a:pt x="1458023" y="869626"/>
                  <a:pt x="1419076" y="790886"/>
                </a:cubicBezTo>
                <a:cubicBezTo>
                  <a:pt x="1380129" y="712146"/>
                  <a:pt x="1335256" y="555513"/>
                  <a:pt x="1251436" y="445446"/>
                </a:cubicBezTo>
                <a:cubicBezTo>
                  <a:pt x="1167616" y="335379"/>
                  <a:pt x="1045696" y="204146"/>
                  <a:pt x="916156" y="130486"/>
                </a:cubicBezTo>
                <a:cubicBezTo>
                  <a:pt x="786616" y="56826"/>
                  <a:pt x="610509" y="18726"/>
                  <a:pt x="474196" y="3486"/>
                </a:cubicBezTo>
                <a:cubicBezTo>
                  <a:pt x="337883" y="-11754"/>
                  <a:pt x="177016" y="27193"/>
                  <a:pt x="98276" y="39046"/>
                </a:cubicBezTo>
                <a:cubicBezTo>
                  <a:pt x="19536" y="50899"/>
                  <a:pt x="-7557" y="5179"/>
                  <a:pt x="1756" y="74606"/>
                </a:cubicBezTo>
                <a:cubicBezTo>
                  <a:pt x="11069" y="144033"/>
                  <a:pt x="65256" y="335379"/>
                  <a:pt x="154156" y="455606"/>
                </a:cubicBezTo>
                <a:cubicBezTo>
                  <a:pt x="243056" y="575833"/>
                  <a:pt x="420856" y="718073"/>
                  <a:pt x="535156" y="795966"/>
                </a:cubicBezTo>
                <a:cubicBezTo>
                  <a:pt x="649456" y="873859"/>
                  <a:pt x="775609" y="895026"/>
                  <a:pt x="839956" y="922966"/>
                </a:cubicBezTo>
                <a:cubicBezTo>
                  <a:pt x="904303" y="950906"/>
                  <a:pt x="905996" y="949213"/>
                  <a:pt x="921236" y="963606"/>
                </a:cubicBezTo>
                <a:cubicBezTo>
                  <a:pt x="936476" y="977999"/>
                  <a:pt x="885676" y="1007633"/>
                  <a:pt x="931396" y="1009326"/>
                </a:cubicBezTo>
                <a:cubicBezTo>
                  <a:pt x="977116" y="1011019"/>
                  <a:pt x="1110043" y="979693"/>
                  <a:pt x="1195556" y="973766"/>
                </a:cubicBezTo>
                <a:cubicBezTo>
                  <a:pt x="1281069" y="967839"/>
                  <a:pt x="1374203" y="959373"/>
                  <a:pt x="1444476" y="973766"/>
                </a:cubicBezTo>
                <a:cubicBezTo>
                  <a:pt x="1514749" y="988159"/>
                  <a:pt x="1580789" y="1040653"/>
                  <a:pt x="1617196" y="1060126"/>
                </a:cubicBezTo>
                <a:cubicBezTo>
                  <a:pt x="1653603" y="1079599"/>
                  <a:pt x="1650216" y="1092299"/>
                  <a:pt x="1662916" y="1090606"/>
                </a:cubicBezTo>
                <a:cubicBezTo>
                  <a:pt x="1675616" y="1088913"/>
                  <a:pt x="1712869" y="1073673"/>
                  <a:pt x="1683236" y="1044886"/>
                </a:cubicBez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f79646"/>
              </a:gs>
            </a:gsLst>
            <a:lin ang="3216000"/>
          </a:gra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00:37:19Z</dcterms:created>
  <dc:creator>http://www.digipot.net</dc:creator>
  <dc:description/>
  <dc:language>en-US</dc:language>
  <cp:lastModifiedBy>http://www.digipot.net</cp:lastModifiedBy>
  <dcterms:modified xsi:type="dcterms:W3CDTF">2012-10-16T07:28:02Z</dcterms:modified>
  <cp:revision>1</cp:revision>
  <dc:subject>PPT192_枯葉ポップ素材</dc:subject>
  <dc:title>PPT192_枯葉ポップ素材</dc:title>
</cp:coreProperties>
</file>